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496800" y="40176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96800" y="952992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hdr"/>
          </p:nvPr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2" descr="unfccc_logos+text"/>
          <p:cNvPicPr/>
          <p:nvPr/>
        </p:nvPicPr>
        <p:blipFill>
          <a:blip r:embed="rId2"/>
          <a:stretch/>
        </p:blipFill>
        <p:spPr>
          <a:xfrm>
            <a:off x="496800" y="9642600"/>
            <a:ext cx="610416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1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"/>
          </p:nvPr>
        </p:nvSpPr>
        <p:spPr>
          <a:xfrm>
            <a:off x="3276720" y="65246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FCCC secretariat,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irstname Lastname, Job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24960" y="47577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itim Hot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 Germany, 24-25 March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27120" y="337608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Arial"/>
              </a:rPr>
              <a:t>Wrap-up sessio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III and IV</a:t>
            </a:r>
            <a:br>
              <a:rPr sz="34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dule 4.3 – Governance of JI</a:t>
            </a:r>
            <a:br>
              <a:rPr sz="3000"/>
            </a:b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Mr. Wolfgang Seidel</a:t>
            </a:r>
            <a:br>
              <a:rPr sz="2200"/>
            </a:br>
            <a:br>
              <a:rPr sz="30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III and IV, Module 4.3, JI Governanc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045800"/>
            <a:ext cx="82803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56320" indent="0">
              <a:lnSpc>
                <a:spcPts val="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Main issues discu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320" indent="0">
              <a:lnSpc>
                <a:spcPts val="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3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ts val="2398"/>
              </a:lnSpc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MP 7 requested the JISC to draft revised set of key attributes and transitional measures dealing with possible changes to JI guidelines. CMP will consider this draft at CMP8 with a view to develop revised JI guidelines for adoption at CMP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urrent JISC roles and JISC recommendations on adjusting the role, membership and composition of the proposed new JI regulatory bod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ternal challenges for JI (Demand, Potential Host Countries, Scope, Competition with other mechanisms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nal challenges for JI (project cycle, governance, “moving beyond offsetting”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allenges for DFPs (Baseline choice, Additionality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lignment of Accreditation Procedures between the mechanis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ynergies and interaction between the mechanisms have to be reflected in the proposed new governance structure for J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6320" indent="0">
              <a:lnSpc>
                <a:spcPct val="110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6320" indent="0">
              <a:lnSpc>
                <a:spcPct val="110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6320" indent="0">
              <a:lnSpc>
                <a:spcPct val="110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6320" indent="0">
              <a:lnSpc>
                <a:spcPct val="110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6320" indent="0">
              <a:lnSpc>
                <a:spcPct val="110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6320" indent="0">
              <a:lnSpc>
                <a:spcPct val="110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632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35040" y="98100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Action points /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Governance structure needs to follow the requirements of a revised JI – need to define characteristics of the mechanism fir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International guidance and oversight of a new governing body under the autority of the CMP – functions need to be changed compared to current st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is important to clarify as soon as possible how and when post-2012 emission reductions will be accounted for the CP2 and be credit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III and IV, Module 4.3, JI Governanc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7:29:01Z</dcterms:created>
  <dc:creator>lenz</dc:creator>
  <dc:description/>
  <dc:language>en-US</dc:language>
  <cp:lastModifiedBy>UNFCCC</cp:lastModifiedBy>
  <cp:lastPrinted>2004-03-02T21:24:15Z</cp:lastPrinted>
  <dcterms:modified xsi:type="dcterms:W3CDTF">2012-03-25T11:34:08Z</dcterms:modified>
  <cp:revision>42</cp:revision>
  <dc:subject/>
  <dc:title>7th Joint Coordination Workshop</dc:title>
</cp:coreProperties>
</file>