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39960" y="748800"/>
            <a:ext cx="49989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Pro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98C-9523-4B02-9C78-443678AD5C5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A13A-64BA-4666-B071-13A6C7F8A13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26F-7617-417A-ACA9-45003D10B40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ED2E-53BB-4386-B3A8-47DC08B1B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Been in existence for 15 year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Responsible for first getting CCS into IPCC SAR as a mitigation op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Major on CCS but is only one of the optio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5E2E-C72B-45D0-BFF8-C7B22F9DACE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F9E-B8E0-48C8-8357-DE87C8FF805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6AB-A372-48C8-84B1-DF127C71263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E266-1D67-4F38-BD70-039A61C094D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2F5-6FBF-450F-88AC-6CE49D7712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01D-5BFD-435D-A131-A9415E644F5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9960" y="749160"/>
            <a:ext cx="4998960" cy="3751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4A5-E21A-4D3F-B8A3-3FD0235C626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1076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944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208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1076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944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0"/>
            <a:ext cx="758664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1076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944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6208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1076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944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4555-A92C-4022-9D1C-9E33895BE1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CF2E-4740-4115-A943-E3B0446529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3E05-1BE2-46AF-A884-ABF9331DC1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DE07-D809-47A8-AA2D-1B4A7E1791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4E77-5278-4371-BB4C-847997C18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0"/>
            <a:ext cx="758664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7588-B10F-43EF-8CF7-CDE687766A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A872-0565-4F3D-ABC3-9AD81679CD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B122-7107-4312-AD83-89A2B4D23A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B1B9-CFE5-406F-A43D-DFBE290644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4D38-D321-469E-B03B-422726A0A7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BF8A-24EA-4715-8A4B-3BB07FB73D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1076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5944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208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1076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5944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4BBA-D2E3-4E3B-929D-EEC39B632A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C58C-F36E-4092-802E-7B4050537A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A438-5A78-4BE5-B3A2-2445E361BB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9C15-25FF-4296-BE98-E9AF66C6B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5AD5-BB02-40E4-819B-41DFCE66DB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7E3E-9B68-4275-9444-447CBA732F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920" y="0"/>
            <a:ext cx="758664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68F2-9D0A-4469-A352-661949B186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413A-C482-4CD1-97E4-F69AF3831B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41B1-569A-48EA-B607-5500978AB2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DB30-E63A-4C56-A15A-3BE026D48C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F40A-08EC-443E-A1A5-4F2259AC90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2EFE-25C1-494B-A97A-F5828A1470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1076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5944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6208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1076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5944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C8D1-3AFA-45D4-90C3-6677EF65A0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544-71B3-4540-8D76-D2ABFA2CA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949-A362-4930-81A2-E65361D9F1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474-EB6B-4BB6-B6E9-84014F05A3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215-984A-4800-874D-FFF49B828C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2EA-223C-4F60-833B-85EDB9102E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50920" y="0"/>
            <a:ext cx="758664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B1B-7AE1-4E83-AB01-9B3EB492E6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17A-60B0-4E7D-A97F-C834C0B193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4E5-B1E6-45B3-B7CA-3806C69DD5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9CA-28B6-4A49-ACC5-6A3AC51D15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7DA-7960-413F-BD6F-002E1A98BA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E9E-0CE8-4F0E-AF1F-62996DE55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920" y="0"/>
            <a:ext cx="758664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1076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59440" y="14842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6208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1076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59440" y="3908880"/>
            <a:ext cx="2712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AC4-2D37-498E-9D7F-53D330DEF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9200" y="39088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208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200" y="1484280"/>
            <a:ext cx="41112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2080" y="3908880"/>
            <a:ext cx="84247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9acd"/>
              </a:buClr>
              <a:buFont typeface="Myriad Pro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9acd"/>
              </a:buClr>
              <a:buFont typeface="Myriad Pro"/>
              <a:buChar char="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9a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" name="Picture 5" descr="GLOBE 2"/>
          <p:cNvPicPr/>
          <p:nvPr/>
        </p:nvPicPr>
        <p:blipFill>
          <a:blip r:embed="rId2"/>
          <a:stretch/>
        </p:blipFill>
        <p:spPr>
          <a:xfrm>
            <a:off x="7850160" y="44280"/>
            <a:ext cx="1258920" cy="1195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Swoop shallow.jpg"/>
          <p:cNvPicPr/>
          <p:nvPr/>
        </p:nvPicPr>
        <p:blipFill>
          <a:blip r:embed="rId3"/>
          <a:stretch/>
        </p:blipFill>
        <p:spPr>
          <a:xfrm>
            <a:off x="0" y="591984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705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799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799"/>
              </a:spcBef>
              <a:buClr>
                <a:srgbClr val="009acd"/>
              </a:buClr>
              <a:buFont typeface="Myriad Pro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799"/>
              </a:spcBef>
              <a:buClr>
                <a:srgbClr val="009acd"/>
              </a:buClr>
              <a:buFont typeface="Myriad Pro"/>
              <a:buChar char="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799"/>
              </a:spcBef>
              <a:buClr>
                <a:srgbClr val="009a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42" name="Picture 5" descr="GLOBE 3"/>
          <p:cNvPicPr/>
          <p:nvPr/>
        </p:nvPicPr>
        <p:blipFill>
          <a:blip r:embed="rId2"/>
          <a:stretch/>
        </p:blipFill>
        <p:spPr>
          <a:xfrm>
            <a:off x="7846920" y="34920"/>
            <a:ext cx="1297080" cy="1203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woop shallow.jpg"/>
          <p:cNvPicPr/>
          <p:nvPr/>
        </p:nvPicPr>
        <p:blipFill>
          <a:blip r:embed="rId3"/>
          <a:stretch/>
        </p:blipFill>
        <p:spPr>
          <a:xfrm>
            <a:off x="0" y="591984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FE8-9FB9-47EC-84D5-706AFDB5717B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3"/>
          <p:cNvSpPr>
            <a:spLocks noGrp="1"/>
          </p:cNvSpPr>
          <p:nvPr>
            <p:ph type="sldNum" idx="2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3A4-9CA0-4308-B044-41D2F9D7004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1152360"/>
            <a:ext cx="133200" cy="458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007560" y="1168560"/>
            <a:ext cx="136440" cy="45655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66760"/>
            <a:ext cx="786924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4b93d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35040" y="1125360"/>
            <a:ext cx="7867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35712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26964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70000" indent="-26820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38200" indent="-266760">
              <a:lnSpc>
                <a:spcPts val="2398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sldNum" idx="3"/>
          </p:nvPr>
        </p:nvSpPr>
        <p:spPr>
          <a:xfrm>
            <a:off x="64432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CB7-71CF-4EC2-8B9D-FE624D55106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Intro Slide VL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Implementing Decision 10/CMP.7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CCS in the CDM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61800" y="3429000"/>
            <a:ext cx="678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Myriad Pro"/>
              </a:rPr>
              <a:t>Tim Dixon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Myriad Pro"/>
              </a:rPr>
              <a:t>IEA Greenhouse Gas R &amp; D Programme</a:t>
            </a:r>
            <a:endParaRPr b="0" lang="en-US" sz="2800" spc="-1" strike="noStrike">
              <a:solidFill>
                <a:srgbClr val="000000"/>
              </a:solidFill>
              <a:latin typeface="Myriad Pro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yriad Pro"/>
              </a:rPr>
              <a:t>UNFCCC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Myriad Pro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Myriad Pro"/>
              </a:rPr>
              <a:t> SDM Workshop 25 March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-30240" y="0"/>
            <a:ext cx="9174240" cy="6858000"/>
            <a:chOff x="-30240" y="0"/>
            <a:chExt cx="9174240" cy="6858000"/>
          </a:xfrm>
        </p:grpSpPr>
        <p:pic>
          <p:nvPicPr>
            <p:cNvPr id="239" name="Picture 3" descr="swoop"/>
            <p:cNvPicPr/>
            <p:nvPr/>
          </p:nvPicPr>
          <p:blipFill>
            <a:blip r:embed="rId1"/>
            <a:stretch/>
          </p:blipFill>
          <p:spPr>
            <a:xfrm>
              <a:off x="-30240" y="4130640"/>
              <a:ext cx="9174240" cy="27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LOGO NO TEXT SURROUN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65560" cy="11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404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Thank you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7720" y="407520"/>
            <a:ext cx="82803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IEA Greenhouse Gas R&amp;D Programme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593360"/>
            <a:ext cx="889308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bdcd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A collaborative international research programme founded in 1991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-315360">
              <a:spcBef>
                <a:spcPts val="499"/>
              </a:spcBef>
              <a:buClr>
                <a:srgbClr val="bdcd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Aim:</a:t>
            </a:r>
            <a:r>
              <a:rPr b="0" lang="en-GB" sz="2000" spc="-1" strike="noStrike">
                <a:solidFill>
                  <a:srgbClr val="00b050"/>
                </a:solidFill>
                <a:latin typeface="Myriad Pro"/>
              </a:rPr>
              <a:t> To provide information on the role that technology can play in reducing greenhouse gas emissions from use of fossil fuels</a:t>
            </a:r>
            <a:r>
              <a:rPr b="0" lang="en-GB" sz="2000" spc="-1" strike="noStrike">
                <a:solidFill>
                  <a:srgbClr val="28b97e"/>
                </a:solidFill>
                <a:latin typeface="Myriad Pr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-315360">
              <a:spcBef>
                <a:spcPts val="499"/>
              </a:spcBef>
              <a:buClr>
                <a:srgbClr val="bdcd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Focus is on Carbon Dioxide Capture and Storage (CCS)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-315360">
              <a:spcBef>
                <a:spcPts val="499"/>
              </a:spcBef>
              <a:buClr>
                <a:srgbClr val="bdcd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Producing information that is: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83280" indent="-262800">
              <a:spcBef>
                <a:spcPts val="499"/>
              </a:spcBef>
              <a:buClr>
                <a:srgbClr val="009acd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Objective, trustworthy, independent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83280" indent="-262800">
              <a:spcBef>
                <a:spcPts val="499"/>
              </a:spcBef>
              <a:buClr>
                <a:srgbClr val="009acd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Policy relevant but NOT policy prescriptive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83280" indent="-262800">
              <a:spcBef>
                <a:spcPts val="499"/>
              </a:spcBef>
              <a:buClr>
                <a:srgbClr val="009acd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Reviewed by external Expert Reviewers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-315360">
              <a:spcBef>
                <a:spcPts val="499"/>
              </a:spcBef>
              <a:buClr>
                <a:srgbClr val="bdcd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Activities: Studies and reports (&gt;250); International Research Networks : Wells, Risk, Monitoring, Modelling, Oxy, Capture, Social Research, Solid Looping; Communications (GHGT conferences, IJGGC, etc); facilitating and focussing R&amp;D and demonstration activities eg Weyburn; Summer School; peer reviews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25" name="Picture 2" descr="G:\Executive Committee\IEAGHG Members\Members Slide\Members Flags Dec11.jpg"/>
          <p:cNvPicPr/>
          <p:nvPr/>
        </p:nvPicPr>
        <p:blipFill>
          <a:blip r:embed="rId1"/>
          <a:stretch/>
        </p:blipFill>
        <p:spPr>
          <a:xfrm>
            <a:off x="0" y="-17640"/>
            <a:ext cx="91202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10/CMP.7 Implementation Requirements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2080" y="164160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B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25800" indent="-325800">
              <a:spcBef>
                <a:spcPts val="601"/>
              </a:spcBef>
              <a:buClr>
                <a:srgbClr val="009acd"/>
              </a:buClr>
              <a:buFont typeface="Myria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nable submission of methodologies and PDD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05600" indent="-2714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Review CDM documents (Standards, Procedures, Guidelines, Forms) for changes to include requirements of CCS M&amp;P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05600" indent="-2714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nact changes if required and issue revised documents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DOE, DNA, EB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25800" indent="-325800">
              <a:spcBef>
                <a:spcPts val="601"/>
              </a:spcBef>
              <a:buClr>
                <a:srgbClr val="009acd"/>
              </a:buClr>
              <a:buFont typeface="Myria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nable consideration and processing of such application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05600" indent="-2714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Including DOE, EB and DNA competencies and capabilitie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25800" indent="-32580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Review of Documents....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47680" y="971280"/>
            <a:ext cx="88963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Myriad Pro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291600" indent="-29160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Standards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Project Standard – needs updating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Validation and Verification Standard – needs updating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Baseline and Monitoring Methodology – Project Developer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291600" indent="-29160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Procedures: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291600" indent="-29160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Annex, C.4(h) – DOE criteria - needed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Annex, C.4(b-g). Whether descriptions in 10/CMP.7 are sufficient to guide project developers to provide right information and level of detail for DOEs and DNAs?  Or is further guidance required? 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Site-specific nature of storage – avoid being too prescriptive, eg monitoring very site-specific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499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yriad Pro"/>
              </a:rPr>
              <a:t>Draw upon existing best practice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291600" indent="-29160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Forms – need updating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631440" indent="-2426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Host Country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Ability to meet Participation Requirement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Capacity building required? Or self-development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Ability for DNA to confirm Validation requirement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Existing Best Practice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Best Practice Guidelines, including: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USA NETL: Site Selection and Characterisation; Risk analysis; MVA; etc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DNV: CO2QUALSTORE, CO2PIPETRANS; CO2WELLS, etc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IEA: Model Legal Framework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IEAGHG technical reports, eg on site selecti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29040" indent="-32904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yriad Pro"/>
              </a:rPr>
              <a:t>Project-level permit and regulation decisions,  </a:t>
            </a: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NRCan on QUEST project (2012)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C on ROAD project (2012)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Myriad Pro"/>
              </a:rPr>
              <a:t>EB CCS Working Group</a:t>
            </a: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stablishment of CCS Working Group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Expertise required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CCS technical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CCS regulatory/permit decision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009acd"/>
              </a:buClr>
              <a:buSzPct val="150000"/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yriad Pro"/>
              </a:rPr>
              <a:t>CDM methodolog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601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5866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62080" y="1484280"/>
            <a:ext cx="8424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yriad Pro"/>
              </a:rPr>
              <a:t>Encourage all reviews and decisions on applications should be in relation to current best practice 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799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spcBef>
                <a:spcPts val="799"/>
              </a:spcBef>
              <a:buClr>
                <a:srgbClr val="009acd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Myriad Pro"/>
              </a:rPr>
              <a:t>Site-specific nature of storage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37:07Z</dcterms:created>
  <dc:creator>Andrea Lacey</dc:creator>
  <dc:description/>
  <dc:language>en-US</dc:language>
  <cp:lastModifiedBy>Correia</cp:lastModifiedBy>
  <dcterms:modified xsi:type="dcterms:W3CDTF">2012-03-24T09:19:18Z</dcterms:modified>
  <cp:revision>263</cp:revision>
  <dc:subject/>
  <dc:title>Slide 1</dc:title>
</cp:coreProperties>
</file>