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D544-6FED-4E94-A22E-F7800E887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84C4-01F5-4867-8BA1-48A991083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4169-5E12-495E-B973-4A1DF37ED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1FBA-B40E-4B3D-8DC8-1A65AE280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250F-BB4D-4A3B-9E1C-49EE72744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CF32C-498D-4A11-87BD-8047E92D6E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2C845-6848-429D-96DD-46334AFEE2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A37B3-22F9-457F-8C29-3457CB8D31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D61EA-8305-4F1A-BF97-C7903EB2F3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432EC-E4C4-4930-955C-BA51B979D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11F2-CC89-4E75-9F13-6FFDA1F61C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78FBE-1680-4A3A-814E-6C0A1BFE96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A7714-069C-4573-9EAB-291A90E858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3388-75D1-4EB0-9C85-D49F8D81FB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B562C-9934-4C2B-BC1D-E26EC7751C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75F1A-8F58-4F88-825B-CB44C87AD4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000D3-4D81-4818-9AC9-15A510635C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3D919-EE2E-4A49-B67D-2CA9D5E7A4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81B6-30E4-49BA-986D-9FFA66559C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6FAA-8962-4BA9-9D30-E64AF2EA37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6D32-7C9A-4CAF-B1D6-DA8469DB40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814E-2EF6-4804-B02A-C37B1FE85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D8DC-1F24-41E9-8584-794013EEE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0808-A32C-4809-92E2-52F914939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35B8-78A2-4381-A14B-8FF80829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3273480" y="648180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276720" y="63453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ha Che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etting Unit, SDM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2E2-7CAC-4804-99A2-B4BDE789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5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6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88184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alidation and verification report templ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700280"/>
            <a:ext cx="6408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465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nn, Germany, 2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March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irstname Lastname, Job Tit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Objective and Scope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921440" cy="51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92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To increase the consistency of DOE reporting pract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The scope includes the development of validation and verification reporting forms along with guidance for completing the forms.</a:t>
            </a:r>
            <a:r>
              <a:rPr b="0" lang="en-US" sz="2200" spc="-1" strike="noStrike">
                <a:solidFill>
                  <a:srgbClr val="1960ab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Based on VVS and AS reporting requir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4487-037A-41FF-9D17-25865F44E5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189000"/>
            <a:ext cx="786924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b93dc"/>
                </a:solidFill>
                <a:latin typeface="Arial"/>
                <a:ea typeface="宋体"/>
              </a:rPr>
              <a:t>Deliverable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5040" y="126180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1960ab"/>
                </a:solidFill>
                <a:uFillTx/>
                <a:latin typeface="Arial"/>
                <a:ea typeface="宋体"/>
              </a:rPr>
              <a:t>Validation forms and guidance (for completing the forms)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validation of projec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validation of post registration chan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validation of renewal of crediting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validation of PoA/CPA (for first-time registr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validation of CPAs (for subsequent CPA inclus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3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1960ab"/>
                </a:solidFill>
                <a:uFillTx/>
                <a:latin typeface="Arial"/>
                <a:ea typeface="宋体"/>
              </a:rPr>
              <a:t>Verification forms and guidance (for completing the forms)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verification of project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60ab"/>
                </a:solidFill>
                <a:latin typeface="Arial"/>
                <a:ea typeface="宋体"/>
              </a:rPr>
              <a:t>PoA verification (will be designed to cover multiple CP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B821-FA93-42A0-A712-7F71424F5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  <a:ea typeface="宋体"/>
              </a:rPr>
              <a:t>Approach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13600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Key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1960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60ab"/>
                </a:solidFill>
                <a:latin typeface="Arial"/>
                <a:ea typeface="宋体"/>
              </a:rPr>
              <a:t>DOEs were invited to share their existing forms / templates and guidance  related  to  validation  and verification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1960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60ab"/>
                </a:solidFill>
                <a:latin typeface="Arial"/>
                <a:ea typeface="宋体"/>
              </a:rPr>
              <a:t>Secretariat reviewed and considered current DOE reporting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1960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60ab"/>
                </a:solidFill>
                <a:latin typeface="Arial"/>
                <a:ea typeface="宋体"/>
              </a:rPr>
              <a:t>Secretariat developed draft table of contents for validation and verification repor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1960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60ab"/>
                </a:solidFill>
                <a:latin typeface="Arial"/>
                <a:ea typeface="宋体"/>
              </a:rPr>
              <a:t>May 2012 - Stakeholder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1960a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60ab"/>
                </a:solidFill>
                <a:latin typeface="Arial"/>
                <a:ea typeface="宋体"/>
              </a:rPr>
              <a:t>EB 69 - Secretariat to present draft validation / verification form guidelines for the Board’s consideration and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60D3-418D-428E-ADE0-A369C0B596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4:40:49Z</dcterms:created>
  <dc:creator>Ritter</dc:creator>
  <dc:description/>
  <dc:language>en-US</dc:language>
  <cp:lastModifiedBy>Marsha Cheddi</cp:lastModifiedBy>
  <cp:lastPrinted>2004-03-02T21:24:15Z</cp:lastPrinted>
  <dcterms:modified xsi:type="dcterms:W3CDTF">2012-03-24T23:02:01Z</dcterms:modified>
  <cp:revision>1022</cp:revision>
  <dc:subject/>
  <dc:title>TITLE HEADER</dc:title>
</cp:coreProperties>
</file>