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</a:t>
            </a:r>
            <a:br>
              <a:rPr sz="30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189000"/>
            <a:ext cx="786924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93dc"/>
                </a:solidFill>
                <a:latin typeface="Arial"/>
              </a:rPr>
              <a:t>Break-out session I. Module 1.4 JI Project Cycle</a:t>
            </a:r>
            <a:endParaRPr b="0" lang="en-US" sz="2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93dc"/>
                </a:solidFill>
                <a:latin typeface="Arial"/>
              </a:rPr>
              <a:t>Main issues discus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Overview of the status of Track 1 and Track 2 JI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Implementation of revised procedures and guidance on the criteria for baseline setting and monitoring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(views from different groups of stakehol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Revision of JI guidelines 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(views from different groups of stakehol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404640"/>
            <a:ext cx="7869240" cy="3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93dc"/>
                </a:solidFill>
                <a:latin typeface="Arial"/>
              </a:rPr>
              <a:t>Break-out session I. Module 1.4 JI Project Cycle</a:t>
            </a:r>
            <a:endParaRPr b="0" lang="en-US" sz="2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5040" y="1047240"/>
            <a:ext cx="786744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46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Clarification is needed on continuation of CP1 JI projects in C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Clarity for JI projects after 2012 until revised JI guidelines are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The need for transitional measures for JI projects under existing rules to revised JI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Revision of JI guideli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49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Link with new market mechanisms / coordination with various domestic offsetting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49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Dispute resolu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499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Unification of AIEs accreditation process with C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+ other practical inputs and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Пользователь Windows</cp:lastModifiedBy>
  <cp:lastPrinted>2004-03-02T21:24:15Z</cp:lastPrinted>
  <dcterms:modified xsi:type="dcterms:W3CDTF">2012-03-24T16:04:00Z</dcterms:modified>
  <cp:revision>11</cp:revision>
  <dc:subject/>
  <dc:title>7th Joint Coordination Workshop</dc:title>
</cp:coreProperties>
</file>