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48FEC-703E-41D8-883B-CD5D15F1D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C7C23-A9B6-413D-AB19-BFC5FAC33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0942A-B95C-413E-9AE8-3B47847B8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1BDDE-5693-4837-8370-CC3B12F34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28B93-7857-4FDE-B8DB-326CDB5E6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A3189-55C5-42CD-9099-7A0FF1B254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47D62-E23C-4AA1-AFCE-50F76D66E8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3B7D3-F740-4B46-ABE2-CD1C06A2F5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10A70-6D61-446E-9DEC-C5F56295AF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39B1E-08DF-4155-AB88-BD861FD00B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9782A-7503-41C2-9986-1A1D3AE1B6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FAA10-FAD0-4E19-B349-D74D35F222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A46C7-3BB7-48AD-92AF-7095891A12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3BDCF-8E1A-4A15-BDC8-B52E63F6B9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3535B-AD37-401D-A2F4-3BB433AC89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D45C0-804F-4FD1-9504-2C3EA62E53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EBDB3-5C7C-453F-97C0-1222894FDC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0F881-6BFC-48BD-B9F4-8F39A00911F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9080-989D-4F37-9D1E-066ABF1D642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2E8C-2D55-498B-B9CB-3FB70B80BC4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5881-9C9B-404C-B5BE-CA2446A6E7B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DA535-FF88-4899-802A-F8098D597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B2DAE-114B-47A0-A7E7-F1306791D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F6DAB-ECD2-4079-AF08-F4E51C2FA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B146-EBED-45B0-8A8F-6A05D2D69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3273480" y="648180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276720" y="63453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sha Ched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Setting Unit, SDM 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FCCC secretari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23364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739800" indent="16200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082520" indent="8892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609C-4A38-4B3F-96F1-B568359A3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5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6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881840" cy="84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ateria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4360" y="1700280"/>
            <a:ext cx="64087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ustainable Development Mechanisms Joint Coordination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e 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4653000"/>
            <a:ext cx="78818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nn, Germany, 2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 March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irstname Lastname, Job Tit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86924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93dc"/>
                </a:solidFill>
                <a:latin typeface="Arial"/>
                <a:ea typeface="宋体"/>
              </a:rPr>
              <a:t>CMP decision in Durban</a:t>
            </a:r>
            <a:endParaRPr b="0" lang="en-US" sz="2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1280" y="836640"/>
            <a:ext cx="7921440" cy="51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928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CMP adopted the application of the concept of materiality and level of assurance in the CD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ts val="23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teriality initially applies to verifications (for DOEs) and assessment of requests for issuance (for the EB and its support struct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ts val="23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CMP defined material information as a piece of information the omission, misstatement or erroneous reporting of which could change a decision by the Bo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ts val="23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CMP defined five materiality thresho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CMP decided that a reasonable level of assurance be used by DOEs in verif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6725C-1467-4227-A6E0-9E23F7EC16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86924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93dc"/>
                </a:solidFill>
                <a:latin typeface="Arial"/>
                <a:ea typeface="宋体"/>
              </a:rPr>
              <a:t>CMP decision in Durban (cont.)</a:t>
            </a:r>
            <a:endParaRPr b="0" lang="en-US" sz="2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136000" cy="51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CMP requested the Boar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46044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Implement the concept of materiality, and report on the experience of implementation at CMP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46044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Increase its interaction with DOEs to facilitate a uniform interpretation and application of the concept of materi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46044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ddress the issue of uncertainties of measurements in baseline and monitoring methodologies so that these types of uncertainties are not considered in addressing materi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46044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Develop guidance on how to apply thresholds and what should be done if they are surpas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9B911-E670-47E7-9EAD-B77C3973D7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86924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93dc"/>
                </a:solidFill>
                <a:latin typeface="Arial"/>
                <a:ea typeface="宋体"/>
              </a:rPr>
              <a:t>Approach</a:t>
            </a:r>
            <a:endParaRPr b="0" lang="en-US" sz="2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1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9280" indent="-44928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mplement the concept of materi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358920">
              <a:lnSpc>
                <a:spcPts val="2398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Arial"/>
                <a:ea typeface="宋体"/>
              </a:rPr>
              <a:t>The VVS will be updated to include the concept of materiality, the thresholds, and level of as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358920">
              <a:lnSpc>
                <a:spcPts val="2398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Arial"/>
                <a:ea typeface="宋体"/>
              </a:rPr>
              <a:t>To support the consistent application of materiality in verifications, guidelines will also be develo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crease its interaction with DOEs to facilitate a uniform interpretation and application of the concept of materi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358920">
              <a:lnSpc>
                <a:spcPts val="2398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Arial"/>
                <a:ea typeface="宋体"/>
              </a:rPr>
              <a:t>SDM Joint Coordination Workshop is the first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358920">
              <a:lnSpc>
                <a:spcPts val="2398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Arial"/>
                <a:ea typeface="宋体"/>
              </a:rPr>
              <a:t>DOEs and AIEs have been invited to provide concrete examples of application of materiality for the development of the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358920">
              <a:lnSpc>
                <a:spcPts val="2398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Arial"/>
                <a:ea typeface="宋体"/>
              </a:rPr>
              <a:t>Other interactions to come (format and timeline to be determi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3E26B-4B76-49B8-8778-046E93BB6A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86924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93dc"/>
                </a:solidFill>
                <a:latin typeface="Arial"/>
                <a:ea typeface="宋体"/>
              </a:rPr>
              <a:t>Approach</a:t>
            </a:r>
            <a:endParaRPr b="0" lang="en-US" sz="2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064360" cy="51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9280" indent="-44928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o address the issue of uncertainties of measurements in baseline and monitoring methodologies so that these types of uncertainties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re no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 considered in addressing materi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3589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Arial"/>
                <a:ea typeface="宋体"/>
              </a:rPr>
              <a:t>Secretariat to amend the PS and VVS to address the issue of uncertainties of measurements, or develop a separate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3589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Arial"/>
                <a:ea typeface="宋体"/>
              </a:rPr>
              <a:t>Materiality guidance to be clear about </a:t>
            </a:r>
            <a:r>
              <a:rPr b="1" lang="en-GB" sz="2000" spc="-1" strike="noStrike" u="sng">
                <a:solidFill>
                  <a:srgbClr val="3333ff"/>
                </a:solidFill>
                <a:uFillTx/>
                <a:latin typeface="Arial"/>
                <a:ea typeface="宋体"/>
              </a:rPr>
              <a:t>not considering</a:t>
            </a:r>
            <a:r>
              <a:rPr b="0" lang="en-GB" sz="2000" spc="-1" strike="noStrike">
                <a:solidFill>
                  <a:srgbClr val="3333ff"/>
                </a:solidFill>
                <a:latin typeface="Arial"/>
                <a:ea typeface="宋体"/>
              </a:rPr>
              <a:t> these types of uncertainties in addressing materi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53EE5-D0A9-43F1-A1A1-1A1226C440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86924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93dc"/>
                </a:solidFill>
                <a:latin typeface="Arial"/>
                <a:ea typeface="宋体"/>
              </a:rPr>
              <a:t>Approach</a:t>
            </a:r>
            <a:endParaRPr b="0" lang="en-US" sz="2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064360" cy="51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9280" indent="-44928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Develop guidance on how to apply materiality thresholds and what should be done if they are sur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270000">
              <a:lnSpc>
                <a:spcPts val="2398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Arial"/>
                <a:ea typeface="宋体"/>
              </a:rPr>
              <a:t>EB 67 - Secretariat to present a concept note that includes a detailed outline for the proposed guideline for the Board’s consi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270000">
              <a:lnSpc>
                <a:spcPts val="2398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Arial"/>
                <a:ea typeface="宋体"/>
              </a:rPr>
              <a:t>EB 68 - Secretariat to present a first draft of the guideline for the Board’s consideration and launch a call for public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270000">
              <a:lnSpc>
                <a:spcPts val="2398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Arial"/>
                <a:ea typeface="宋体"/>
              </a:rPr>
              <a:t>EB 69 - Secretariat to present a final draft for the Board’s consideration and ad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292CE-938E-444F-ACD8-37F1AC376A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4:40:49Z</dcterms:created>
  <dc:creator>Ritter</dc:creator>
  <dc:description/>
  <dc:language>en-US</dc:language>
  <cp:lastModifiedBy>Marsha Cheddi</cp:lastModifiedBy>
  <cp:lastPrinted>2004-03-02T21:24:15Z</cp:lastPrinted>
  <dcterms:modified xsi:type="dcterms:W3CDTF">2012-03-24T09:02:42Z</dcterms:modified>
  <cp:revision>1009</cp:revision>
  <dc:subject/>
  <dc:title>TITLE HEADER</dc:title>
</cp:coreProperties>
</file>