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n initial attempt to explore elements of the CDM that could be used by new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F789-64A7-4BAB-B874-554514452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6FBC-E145-42F7-82DE-2E6733D26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1A11-4BB1-48EB-8619-EC0435B0B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975A-5B38-461A-BF79-DF374F1F4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EF3A-21E4-49F2-BC43-11D465221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60C59-B755-47D1-881E-1359BD9A3F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BA65-93DD-4986-A4F1-7982029688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2C94D-7FD6-4E09-B56C-A9FA0FBB0D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A4F10-8F9E-4370-9C5A-C5642B43C1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DB37-8499-4FE1-8AC4-499D00A1B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1C01-4621-482F-863A-444E97C26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B77BB-90C5-4B9D-B0B2-9165048AE4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C42ED-828E-4066-9368-553F62219D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0A272-5BF2-4AB1-BE72-746607B5DD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E2C45-1529-4587-BEE9-3B1DF034DB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02EA9-A3D8-4578-9F69-99FCCDE326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F6C7A-F46D-4F8F-B736-98214C4EF8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BCFA2-A96B-4244-9304-F80EE8B5B9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E9905-B374-4A40-A08E-1F0AE5A913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DF24F-2B00-4AB9-9C1F-804BDA56E9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6D5B7-08DE-4027-A78E-CDF78A814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BB72-0696-4B89-8766-BD466FF899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11AFB-0B63-436C-8242-A55CB710DF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C7BE7-A621-4282-B955-EA25F6F752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ECDBA-BE11-4198-B086-533E5D999F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C0F74-B6D7-4B7E-AFF6-D0CBBA2E93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D76C5-A6C9-4CD9-A5BD-1160A19AB3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8553B-F0FF-4B08-8CD2-6D39D2099A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7762-15EF-4825-A2A7-1181DC50D2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B0BED-5607-416D-9CF6-93A63B9A72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96DC9-E989-43BD-BB95-DD9E1D6A19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6FC8-A9D6-4FDE-89B6-71354D2AD0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A2F-9A33-4A91-A467-5E5D08B22A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70F78-42EA-445B-9B66-F55C05C8EF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775A9-0D04-41E3-8CA6-1541B78715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76520-27CE-46F3-841B-E2BD442A872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6147B-C6AF-4A4B-AA4D-41DD354CC0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96263-6D7D-4758-BF0F-47A67FD3DC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81734-78D1-41A4-9950-D385F30BAD3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43ABE-F372-4114-AC3F-8AC4BADC5A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66290-57FD-4379-8BAF-32F37D0EB1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C511B-AC95-41A5-89F1-5775F0CD2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DA2F-AFBB-4C48-8889-0A85F780EC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55C0A-CAA7-4334-A92B-823E3EEFED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6B27B-BC00-42B3-8253-4AF16689CE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B0D8E-51C9-4B5A-B26D-07E5ECCB64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E489-9C49-4C61-B817-4B331E8CCB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0170-51A3-4EA2-A9AA-ED6B5E60F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9A27-3861-4F40-8471-76DF5F17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400-CD0A-4FFE-95B0-B1DAB9690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190B-8EAE-4B05-84DB-CF9EFDE05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38D1-8A50-4B75-A3B3-5E8A75F59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9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0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8856720" cy="13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2712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urrent status of the implementation of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uidelines on the consideration of suppressed demand in CDM methodologie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436572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IRST SDM JOINT COORDINATION WORKSHOP,  Maritim Hotel, Bonn, 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4 - 25 March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FCCC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SDM programme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71640" y="189000"/>
            <a:ext cx="633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1125360"/>
            <a:ext cx="87854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ts val="2999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the SD guide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2999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 where SD is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2999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 AMS I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ts val="25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 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E32F-BE41-446E-8AEB-98FF53C1D2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Evolution of suppressed demand guideline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35040" y="1263240"/>
            <a:ext cx="4728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 47 of 3/CMP.1:M &amp; P of CDM cite future emissions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P.5 and CMP.6 request EB a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C WG 27(20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 61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 62, 2011 (guidelines appro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 63 (work program approv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P.7 requests EB t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cceler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ethodolog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ority focus on LDCs, SIDs, African countries and underrepresented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646600" y="1341360"/>
            <a:ext cx="2597400" cy="34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72B6-6D7E-4BB7-A41C-A77A945A75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16000" y="189000"/>
            <a:ext cx="633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Key Features of S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1052640"/>
            <a:ext cx="8534160" cy="44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s that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uture emissions will incre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e to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ome and price effects i.e. 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and for a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ervice increa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baseli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 time due to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rease in inc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ecrease in cost per unit serv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the pro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ble where th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minimum service level (MSL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not m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MSL is that serv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meets basic human needs (e.g. basic housing, basic energy services including lighting, cooking, drinking water supp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methodological approach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a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uppressed dem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tuation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dentification of baseline measure/techn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Baseline service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se to calculate baseline emi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12B9-2D39-4B0C-A1FE-1F35F94E08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89000"/>
            <a:ext cx="89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Safeguards in SD Guide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1197000"/>
            <a:ext cx="518472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al integrity has to be safeguard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viability of the CDM project cannot be the predominant crite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</a:rPr>
              <a:t>Normative decisions have to be clearly referenced and explain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ission intensity and baseline level of service have to be re-evaluated and updated period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329256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2ACE-2301-47B4-98A2-4C6C7448EA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MS-I.L “Electrification of rural communities using renewable energy“ (EB 66)</a:t>
            </a:r>
            <a:br>
              <a:rPr sz="1700"/>
            </a:b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41050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S-I.L joins AMS I.A and AMS III.A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 Electrification of households  &amp; SMEs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ac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 emission factors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</a:rPr>
              <a:t>Tranche 1: [Np &lt; 55 kWh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.8 kg CO2/kW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ranche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55&lt; Nz &lt;250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.3 kg CO2/kW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che 3: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Nw&gt; 250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 kg CO2/kWh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88000" y="3933720"/>
            <a:ext cx="3744720" cy="2087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789440" y="3317760"/>
            <a:ext cx="345456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859280" y="907920"/>
            <a:ext cx="3603600" cy="1063800"/>
            <a:chOff x="4859280" y="907920"/>
            <a:chExt cx="3603600" cy="10638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11650" t="18074" r="45609" b="73436"/>
            <a:stretch/>
          </p:blipFill>
          <p:spPr>
            <a:xfrm>
              <a:off x="4859280" y="907920"/>
              <a:ext cx="360360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 txBox="1"/>
            <p:nvPr/>
          </p:nvSpPr>
          <p:spPr>
            <a:xfrm>
              <a:off x="4859280" y="907920"/>
              <a:ext cx="3603600" cy="10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270000" indent="-270000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859280" y="2133720"/>
            <a:ext cx="3816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UN-backed emissions reduction scheme helps poorer  nations use clean energy          – (6 March 20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F6D0-3B22-45E7-B38F-D0D9EE59D2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AMS-I.L Rationale for default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46083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ff"/>
                </a:solidFill>
                <a:latin typeface="Arial"/>
              </a:rPr>
              <a:t>kWh/household: 4 global and 14 regional source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referen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1640" indent="-2962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EA World Energy Outlook,UNDP, UNIDO, World Bank reports, national/regional case stud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</a:rPr>
              <a:t>250 kWh/household/ye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1640" indent="-2962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</a:rPr>
              <a:t>55 kW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250 kWh is </a:t>
            </a:r>
            <a:r>
              <a:rPr b="0" lang="en-GB" sz="1800" spc="-1" strike="noStrike">
                <a:solidFill>
                  <a:srgbClr val="3366ff"/>
                </a:solidFill>
                <a:latin typeface="Arial"/>
              </a:rPr>
              <a:t>ligh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000" indent="-2235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 technology- Kerosene lamp (146 L/Yr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 kg CO2/kW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</a:rPr>
              <a:t>195 kW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250 kWh is for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</a:rPr>
              <a:t>household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7000" indent="-2235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 technology- diesel generator, 50% load facto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kg CO2/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</a:rPr>
              <a:t>&gt; 250 kW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other users (SMEs, agricultural water pum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7000" indent="-2235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 technology- DG,100% load factor, 1.0 kg CO2/kW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644720" y="1263240"/>
            <a:ext cx="3857400" cy="43275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433840" y="1413000"/>
            <a:ext cx="3241800" cy="379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65F7-4B39-43A9-8FF6-18E8246A1A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MORE TO COME…….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577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fication by gri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AMS III 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AMS I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AMS III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the S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Your inputs are critical to make it happ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644720" y="1263240"/>
            <a:ext cx="3857400" cy="4327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297400" y="1365120"/>
            <a:ext cx="29178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0786-A574-4073-A56D-3FFDFCEE66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070080" y="1989000"/>
            <a:ext cx="2711520" cy="312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A889-58BF-4C31-9BAE-1416FB532A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27:45Z</dcterms:created>
  <dc:creator>malnaric</dc:creator>
  <dc:description/>
  <dc:language>en-US</dc:language>
  <cp:lastModifiedBy>hegde</cp:lastModifiedBy>
  <cp:lastPrinted>2004-03-02T21:24:15Z</cp:lastPrinted>
  <dcterms:modified xsi:type="dcterms:W3CDTF">2012-03-21T15:24:06Z</dcterms:modified>
  <cp:revision>147</cp:revision>
  <dc:subject/>
  <dc:title>TITLE HEADER</dc:title>
</cp:coreProperties>
</file>