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A78DC-D3FE-4804-A89D-91BD6F2481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35040" y="1125360"/>
            <a:ext cx="78674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35040" y="3569760"/>
            <a:ext cx="78674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1A90D-93B6-4DE8-AE89-B8D3156281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35040" y="1125360"/>
            <a:ext cx="38390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6320" y="1125360"/>
            <a:ext cx="38390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35040" y="3569760"/>
            <a:ext cx="38390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6320" y="3569760"/>
            <a:ext cx="38390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CBCE2-828C-4187-8E4D-DE2DB4BE07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35040" y="1125360"/>
            <a:ext cx="253296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95080" y="1125360"/>
            <a:ext cx="253296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125360"/>
            <a:ext cx="253296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35040" y="3569760"/>
            <a:ext cx="253296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95080" y="3569760"/>
            <a:ext cx="253296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569760"/>
            <a:ext cx="253296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6AEB0-DF14-49AC-9089-B334BB6407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03B682-4E0F-4DDB-9354-EC29FEA0A94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35040" y="1125360"/>
            <a:ext cx="786744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2D8500-D1F2-464E-875F-40D4BBDAC2F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35040" y="1125360"/>
            <a:ext cx="786744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B1466F-320C-44A7-AB61-129911F5DED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35040" y="1125360"/>
            <a:ext cx="383904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6320" y="1125360"/>
            <a:ext cx="383904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5B3FFF-7120-41FB-BBAA-C39255730E1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D76CB0-EF46-419E-9D77-1C0EE28AA5D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34680" y="266760"/>
            <a:ext cx="7869240" cy="231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8DE4B5-F71D-4AFD-9043-884C4E6228C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35040" y="1125360"/>
            <a:ext cx="38390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6320" y="1125360"/>
            <a:ext cx="383904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35040" y="3569760"/>
            <a:ext cx="38390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0324F7-616B-4975-AE1D-DF863049E23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35040" y="1125360"/>
            <a:ext cx="786744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82E9D-88F1-4D3F-8CC3-798FF07D3A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35040" y="1125360"/>
            <a:ext cx="383904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6320" y="1125360"/>
            <a:ext cx="38390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6320" y="3569760"/>
            <a:ext cx="38390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6A6792-EBF9-436E-9404-9B617DE557D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35040" y="1125360"/>
            <a:ext cx="38390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6320" y="1125360"/>
            <a:ext cx="38390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35040" y="3569760"/>
            <a:ext cx="78674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6DBF64-5A50-493F-8282-8F15AF8D1CB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35040" y="1125360"/>
            <a:ext cx="78674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35040" y="3569760"/>
            <a:ext cx="78674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B94257-85E3-4181-8DAB-8B52B539902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35040" y="1125360"/>
            <a:ext cx="38390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6320" y="1125360"/>
            <a:ext cx="38390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35040" y="3569760"/>
            <a:ext cx="38390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6320" y="3569760"/>
            <a:ext cx="38390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527AE4-6FD4-4FAB-9F0E-7AA1E3DB1BB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35040" y="1125360"/>
            <a:ext cx="253296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95080" y="1125360"/>
            <a:ext cx="253296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55120" y="1125360"/>
            <a:ext cx="253296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35040" y="3569760"/>
            <a:ext cx="253296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95080" y="3569760"/>
            <a:ext cx="253296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55120" y="3569760"/>
            <a:ext cx="253296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2BDDC8-7AE1-48CF-B0FF-E9194304BF8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635040" y="1125360"/>
            <a:ext cx="786744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35040" y="1125360"/>
            <a:ext cx="786744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35040" y="1125360"/>
            <a:ext cx="383904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6320" y="1125360"/>
            <a:ext cx="383904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35040" y="1125360"/>
            <a:ext cx="786744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28ECA-E418-455F-807E-3504E751FEB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634680" y="266760"/>
            <a:ext cx="7869240" cy="231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35040" y="1125360"/>
            <a:ext cx="38390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6320" y="1125360"/>
            <a:ext cx="383904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35040" y="3569760"/>
            <a:ext cx="38390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35040" y="1125360"/>
            <a:ext cx="383904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6320" y="1125360"/>
            <a:ext cx="38390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66320" y="3569760"/>
            <a:ext cx="38390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35040" y="1125360"/>
            <a:ext cx="38390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6320" y="1125360"/>
            <a:ext cx="38390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35040" y="3569760"/>
            <a:ext cx="78674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35040" y="1125360"/>
            <a:ext cx="78674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35040" y="3569760"/>
            <a:ext cx="78674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35040" y="1125360"/>
            <a:ext cx="38390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6320" y="1125360"/>
            <a:ext cx="38390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35040" y="3569760"/>
            <a:ext cx="38390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66320" y="3569760"/>
            <a:ext cx="38390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35040" y="1125360"/>
            <a:ext cx="253296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95080" y="1125360"/>
            <a:ext cx="253296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955120" y="1125360"/>
            <a:ext cx="253296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635040" y="3569760"/>
            <a:ext cx="253296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95080" y="3569760"/>
            <a:ext cx="253296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955120" y="3569760"/>
            <a:ext cx="253296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36D6EB-2AA5-4084-AAA3-58F8418B21E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635040" y="1125360"/>
            <a:ext cx="786744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092003-C428-49C6-B450-851061B94B2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35040" y="1125360"/>
            <a:ext cx="786744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752809-7A7A-459E-987B-54861FF1F9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35040" y="1125360"/>
            <a:ext cx="383904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6320" y="1125360"/>
            <a:ext cx="383904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2E5FC-E1FC-47DB-B99F-6685B29D031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35040" y="1125360"/>
            <a:ext cx="383904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6320" y="1125360"/>
            <a:ext cx="383904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EE78E4-AC62-4AC6-942F-AB20194E53B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D40A95-3425-41B6-9062-35B435F89E4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634680" y="266760"/>
            <a:ext cx="7869240" cy="231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49B01C-4A2D-4ED2-8385-329B6D18897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35040" y="1125360"/>
            <a:ext cx="38390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66320" y="1125360"/>
            <a:ext cx="383904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35040" y="3569760"/>
            <a:ext cx="38390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B03C0C-306A-4F6D-B48C-CD64C40B3CE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35040" y="1125360"/>
            <a:ext cx="383904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66320" y="1125360"/>
            <a:ext cx="38390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66320" y="3569760"/>
            <a:ext cx="38390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D01185-AAAF-492C-861C-AAB0FA50917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35040" y="1125360"/>
            <a:ext cx="38390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66320" y="1125360"/>
            <a:ext cx="38390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35040" y="3569760"/>
            <a:ext cx="78674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AE84B8-67E6-40EC-B9E7-1FA54E811DB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35040" y="1125360"/>
            <a:ext cx="78674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635040" y="3569760"/>
            <a:ext cx="78674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F1343E-DA4E-467D-B8FF-4356CE016F0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35040" y="1125360"/>
            <a:ext cx="38390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66320" y="1125360"/>
            <a:ext cx="38390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35040" y="3569760"/>
            <a:ext cx="38390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66320" y="3569760"/>
            <a:ext cx="38390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0BBCC3-EE20-4AD0-89B9-554918D74AF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35040" y="1125360"/>
            <a:ext cx="253296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95080" y="1125360"/>
            <a:ext cx="253296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955120" y="1125360"/>
            <a:ext cx="253296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635040" y="3569760"/>
            <a:ext cx="253296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95080" y="3569760"/>
            <a:ext cx="253296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5955120" y="3569760"/>
            <a:ext cx="253296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C23D0A-F6A8-4D10-BCEF-12160A7FC6D3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034E0-B670-4C62-98DF-5880FDE9B570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635040" y="1125360"/>
            <a:ext cx="786744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35040" y="1125360"/>
            <a:ext cx="786744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35040" y="1125360"/>
            <a:ext cx="383904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66320" y="1125360"/>
            <a:ext cx="383904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634680" y="266760"/>
            <a:ext cx="7869240" cy="231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35040" y="1125360"/>
            <a:ext cx="38390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66320" y="1125360"/>
            <a:ext cx="383904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35040" y="3569760"/>
            <a:ext cx="38390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35040" y="1125360"/>
            <a:ext cx="383904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66320" y="1125360"/>
            <a:ext cx="38390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66320" y="3569760"/>
            <a:ext cx="38390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35040" y="1125360"/>
            <a:ext cx="38390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6320" y="1125360"/>
            <a:ext cx="38390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5040" y="3569760"/>
            <a:ext cx="78674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35040" y="1125360"/>
            <a:ext cx="78674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635040" y="3569760"/>
            <a:ext cx="78674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35040" y="1125360"/>
            <a:ext cx="38390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66320" y="1125360"/>
            <a:ext cx="38390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35040" y="3569760"/>
            <a:ext cx="38390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66320" y="3569760"/>
            <a:ext cx="38390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34680" y="266760"/>
            <a:ext cx="7869240" cy="231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26802-3B60-4E79-9FA3-E1D8A3FCA6D4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35040" y="1125360"/>
            <a:ext cx="253296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95080" y="1125360"/>
            <a:ext cx="253296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5955120" y="1125360"/>
            <a:ext cx="253296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635040" y="3569760"/>
            <a:ext cx="253296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95080" y="3569760"/>
            <a:ext cx="253296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5955120" y="3569760"/>
            <a:ext cx="253296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E01B90-D787-4AAA-BBD5-CED2C5AB57B7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635040" y="1125360"/>
            <a:ext cx="786744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B4E94D-843D-469D-A1D9-0CE14D1F703E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35040" y="1125360"/>
            <a:ext cx="786744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757046-4667-420F-8A60-164EFB0662BA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35040" y="1125360"/>
            <a:ext cx="383904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6320" y="1125360"/>
            <a:ext cx="383904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6CAB77-41DA-4874-8A6B-9AA2697EE5CE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4A411D-A6AA-4CEF-9AA1-04AEBE666FDD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634680" y="266760"/>
            <a:ext cx="7869240" cy="231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079E6A-6121-4AFF-A49E-FE03156FF5F4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35040" y="1125360"/>
            <a:ext cx="38390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66320" y="1125360"/>
            <a:ext cx="383904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35040" y="3569760"/>
            <a:ext cx="38390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D0A445-6E05-4334-B52B-46FCB0BB960A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35040" y="1125360"/>
            <a:ext cx="383904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66320" y="1125360"/>
            <a:ext cx="38390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66320" y="3569760"/>
            <a:ext cx="38390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89D4AF-709E-4202-8092-3656D3A5B119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35040" y="1125360"/>
            <a:ext cx="38390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66320" y="1125360"/>
            <a:ext cx="38390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35040" y="3569760"/>
            <a:ext cx="78674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0D6851-B4EB-4851-B75F-191ACF839D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35040" y="1125360"/>
            <a:ext cx="38390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6320" y="1125360"/>
            <a:ext cx="383904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35040" y="3569760"/>
            <a:ext cx="38390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8F1F0-2BE8-4543-B9AA-6EB2EF8762A4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35040" y="1125360"/>
            <a:ext cx="78674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35040" y="3569760"/>
            <a:ext cx="78674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341113-584C-4AF7-8422-50C0A0843803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35040" y="1125360"/>
            <a:ext cx="38390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66320" y="1125360"/>
            <a:ext cx="38390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35040" y="3569760"/>
            <a:ext cx="38390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66320" y="3569760"/>
            <a:ext cx="38390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9C6DCA-4CA3-4095-A726-11CFEE771F50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35040" y="1125360"/>
            <a:ext cx="253296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95080" y="1125360"/>
            <a:ext cx="253296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5955120" y="1125360"/>
            <a:ext cx="253296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635040" y="3569760"/>
            <a:ext cx="253296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95080" y="3569760"/>
            <a:ext cx="253296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5955120" y="3569760"/>
            <a:ext cx="253296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326FC4-27EF-424A-A4C4-4E00E999F4BA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7FE4C6-95A1-4433-8245-D9E0BAF5E1F2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635040" y="1125360"/>
            <a:ext cx="786744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1776D4-3568-4D96-9A39-96DE3CCD5969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35040" y="1125360"/>
            <a:ext cx="786744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5CDD06-A3D3-4DDD-A6D5-B33A867CB2A1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35040" y="1125360"/>
            <a:ext cx="383904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66320" y="1125360"/>
            <a:ext cx="383904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B6BD57-E1CC-4D53-B039-7F445784CDD4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B2B511-331E-4CD4-A717-36743D986BE0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634680" y="266760"/>
            <a:ext cx="7869240" cy="231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00C670-2D43-434F-A337-510115B65334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35040" y="1125360"/>
            <a:ext cx="38390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66320" y="1125360"/>
            <a:ext cx="383904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35040" y="3569760"/>
            <a:ext cx="38390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E50C8A-B191-4B6F-8963-EC3C324A76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35040" y="1125360"/>
            <a:ext cx="383904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6320" y="1125360"/>
            <a:ext cx="38390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6320" y="3569760"/>
            <a:ext cx="38390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21246-120A-4DA5-8EC6-0D8BFF6B0582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35040" y="1125360"/>
            <a:ext cx="383904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66320" y="1125360"/>
            <a:ext cx="38390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66320" y="3569760"/>
            <a:ext cx="38390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6964C1-21A4-4503-B2AB-3A15732BEC00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35040" y="1125360"/>
            <a:ext cx="38390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66320" y="1125360"/>
            <a:ext cx="38390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35040" y="3569760"/>
            <a:ext cx="78674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8992D2-9D74-4B5E-A4E0-8EFCEB1F82E3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35040" y="1125360"/>
            <a:ext cx="78674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35040" y="3569760"/>
            <a:ext cx="78674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6CD3DC-220C-4521-A09A-F6CD5A11EA7D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35040" y="1125360"/>
            <a:ext cx="38390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6320" y="1125360"/>
            <a:ext cx="38390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35040" y="3569760"/>
            <a:ext cx="38390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66320" y="3569760"/>
            <a:ext cx="38390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3B84D5-29AD-485D-80D6-749865112655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35040" y="1125360"/>
            <a:ext cx="253296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295080" y="1125360"/>
            <a:ext cx="253296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955120" y="1125360"/>
            <a:ext cx="253296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635040" y="3569760"/>
            <a:ext cx="253296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295080" y="3569760"/>
            <a:ext cx="253296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5955120" y="3569760"/>
            <a:ext cx="253296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D4B4A5-666F-469C-A9FE-C48D5C88E5BE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635040" y="1125360"/>
            <a:ext cx="786744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35040" y="1125360"/>
            <a:ext cx="786744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35040" y="1125360"/>
            <a:ext cx="383904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6320" y="1125360"/>
            <a:ext cx="383904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35040" y="1125360"/>
            <a:ext cx="38390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6320" y="1125360"/>
            <a:ext cx="38390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35040" y="3569760"/>
            <a:ext cx="78674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A6196-0696-4BA1-BEFA-3ECB4C373A43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634680" y="266760"/>
            <a:ext cx="7869240" cy="231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35040" y="1125360"/>
            <a:ext cx="38390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6320" y="1125360"/>
            <a:ext cx="383904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35040" y="3569760"/>
            <a:ext cx="38390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35040" y="1125360"/>
            <a:ext cx="383904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6320" y="1125360"/>
            <a:ext cx="38390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666320" y="3569760"/>
            <a:ext cx="38390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35040" y="1125360"/>
            <a:ext cx="38390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66320" y="1125360"/>
            <a:ext cx="38390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35040" y="3569760"/>
            <a:ext cx="78674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35040" y="1125360"/>
            <a:ext cx="78674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635040" y="3569760"/>
            <a:ext cx="78674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35040" y="1125360"/>
            <a:ext cx="38390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6320" y="1125360"/>
            <a:ext cx="38390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35040" y="3569760"/>
            <a:ext cx="38390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666320" y="3569760"/>
            <a:ext cx="38390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35040" y="1125360"/>
            <a:ext cx="253296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295080" y="1125360"/>
            <a:ext cx="253296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5955120" y="1125360"/>
            <a:ext cx="253296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635040" y="3569760"/>
            <a:ext cx="253296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/>
          </p:nvPr>
        </p:nvSpPr>
        <p:spPr>
          <a:xfrm>
            <a:off x="3295080" y="3569760"/>
            <a:ext cx="253296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7"/>
          <p:cNvSpPr>
            <a:spLocks noGrp="1"/>
          </p:cNvSpPr>
          <p:nvPr>
            <p:ph/>
          </p:nvPr>
        </p:nvSpPr>
        <p:spPr>
          <a:xfrm>
            <a:off x="5955120" y="3569760"/>
            <a:ext cx="253296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6"/>
          <p:cNvSpPr/>
          <p:nvPr/>
        </p:nvSpPr>
        <p:spPr>
          <a:xfrm>
            <a:off x="0" y="1263600"/>
            <a:ext cx="136440" cy="432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Rectangle 27"/>
          <p:cNvSpPr/>
          <p:nvPr/>
        </p:nvSpPr>
        <p:spPr>
          <a:xfrm>
            <a:off x="9007560" y="1263600"/>
            <a:ext cx="136440" cy="4326120"/>
          </a:xfrm>
          <a:prstGeom prst="rect">
            <a:avLst/>
          </a:prstGeom>
          <a:solidFill>
            <a:srgbClr val="4b9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93dc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57120">
              <a:lnSpc>
                <a:spcPts val="2398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26964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1170000" indent="-2682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33"/>
          <p:cNvSpPr/>
          <p:nvPr/>
        </p:nvSpPr>
        <p:spPr>
          <a:xfrm>
            <a:off x="631800" y="77796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Line 34"/>
          <p:cNvSpPr/>
          <p:nvPr/>
        </p:nvSpPr>
        <p:spPr>
          <a:xfrm>
            <a:off x="631800" y="607860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" name="Picture 47" descr="unfccc_logos_big"/>
          <p:cNvPicPr/>
          <p:nvPr/>
        </p:nvPicPr>
        <p:blipFill>
          <a:blip r:embed="rId2"/>
          <a:stretch/>
        </p:blipFill>
        <p:spPr>
          <a:xfrm>
            <a:off x="639720" y="6261120"/>
            <a:ext cx="1354320" cy="43020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644328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B06C8-BAD3-4A25-B8D2-8BABFFD2F9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0" y="1152360"/>
            <a:ext cx="133200" cy="458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9007560" y="1168560"/>
            <a:ext cx="136440" cy="4565520"/>
          </a:xfrm>
          <a:prstGeom prst="rect">
            <a:avLst/>
          </a:prstGeom>
          <a:solidFill>
            <a:srgbClr val="4b9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93dc"/>
                </a:solidFill>
                <a:latin typeface="Calibri"/>
              </a:rPr>
              <a:t>Click to edit the title text format</a:t>
            </a: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35040" y="1125360"/>
            <a:ext cx="786744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-270000">
              <a:lnSpc>
                <a:spcPts val="2398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28560" indent="-357120">
              <a:lnSpc>
                <a:spcPts val="2398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00000" indent="-269640">
              <a:lnSpc>
                <a:spcPts val="2398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170000" indent="-268200">
              <a:lnSpc>
                <a:spcPts val="2398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438200" indent="-266760">
              <a:lnSpc>
                <a:spcPts val="2398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438200" indent="-266760">
              <a:lnSpc>
                <a:spcPts val="2398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438200" indent="-266760">
              <a:lnSpc>
                <a:spcPts val="2398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Line 7"/>
          <p:cNvSpPr/>
          <p:nvPr/>
        </p:nvSpPr>
        <p:spPr>
          <a:xfrm>
            <a:off x="631800" y="77796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Line 8"/>
          <p:cNvSpPr/>
          <p:nvPr/>
        </p:nvSpPr>
        <p:spPr>
          <a:xfrm>
            <a:off x="631800" y="607860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2"/>
          </p:nvPr>
        </p:nvSpPr>
        <p:spPr>
          <a:xfrm>
            <a:off x="644328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F0254-8723-4B3D-9567-2F966152E1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rcRect l="0" t="0" r="86366" b="44250"/>
          <a:stretch/>
        </p:blipFill>
        <p:spPr>
          <a:xfrm>
            <a:off x="619200" y="6105600"/>
            <a:ext cx="649080" cy="649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34"/>
          <p:cNvSpPr/>
          <p:nvPr/>
        </p:nvSpPr>
        <p:spPr>
          <a:xfrm>
            <a:off x="0" y="1265400"/>
            <a:ext cx="9144000" cy="4325760"/>
          </a:xfrm>
          <a:prstGeom prst="rect">
            <a:avLst/>
          </a:prstGeom>
          <a:solidFill>
            <a:srgbClr val="4b9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Line 38"/>
          <p:cNvSpPr/>
          <p:nvPr/>
        </p:nvSpPr>
        <p:spPr>
          <a:xfrm>
            <a:off x="631800" y="77796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Line 39"/>
          <p:cNvSpPr/>
          <p:nvPr/>
        </p:nvSpPr>
        <p:spPr>
          <a:xfrm>
            <a:off x="631800" y="607860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40" descr="unfccc_schriftzug_big"/>
          <p:cNvPicPr/>
          <p:nvPr/>
        </p:nvPicPr>
        <p:blipFill>
          <a:blip r:embed="rId2"/>
          <a:stretch/>
        </p:blipFill>
        <p:spPr>
          <a:xfrm>
            <a:off x="577800" y="309600"/>
            <a:ext cx="7866000" cy="3142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1" descr="unfccc_logos_big"/>
          <p:cNvPicPr/>
          <p:nvPr/>
        </p:nvPicPr>
        <p:blipFill>
          <a:blip r:embed="rId3"/>
          <a:stretch/>
        </p:blipFill>
        <p:spPr>
          <a:xfrm>
            <a:off x="639720" y="6261120"/>
            <a:ext cx="1354320" cy="4302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93dc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57120">
              <a:lnSpc>
                <a:spcPts val="2398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26964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1170000" indent="-2682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3"/>
          </p:nvPr>
        </p:nvSpPr>
        <p:spPr>
          <a:xfrm>
            <a:off x="2268360" y="6517800"/>
            <a:ext cx="6235920" cy="1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4"/>
          </p:nvPr>
        </p:nvSpPr>
        <p:spPr>
          <a:xfrm>
            <a:off x="2268360" y="6248520"/>
            <a:ext cx="623592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de-DE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1263600"/>
            <a:ext cx="136440" cy="432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/>
          <p:nvPr/>
        </p:nvSpPr>
        <p:spPr>
          <a:xfrm>
            <a:off x="9007560" y="1263600"/>
            <a:ext cx="136440" cy="4326120"/>
          </a:xfrm>
          <a:prstGeom prst="rect">
            <a:avLst/>
          </a:prstGeom>
          <a:solidFill>
            <a:srgbClr val="4b9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93dc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57120">
              <a:lnSpc>
                <a:spcPts val="2398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26964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1170000" indent="-2682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31800" y="77796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/>
          <p:nvPr/>
        </p:nvSpPr>
        <p:spPr>
          <a:xfrm>
            <a:off x="631800" y="607860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639720" y="6261120"/>
            <a:ext cx="1354320" cy="43020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A6D91-8469-4F1F-B3E7-0267A623C5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0" y="1265400"/>
            <a:ext cx="9144000" cy="4325760"/>
          </a:xfrm>
          <a:prstGeom prst="rect">
            <a:avLst/>
          </a:prstGeom>
          <a:solidFill>
            <a:srgbClr val="4b9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27120" y="2204640"/>
            <a:ext cx="7881840" cy="12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dt" idx="6"/>
          </p:nvPr>
        </p:nvSpPr>
        <p:spPr>
          <a:xfrm>
            <a:off x="3273480" y="6505560"/>
            <a:ext cx="523080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ftr" idx="7"/>
          </p:nvPr>
        </p:nvSpPr>
        <p:spPr>
          <a:xfrm>
            <a:off x="3273480" y="6261120"/>
            <a:ext cx="523080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31800" y="77796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/>
          <p:cNvSpPr/>
          <p:nvPr/>
        </p:nvSpPr>
        <p:spPr>
          <a:xfrm>
            <a:off x="631800" y="607860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77800" y="309600"/>
            <a:ext cx="7866000" cy="31428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rcRect l="0" t="0" r="86366" b="44250"/>
          <a:stretch/>
        </p:blipFill>
        <p:spPr>
          <a:xfrm>
            <a:off x="619200" y="6105600"/>
            <a:ext cx="649080" cy="64908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114480" indent="0"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396720" indent="233640" algn="ctr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739800" indent="162000" algn="ctr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082520" indent="88920" algn="ctr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1082520" indent="8892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1082520" indent="8892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0" y="1263600"/>
            <a:ext cx="136440" cy="432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"/>
          <p:cNvSpPr/>
          <p:nvPr/>
        </p:nvSpPr>
        <p:spPr>
          <a:xfrm>
            <a:off x="9007560" y="1263600"/>
            <a:ext cx="136440" cy="4326120"/>
          </a:xfrm>
          <a:prstGeom prst="rect">
            <a:avLst/>
          </a:prstGeom>
          <a:solidFill>
            <a:srgbClr val="4b9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93dc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 algn="ctr">
              <a:lnSpc>
                <a:spcPts val="2900"/>
              </a:lnSpc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 algn="ctr">
              <a:lnSpc>
                <a:spcPts val="29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 algn="ctr">
              <a:lnSpc>
                <a:spcPts val="2900"/>
              </a:lnSpc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 algn="ctr">
              <a:lnSpc>
                <a:spcPts val="2900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 algn="ctr">
              <a:lnSpc>
                <a:spcPts val="2900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 algn="ctr">
              <a:lnSpc>
                <a:spcPts val="2900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31800" y="77796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"/>
          <p:cNvSpPr/>
          <p:nvPr/>
        </p:nvSpPr>
        <p:spPr>
          <a:xfrm>
            <a:off x="631800" y="607860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rcRect l="0" t="0" r="86366" b="44250"/>
          <a:stretch/>
        </p:blipFill>
        <p:spPr>
          <a:xfrm>
            <a:off x="619200" y="6105600"/>
            <a:ext cx="649080" cy="64908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3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E6C4D-BF5F-4C3D-AE1D-D528D0C95F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0" y="1263600"/>
            <a:ext cx="136440" cy="432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"/>
          <p:cNvSpPr/>
          <p:nvPr/>
        </p:nvSpPr>
        <p:spPr>
          <a:xfrm>
            <a:off x="9007560" y="1263600"/>
            <a:ext cx="136440" cy="4326120"/>
          </a:xfrm>
          <a:prstGeom prst="rect">
            <a:avLst/>
          </a:prstGeom>
          <a:solidFill>
            <a:srgbClr val="4b9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93dc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57120">
              <a:lnSpc>
                <a:spcPts val="2398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26964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1170000" indent="-2682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31800" y="77796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"/>
          <p:cNvSpPr/>
          <p:nvPr/>
        </p:nvSpPr>
        <p:spPr>
          <a:xfrm>
            <a:off x="631800" y="607860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2"/>
          <a:srcRect l="0" t="0" r="86366" b="44250"/>
          <a:stretch/>
        </p:blipFill>
        <p:spPr>
          <a:xfrm>
            <a:off x="619200" y="6105600"/>
            <a:ext cx="649080" cy="64908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3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35C3D-FF46-41C9-B60C-1A57AFB96A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0" y="1262160"/>
            <a:ext cx="9144000" cy="4325760"/>
          </a:xfrm>
          <a:prstGeom prst="rect">
            <a:avLst/>
          </a:prstGeom>
          <a:solidFill>
            <a:srgbClr val="4b9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7120" y="2205000"/>
            <a:ext cx="788184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dt" idx="10"/>
          </p:nvPr>
        </p:nvSpPr>
        <p:spPr>
          <a:xfrm>
            <a:off x="3273480" y="6505560"/>
            <a:ext cx="523080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ftr" idx="11"/>
          </p:nvPr>
        </p:nvSpPr>
        <p:spPr>
          <a:xfrm>
            <a:off x="3273480" y="6261120"/>
            <a:ext cx="523080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31800" y="77796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"/>
          <p:cNvSpPr/>
          <p:nvPr/>
        </p:nvSpPr>
        <p:spPr>
          <a:xfrm>
            <a:off x="631800" y="607860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2"/>
          <a:stretch/>
        </p:blipFill>
        <p:spPr>
          <a:xfrm>
            <a:off x="577800" y="309600"/>
            <a:ext cx="7866000" cy="31428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/>
          <p:cNvPicPr/>
          <p:nvPr/>
        </p:nvPicPr>
        <p:blipFill>
          <a:blip r:embed="rId3"/>
          <a:srcRect l="0" t="0" r="86366" b="44250"/>
          <a:stretch/>
        </p:blipFill>
        <p:spPr>
          <a:xfrm>
            <a:off x="619200" y="6105600"/>
            <a:ext cx="649080" cy="649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27120" y="2204640"/>
            <a:ext cx="7881840" cy="12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Overview of PoA Standards</a:t>
            </a:r>
            <a:br>
              <a:rPr sz="3000"/>
            </a:b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50880" y="1413000"/>
            <a:ext cx="788184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624960" y="3922560"/>
            <a:ext cx="7882200" cy="7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SDM JOINT COORDINATION WORKSHOP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Bonn, Germany, 24-25 March 2012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Wenxin Li, Programme Offic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>SDM programme, UNFCCC secretari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b93dc"/>
                </a:solidFill>
                <a:latin typeface="Calibri"/>
                <a:ea typeface="SimSun"/>
              </a:rPr>
              <a:t>Background</a:t>
            </a: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634680" y="1125000"/>
            <a:ext cx="782460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-270000">
              <a:lnSpc>
                <a:spcPts val="2398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(Decision 3/CMP.6 paragraph 4) the Board to reassess its existing regulations related to PoAs to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28560" indent="-357120">
              <a:lnSpc>
                <a:spcPts val="2398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Further clarify the application of existing rules regarding the demonstration of additionality and the definition of eligibility criteria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28560" indent="-357120">
              <a:lnSpc>
                <a:spcPts val="2398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implify the application of multiple methods and technologies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lnSpc>
                <a:spcPts val="2398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lnSpc>
                <a:spcPts val="2398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tandard for demonstration of additionality, development of eligibility criteria and application of multiple methodologies for programme of activities (EB65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SimSun"/>
              </a:rPr>
              <a:t>, Annex 3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lnSpc>
                <a:spcPts val="2398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tandard for sampling and surveys for CDM project activities and programme of activities (EB65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SimSun"/>
              </a:rPr>
              <a:t>, Annex 2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Foliennummernplatzhalter 3"/>
          <p:cNvSpPr/>
          <p:nvPr/>
        </p:nvSpPr>
        <p:spPr>
          <a:xfrm>
            <a:off x="644364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68147-8B68-469C-B0C3-0B20C41F3F5D}" type="slidenum"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b93dc"/>
                </a:solidFill>
                <a:latin typeface="Calibri"/>
                <a:ea typeface="SimSun"/>
              </a:rPr>
              <a:t>Section III.A - Requirements for Additionality</a:t>
            </a: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634680" y="1125000"/>
            <a:ext cx="782460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-270000">
              <a:lnSpc>
                <a:spcPts val="3197"/>
              </a:lnSpc>
              <a:spcBef>
                <a:spcPts val="15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ditionality shall be demonstrated by establishing that in the absence of CDM, none of the implemented CPAs would occu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lnSpc>
                <a:spcPts val="2398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f a large scale methodolog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28560" indent="-357120">
              <a:lnSpc>
                <a:spcPts val="2398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dditionality section of the large scale methodolog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lnSpc>
                <a:spcPts val="2398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f a small scale methodology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SimSun"/>
              </a:rPr>
              <a:t>and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mall scale projec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28560" indent="-357120">
              <a:lnSpc>
                <a:spcPts val="2398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ttachment A of Appendix B of the “Simplified modalities and procedures for small-scale CDM project activities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lnSpc>
                <a:spcPts val="2398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f a small scale methodology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SimSun"/>
              </a:rPr>
              <a:t> and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microscale projec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28560" indent="-357120">
              <a:lnSpc>
                <a:spcPts val="2398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Guidelines for demonstrating additionality of microscale project activities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Foliennummernplatzhalter 3"/>
          <p:cNvSpPr/>
          <p:nvPr/>
        </p:nvSpPr>
        <p:spPr>
          <a:xfrm>
            <a:off x="644364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A876D-DD0E-440D-82BD-EFABBFE0BD41}" type="slidenum"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b93dc"/>
                </a:solidFill>
                <a:latin typeface="Calibri"/>
                <a:ea typeface="SimSun"/>
              </a:rPr>
              <a:t>Section III.B - Requirements for Eligibility Criteria</a:t>
            </a: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634680" y="1125000"/>
            <a:ext cx="782460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marL="259200" indent="-259200">
              <a:lnSpc>
                <a:spcPts val="3197"/>
              </a:lnSpc>
              <a:spcBef>
                <a:spcPts val="15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SimSun"/>
              </a:rPr>
              <a:t>CM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evelop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SimSun"/>
              </a:rPr>
              <a:t>EC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SimSun"/>
              </a:rPr>
              <a:t>m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  <a:ea typeface="SimSun"/>
              </a:rPr>
              <a:t>inimum categories, verifiabl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03360" indent="-342720">
              <a:lnSpc>
                <a:spcPts val="3197"/>
              </a:lnSpc>
              <a:spcBef>
                <a:spcPts val="1250"/>
              </a:spcBef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  <a:ea typeface="SimSun"/>
              </a:rPr>
              <a:t>DOE assess EC (objective and comprehensiv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59200" indent="-259200">
              <a:lnSpc>
                <a:spcPts val="3197"/>
              </a:lnSpc>
              <a:spcBef>
                <a:spcPts val="15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  <a:ea typeface="SimSun"/>
              </a:rPr>
              <a:t>CME implement a mangement syst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03360" indent="-342720">
              <a:lnSpc>
                <a:spcPts val="3197"/>
              </a:lnSpc>
              <a:spcBef>
                <a:spcPts val="1250"/>
              </a:spcBef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  <a:ea typeface="SimSun"/>
              </a:rPr>
              <a:t>DOE assess the ele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59200" indent="-259200">
              <a:lnSpc>
                <a:spcPts val="2398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9200" indent="-259200">
              <a:lnSpc>
                <a:spcPts val="2398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Update of eligibility criter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03360" indent="-342720">
              <a:lnSpc>
                <a:spcPts val="2398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Revision of methodologies after being placed on hol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03360" indent="-342720">
              <a:lnSpc>
                <a:spcPts val="2398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mendment of PoA bounda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03360" indent="-342720">
              <a:lnSpc>
                <a:spcPts val="2398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nitiated by the Boar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03360" indent="-342720">
              <a:lnSpc>
                <a:spcPts val="2398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t the renewal of crediting perio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Foliennummernplatzhalter 3"/>
          <p:cNvSpPr/>
          <p:nvPr/>
        </p:nvSpPr>
        <p:spPr>
          <a:xfrm>
            <a:off x="644364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E1EE8-BEE6-4277-A8B1-798E56096F23}" type="slidenum"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b93dc"/>
                </a:solidFill>
                <a:latin typeface="Calibri"/>
                <a:ea typeface="SimSun"/>
              </a:rPr>
              <a:t>Section III.B - Requirements for Multiple Methodologies</a:t>
            </a: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634680" y="1125000"/>
            <a:ext cx="782460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-270000">
              <a:lnSpc>
                <a:spcPts val="3197"/>
              </a:lnSpc>
              <a:spcBef>
                <a:spcPts val="15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ross effects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refer to the interactive effects between the technology(ies)/measures of a CPA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28560" indent="-357120">
              <a:lnSpc>
                <a:spcPts val="3197"/>
              </a:lnSpc>
              <a:spcBef>
                <a:spcPts val="1250"/>
              </a:spcBef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Demonstrate no cross effects, otherwise, request for deviat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lnSpc>
                <a:spcPts val="3197"/>
              </a:lnSpc>
              <a:spcBef>
                <a:spcPts val="15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One/multiple measures/technologies with one/multiple SSC methodolog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lnSpc>
                <a:spcPts val="3197"/>
              </a:lnSpc>
              <a:spcBef>
                <a:spcPts val="15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Multiple LS methodologies or SSC+LS methodolog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28560" indent="-357120">
              <a:lnSpc>
                <a:spcPts val="3197"/>
              </a:lnSpc>
              <a:spcBef>
                <a:spcPts val="1250"/>
              </a:spcBef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llowed in the methodolog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28560" indent="-357120">
              <a:lnSpc>
                <a:spcPts val="3197"/>
              </a:lnSpc>
              <a:spcBef>
                <a:spcPts val="1250"/>
              </a:spcBef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Request for clarific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lnSpc>
                <a:spcPts val="3197"/>
              </a:lnSpc>
              <a:spcBef>
                <a:spcPts val="15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Foliennummernplatzhalter 3"/>
          <p:cNvSpPr/>
          <p:nvPr/>
        </p:nvSpPr>
        <p:spPr>
          <a:xfrm>
            <a:off x="644364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A429F-C971-4AD4-B4A3-85F9B74CD6D6}" type="slidenum"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b93dc"/>
                </a:solidFill>
                <a:latin typeface="Calibri"/>
                <a:ea typeface="SimSun"/>
              </a:rPr>
              <a:t>Sampling Standard - Requirements for PoAs</a:t>
            </a: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634680" y="1125000"/>
            <a:ext cx="782460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253800" indent="-253800">
              <a:lnSpc>
                <a:spcPts val="3197"/>
              </a:lnSpc>
              <a:spcBef>
                <a:spcPts val="15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ample size calcul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90760" indent="-335520">
              <a:lnSpc>
                <a:spcPts val="3197"/>
              </a:lnSpc>
              <a:spcBef>
                <a:spcPts val="1250"/>
              </a:spcBef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Required Reliability: i.e. Confidence / Precis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90760" indent="-335520">
              <a:lnSpc>
                <a:spcPts val="3197"/>
              </a:lnSpc>
              <a:spcBef>
                <a:spcPts val="1250"/>
              </a:spcBef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he type of parameter of interest: proportion or mean valu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90760" indent="-335520">
              <a:lnSpc>
                <a:spcPts val="3197"/>
              </a:lnSpc>
              <a:spcBef>
                <a:spcPts val="1250"/>
              </a:spcBef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he expected value and variance (or standard deviation) of the paramete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53800" indent="-253800">
              <a:lnSpc>
                <a:spcPts val="3197"/>
              </a:lnSpc>
              <a:spcBef>
                <a:spcPts val="15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o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90760" indent="-335520">
              <a:lnSpc>
                <a:spcPts val="3197"/>
              </a:lnSpc>
              <a:spcBef>
                <a:spcPts val="1250"/>
              </a:spcBef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llows a single sampling plan covering a group of SSC CP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90760" indent="-335520">
              <a:lnSpc>
                <a:spcPts val="3197"/>
              </a:lnSpc>
              <a:spcBef>
                <a:spcPts val="1250"/>
              </a:spcBef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More rigorous confidence/precision (i.e. 95/10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53800" indent="-253800">
              <a:lnSpc>
                <a:spcPts val="3197"/>
              </a:lnSpc>
              <a:spcBef>
                <a:spcPts val="15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Validation and verification of sampling plan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90760" indent="-335520">
              <a:lnSpc>
                <a:spcPts val="3197"/>
              </a:lnSpc>
              <a:spcBef>
                <a:spcPts val="1250"/>
              </a:spcBef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Foliennummernplatzhalter 3"/>
          <p:cNvSpPr/>
          <p:nvPr/>
        </p:nvSpPr>
        <p:spPr>
          <a:xfrm>
            <a:off x="644364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72228-1C2B-4021-B926-C6DBF6278E2E}" type="slidenum"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b93dc"/>
                </a:solidFill>
                <a:latin typeface="Calibri"/>
              </a:rPr>
              <a:t>Next steps in 2012</a:t>
            </a: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634680" y="1125000"/>
            <a:ext cx="782460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-270000">
              <a:lnSpc>
                <a:spcPts val="2398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nnexes to the sampling standard to provide best practice examples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SimSun"/>
              </a:rPr>
              <a:t>(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Q2 2012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SimSun"/>
              </a:rPr>
              <a:t>,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Q3 2012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SimSu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lnSpc>
                <a:spcPts val="2398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ssessment report on cross effects when applying multiple methodologies to PoA and possible development of guidance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SimSun"/>
              </a:rPr>
              <a:t>(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Q3 2012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SimSu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lnSpc>
                <a:spcPts val="2398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evised large-scale methodologies to include PoA provisions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SimSun"/>
              </a:rPr>
              <a:t>(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Q3 2012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SimSu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lnSpc>
                <a:spcPts val="2398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ssessment report of stakeholder inputs and possible revision of PoA guidance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SimSun"/>
              </a:rPr>
              <a:t>(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Q3 2012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SimSu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Foliennummernplatzhalter 3"/>
          <p:cNvSpPr/>
          <p:nvPr/>
        </p:nvSpPr>
        <p:spPr>
          <a:xfrm>
            <a:off x="644364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0C758-8810-4E69-99AF-A703A83ECE30}" type="slidenum"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634680" y="1125000"/>
            <a:ext cx="782460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-270000" algn="ctr">
              <a:lnSpc>
                <a:spcPts val="2398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 algn="ctr">
              <a:lnSpc>
                <a:spcPts val="2398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 algn="ctr">
              <a:lnSpc>
                <a:spcPts val="2398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 algn="ctr">
              <a:lnSpc>
                <a:spcPts val="2398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 algn="ctr">
              <a:lnSpc>
                <a:spcPts val="2398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ank you for your attention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lnSpc>
                <a:spcPts val="2398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Foliennummernplatzhalter 3"/>
          <p:cNvSpPr/>
          <p:nvPr/>
        </p:nvSpPr>
        <p:spPr>
          <a:xfrm>
            <a:off x="644364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B55F8-21D3-4CA2-B5B9-D8E0DBD78886}" type="slidenum"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0T11:08:21Z</dcterms:created>
  <dc:creator>Howard</dc:creator>
  <dc:description/>
  <dc:language>en-US</dc:language>
  <cp:lastModifiedBy>Wenxin Li</cp:lastModifiedBy>
  <cp:lastPrinted>2004-03-02T21:24:15Z</cp:lastPrinted>
  <dcterms:modified xsi:type="dcterms:W3CDTF">2012-03-22T12:51:49Z</dcterms:modified>
  <cp:revision>165</cp:revision>
  <dc:subject/>
  <dc:title>TITLE HEADER</dc:title>
</cp:coreProperties>
</file>