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4.2  Significant deficiencies in validation, verification, and certification reports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353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214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b93dc"/>
                </a:solidFill>
                <a:latin typeface="Arial"/>
              </a:rPr>
              <a:t>Main issues discussed</a:t>
            </a: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ortance of linkage with the discussion on the EB appeals pro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Scope of liabi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to penalize PPs for DOE’s error (impacting issuance of C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E responsible for identifying error vs PP responsible for creating err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mitation to types of errors and historical timelin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isk is calculable, but manageability of risk is challeng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Consequen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uld destroy CDM if procedure is not appropriately applied (includes if DOE exit the marke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uld seriously damage smaller DO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lications of risk-based assessment and materiality princi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4.2  Significant deficiencies in validation, verification, and certification reports 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questioning on the process in 2012 for development of procedures (including further consultation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ed to establish a procedure that ensures integrity of the CDM, but is practical and work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ed to take into account the development of the EB appeals proced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Flora</cp:lastModifiedBy>
  <cp:lastPrinted>2004-03-02T21:24:15Z</cp:lastPrinted>
  <dcterms:modified xsi:type="dcterms:W3CDTF">2012-03-25T11:45:57Z</dcterms:modified>
  <cp:revision>5</cp:revision>
  <dc:subject/>
  <dc:title>7th Joint Coordination Workshop</dc:title>
</cp:coreProperties>
</file>