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 : Global and Local Stakeholder Consultation Process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: Global and Local Stakeholder Consultation Processes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3.3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4680" y="1263240"/>
            <a:ext cx="8258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lobal and Local 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guidance on local stakeholder consultation not adeq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CDM rules for SC validation are vague and do not provide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s needed for DOEs to assess whether local SC is “adequ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DNA national approval process /enhanced involvement in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problems are encountered with Global S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for Improvements to the Global S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8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Grievance mechanism for affected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: Global and Local Stakeholder Consultation Processes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3.3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3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541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welcome  general consensus among stakeholder groups to improve current regulatory frame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clear rules on how to conduct local stakeholder consultations; Potential to align with national regulations, via appropriate means in local language to relevant groups, reconsider timing of consultation (e.g., design phase, follow up - however conflict of interest and additional costs should be consid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guidelines to enable DOEs to effectively assess/validate local stakeholder consul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guidelines for global stakeholder consultations/comments;  provide notice of projects hosted to allow timely consideration, guidance for DOEs on treatment of non-project specific/non substantiated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ts val="19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grievance mechanism for affected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: Global and Local Stakeholder Consultation Processes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3.3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Next Steps and the way forwar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note to be developed on local stakeholder consultation and global stakeholder consultation, based on the call for inputs and interim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M Roundtable for further consultation (May 201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 to the Board (foreseen….. July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regulatory documents (Project Standard, Validation and Verification Standard)………( foreseen….Sept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THUSU</cp:lastModifiedBy>
  <cp:lastPrinted>2004-03-02T21:24:15Z</cp:lastPrinted>
  <dcterms:modified xsi:type="dcterms:W3CDTF">2012-03-25T10:17:11Z</dcterms:modified>
  <cp:revision>24</cp:revision>
  <dc:subject/>
  <dc:title>7th Joint Coordination Workshop</dc:title>
</cp:coreProperties>
</file>