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9290-0E4D-4016-8C7C-D0F6B4835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439C-1BF7-4AB9-B049-869FF324E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CC8C-E2CD-451C-A051-5396E53C9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4BC2-0463-4D75-B053-B7E2E3AC9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7DF2-6696-43A4-90A6-A22A4A1F0B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A741-B31E-4E4E-8048-08AB13310F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7602-CB5D-4D00-A829-5941350460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51610-62D0-4BC8-8A22-3A7DCBD690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D6E7-13CF-4149-A87D-4125619953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02FB-F84D-49BF-A362-62B150503F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49CE-90D3-4BB2-9207-EEF16C3CA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E0D7-92E7-4BC6-A866-BF904FBBA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B56BE-7F90-440A-9247-1CA2065284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0070-724D-4F28-B75F-6C265517E8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6563-C3D5-4D52-91E7-9E3A1826A8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9ED5-2D0B-4964-B0B4-916D22044F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2741-C3B1-496A-9073-242B56334F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6000-FED8-4976-B42D-36AE89BBE6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8E751-2B95-45CC-9F15-627551DDBD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92E0B-D0E9-4445-81FB-67012F6440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1B96E-18D7-4B71-A7BF-87E73059B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2E50-264D-4402-BC14-AB05964B12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6BBEA-FAE9-4F6B-BF8E-F9A975BE73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965AE-2EC2-409B-AB49-744645C620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5C7A5-959D-432A-A4AE-565AE6A6BA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2A286-7058-4CB5-915B-09FD3D08D5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09037-3249-4375-BFE3-F75A51B774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6D102-9215-4697-B6C9-1EDE64ED42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8774A-D2BA-4504-8E6B-EF6600B2A9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9AAB4-B0F5-4981-ACFD-B2ADB897F7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9719D-C53C-412B-A7CF-12DCB52A69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343E-09CB-4152-92FC-BD16ED345D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61A9-15B8-4F6E-93AC-CF4B1EDBAA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36680-AB35-4A4D-95BE-3C66006443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FF8C7-F65D-409A-805A-11A68EC34E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1EEB3-92F1-468C-B15A-95FBF3B4078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F78E9-C07E-4819-8F56-204C20AE8A2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1F239-BCB3-48A0-88A7-F7A115537A6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59F67-8E1C-4304-A830-A6F0E4BF975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88542-4A99-4359-9E43-EB122443780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3B428-5829-4885-9EC5-A3D2ACDB44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7DEC0-0E90-470D-8226-99540D3BA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E839-1FDB-4A7B-96BA-CA6EB85B802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5EDD5-2D47-4933-9DA0-F132C95AF3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7A0CD-4407-4666-867C-957851731BD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3CC8A-7C92-45CE-857B-4B357DBA3B6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9C9D-7F28-4003-A29E-CE49112611E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B6DA-A43A-4826-B56E-E1A899F1808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B0BA-8774-4A29-A416-C5A321B76AE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63194-3011-461C-AD3D-17B573AD000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B021-9284-4D37-A20C-947E9AC0977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603A7-BC14-477F-B21F-56988377FB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3E733-7D06-4A1B-A10D-7F7ACC043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D104-E449-4309-9B2F-E126989F31A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1F54-F4BB-4412-8ABE-170B49D2F9B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ADED-6BC2-4BA1-BAD1-EE4021B1D3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2344-AB8C-4D22-8311-B6B2BE17E02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B538-8FA2-408E-ADF8-A8FA804630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FE51A-78E0-4E91-BC65-CB5659EFEDE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D800-1BE6-45BE-A2EE-9608E0209C4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443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736D-4C7F-4D1B-9451-B00845104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152360"/>
            <a:ext cx="133200" cy="458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9007560" y="1168560"/>
            <a:ext cx="136440" cy="45655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26964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70000" indent="-2682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6443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DD92-F2BE-4A9B-8338-32C9B05B2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2268360" y="6517800"/>
            <a:ext cx="6235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2268360" y="6248520"/>
            <a:ext cx="6235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F7DC-EC59-4047-955B-D4CAA279A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6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7EA2-8146-4C58-B8C5-2EC9012382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7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9079-5961-4859-AC7D-75FA02D63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217B-18E3-4E5D-BEEC-BD54F71C9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7A36-80BE-4738-A199-B138E9F4CDB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1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CS – OVERVIEW OF THE MODALITIES AND PROCEDURES AND THEIR IMPLEMEN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0880" y="141300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DM JOINT COORDINATION WORKSHO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, 24-25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2D1D-0C70-4123-8974-68E130834795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Key elements of the CCS modalities and procedures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1280" y="106632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ailed specifications for site selection (Appendix B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isk and safety assessment (Appendix B.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vironmental and socio-economic impact assessments (Appendix B.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ailed provisions on monitoring (Appendix B.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ancial provisions (Appendix B.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ailed participation requirements for host countries (section 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nges to the CDM regi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visions for liability (Appendix B.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counting for non-permanence / seepage (section 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>
              <a:lnSpc>
                <a:spcPts val="2398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oliennummernplatzhalter 1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F478-371B-4462-B749-5BA34EFEA628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93dc"/>
                </a:solidFill>
                <a:latin typeface="Calibri"/>
              </a:rPr>
              <a:t>Liability and permanence – general approach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F92E-A5CD-4798-858E-71206CF61278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Group 1"/>
          <p:cNvGrpSpPr/>
          <p:nvPr/>
        </p:nvGrpSpPr>
        <p:grpSpPr>
          <a:xfrm>
            <a:off x="324000" y="765000"/>
            <a:ext cx="8711640" cy="2425680"/>
            <a:chOff x="324000" y="765000"/>
            <a:chExt cx="8711640" cy="2425680"/>
          </a:xfrm>
        </p:grpSpPr>
        <p:sp>
          <p:nvSpPr>
            <p:cNvPr id="365" name="Text Box 14"/>
            <p:cNvSpPr/>
            <p:nvPr/>
          </p:nvSpPr>
          <p:spPr>
            <a:xfrm>
              <a:off x="3400200" y="765000"/>
              <a:ext cx="1995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Geological storage risk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nd potential 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 Box 13"/>
            <p:cNvSpPr/>
            <p:nvPr/>
          </p:nvSpPr>
          <p:spPr>
            <a:xfrm>
              <a:off x="1116000" y="1341360"/>
              <a:ext cx="338472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pacts to ecosystems, health, property et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 Box 12"/>
            <p:cNvSpPr/>
            <p:nvPr/>
          </p:nvSpPr>
          <p:spPr>
            <a:xfrm>
              <a:off x="6251400" y="1341360"/>
              <a:ext cx="127332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erman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Text Box 11"/>
            <p:cNvSpPr/>
            <p:nvPr/>
          </p:nvSpPr>
          <p:spPr>
            <a:xfrm>
              <a:off x="324000" y="1828440"/>
              <a:ext cx="1944000" cy="10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eepage at surfa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uman health &amp; ecosystem 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mage to property and/or resour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 Box 10"/>
            <p:cNvSpPr/>
            <p:nvPr/>
          </p:nvSpPr>
          <p:spPr>
            <a:xfrm>
              <a:off x="2373120" y="1844640"/>
              <a:ext cx="219816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eochemical effe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ffects of reactive processes with 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 the subsurface (e.g. groundwater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284360" y="1844640"/>
              <a:ext cx="2446200" cy="13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eomechanical effe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duced seismicit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isplacement of brin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mage to subsurface property (e.g hydrocarbon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8"/>
            <p:cNvSpPr/>
            <p:nvPr/>
          </p:nvSpPr>
          <p:spPr>
            <a:xfrm flipH="1">
              <a:off x="2555280" y="1052640"/>
              <a:ext cx="971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7"/>
            <p:cNvSpPr/>
            <p:nvPr/>
          </p:nvSpPr>
          <p:spPr>
            <a:xfrm>
              <a:off x="5292000" y="1052640"/>
              <a:ext cx="107964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 flipH="1">
              <a:off x="1299960" y="1629000"/>
              <a:ext cx="8398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5"/>
            <p:cNvSpPr/>
            <p:nvPr/>
          </p:nvSpPr>
          <p:spPr>
            <a:xfrm>
              <a:off x="2140200" y="1629000"/>
              <a:ext cx="945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4"/>
            <p:cNvSpPr/>
            <p:nvPr/>
          </p:nvSpPr>
          <p:spPr>
            <a:xfrm>
              <a:off x="2140200" y="1628640"/>
              <a:ext cx="27316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"/>
            <p:cNvSpPr/>
            <p:nvPr/>
          </p:nvSpPr>
          <p:spPr>
            <a:xfrm>
              <a:off x="6920640" y="1581840"/>
              <a:ext cx="82764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 Box 2"/>
            <p:cNvSpPr/>
            <p:nvPr/>
          </p:nvSpPr>
          <p:spPr>
            <a:xfrm>
              <a:off x="7205040" y="1795320"/>
              <a:ext cx="1830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eepage at surfa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</a:t>
              </a:r>
              <a:r>
                <a:rPr b="0" lang="en-US" sz="1400" spc="-1" strike="noStrike" baseline="-30000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back to the atmosphere/water colum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8" name="Oval 25" descr=""/>
          <p:cNvPicPr/>
          <p:nvPr/>
        </p:nvPicPr>
        <p:blipFill>
          <a:blip r:embed="rId1"/>
          <a:stretch/>
        </p:blipFill>
        <p:spPr>
          <a:xfrm>
            <a:off x="146160" y="1090440"/>
            <a:ext cx="6046560" cy="1976760"/>
          </a:xfrm>
          <a:prstGeom prst="rect">
            <a:avLst/>
          </a:prstGeom>
          <a:ln w="0">
            <a:noFill/>
          </a:ln>
        </p:spPr>
      </p:pic>
      <p:pic>
        <p:nvPicPr>
          <p:cNvPr id="379" name="Oval 26" descr=""/>
          <p:cNvPicPr/>
          <p:nvPr/>
        </p:nvPicPr>
        <p:blipFill>
          <a:blip r:embed="rId2"/>
          <a:stretch/>
        </p:blipFill>
        <p:spPr>
          <a:xfrm>
            <a:off x="5907240" y="1163520"/>
            <a:ext cx="3017520" cy="16891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7"/>
          <p:cNvSpPr/>
          <p:nvPr/>
        </p:nvSpPr>
        <p:spPr>
          <a:xfrm>
            <a:off x="152280" y="2819520"/>
            <a:ext cx="201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  <a:ea typeface="Arial"/>
              </a:rPr>
              <a:t>Liability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Annex para 1 (j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28"/>
          <p:cNvSpPr/>
          <p:nvPr/>
        </p:nvSpPr>
        <p:spPr>
          <a:xfrm>
            <a:off x="5638680" y="2819520"/>
            <a:ext cx="331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Calibri"/>
                <a:ea typeface="Arial"/>
              </a:rPr>
              <a:t>Net reversal of storage</a:t>
            </a:r>
            <a:r>
              <a:rPr b="1" lang="en-GB" sz="1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alibri"/>
                <a:ea typeface="Arial"/>
              </a:rPr>
              <a:t>Annex para 1 (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29"/>
          <p:cNvSpPr/>
          <p:nvPr/>
        </p:nvSpPr>
        <p:spPr>
          <a:xfrm>
            <a:off x="228600" y="6019920"/>
            <a:ext cx="8610480" cy="373320"/>
          </a:xfrm>
          <a:prstGeom prst="roundRect">
            <a:avLst>
              <a:gd name="adj" fmla="val 16667"/>
            </a:avLst>
          </a:prstGeom>
          <a:solidFill>
            <a:srgbClr val="93b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  <a:ea typeface="Arial"/>
              </a:rPr>
              <a:t>Financial Provision  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  <a:ea typeface="Arial"/>
              </a:rPr>
              <a:t>Appendix B.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30"/>
          <p:cNvSpPr/>
          <p:nvPr/>
        </p:nvSpPr>
        <p:spPr>
          <a:xfrm>
            <a:off x="3962520" y="5257800"/>
            <a:ext cx="4873680" cy="643320"/>
          </a:xfrm>
          <a:prstGeom prst="roundRect">
            <a:avLst>
              <a:gd name="adj" fmla="val 16667"/>
            </a:avLst>
          </a:prstGeom>
          <a:solidFill>
            <a:srgbClr val="db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497b"/>
                </a:solidFill>
                <a:latin typeface="Calibri"/>
                <a:ea typeface="Arial"/>
              </a:rPr>
              <a:t>Obligation for either host or buyer country to cancel compliance units to address non-permanence – </a:t>
            </a:r>
            <a:r>
              <a:rPr b="0" lang="en-GB" sz="1600" spc="-1" strike="noStrike">
                <a:solidFill>
                  <a:srgbClr val="18497b"/>
                </a:solidFill>
                <a:latin typeface="Calibri"/>
                <a:ea typeface="Arial"/>
              </a:rPr>
              <a:t>p. 2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31"/>
          <p:cNvSpPr/>
          <p:nvPr/>
        </p:nvSpPr>
        <p:spPr>
          <a:xfrm>
            <a:off x="1371600" y="3124080"/>
            <a:ext cx="60483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18497b"/>
                </a:solidFill>
                <a:latin typeface="Calibri"/>
                <a:ea typeface="Arial"/>
              </a:rPr>
              <a:t>Supporting elements for liability &amp; net revers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36"/>
          <p:cNvSpPr/>
          <p:nvPr/>
        </p:nvSpPr>
        <p:spPr>
          <a:xfrm>
            <a:off x="3962520" y="4495680"/>
            <a:ext cx="4857480" cy="643320"/>
          </a:xfrm>
          <a:prstGeom prst="roundRect">
            <a:avLst>
              <a:gd name="adj" fmla="val 16667"/>
            </a:avLst>
          </a:prstGeom>
          <a:solidFill>
            <a:srgbClr val="db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497b"/>
                </a:solidFill>
                <a:latin typeface="Calibri"/>
                <a:ea typeface="Arial"/>
              </a:rPr>
              <a:t>Obligation for the PPs to cancel compliance units to address non-permanence - </a:t>
            </a:r>
            <a:r>
              <a:rPr b="0" lang="en-GB" sz="1600" spc="-1" strike="noStrike">
                <a:solidFill>
                  <a:srgbClr val="18497b"/>
                </a:solidFill>
                <a:latin typeface="Calibri"/>
                <a:ea typeface="Arial"/>
              </a:rPr>
              <a:t>para 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35"/>
          <p:cNvSpPr/>
          <p:nvPr/>
        </p:nvSpPr>
        <p:spPr>
          <a:xfrm>
            <a:off x="3962520" y="3581280"/>
            <a:ext cx="4873680" cy="373320"/>
          </a:xfrm>
          <a:prstGeom prst="roundRect">
            <a:avLst>
              <a:gd name="adj" fmla="val 16667"/>
            </a:avLst>
          </a:prstGeom>
          <a:solidFill>
            <a:srgbClr val="db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497b"/>
                </a:solidFill>
                <a:latin typeface="Calibri"/>
                <a:ea typeface="Arial"/>
              </a:rPr>
              <a:t>Obligation to submit</a:t>
            </a:r>
            <a:r>
              <a:rPr b="1" i="1" lang="en-GB" sz="1600" spc="-1" strike="noStrike">
                <a:solidFill>
                  <a:srgbClr val="18497b"/>
                </a:solidFill>
                <a:latin typeface="Calibri"/>
                <a:ea typeface="Arial"/>
              </a:rPr>
              <a:t> Verification Report</a:t>
            </a:r>
            <a:r>
              <a:rPr b="1" lang="en-GB" sz="1600" spc="-1" strike="noStrike">
                <a:solidFill>
                  <a:srgbClr val="18497b"/>
                </a:solidFill>
                <a:latin typeface="Calibri"/>
                <a:ea typeface="Arial"/>
              </a:rPr>
              <a:t> every 5 yea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41"/>
          <p:cNvSpPr/>
          <p:nvPr/>
        </p:nvSpPr>
        <p:spPr>
          <a:xfrm>
            <a:off x="228600" y="4343400"/>
            <a:ext cx="3429000" cy="643320"/>
          </a:xfrm>
          <a:prstGeom prst="roundRect">
            <a:avLst>
              <a:gd name="adj" fmla="val 16667"/>
            </a:avLst>
          </a:prstGeom>
          <a:solidFill>
            <a:srgbClr val="18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  <a:ea typeface="Arial"/>
              </a:rPr>
              <a:t>Transfer of li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  <a:ea typeface="Arial"/>
              </a:rPr>
              <a:t>Appendix B.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42"/>
          <p:cNvSpPr/>
          <p:nvPr/>
        </p:nvSpPr>
        <p:spPr>
          <a:xfrm>
            <a:off x="3962520" y="4038480"/>
            <a:ext cx="4873680" cy="373320"/>
          </a:xfrm>
          <a:prstGeom prst="roundRect">
            <a:avLst>
              <a:gd name="adj" fmla="val 16667"/>
            </a:avLst>
          </a:prstGeom>
          <a:solidFill>
            <a:srgbClr val="db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497b"/>
                </a:solidFill>
                <a:latin typeface="Calibri"/>
                <a:ea typeface="Arial"/>
              </a:rPr>
              <a:t>CER reserve </a:t>
            </a:r>
            <a:r>
              <a:rPr b="0" lang="en-GB" sz="1600" spc="-1" strike="noStrike">
                <a:solidFill>
                  <a:srgbClr val="18497b"/>
                </a:solidFill>
                <a:latin typeface="Calibri"/>
                <a:ea typeface="Arial"/>
              </a:rPr>
              <a:t>([5] percent) - para 21 (b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41"/>
          <p:cNvSpPr/>
          <p:nvPr/>
        </p:nvSpPr>
        <p:spPr>
          <a:xfrm>
            <a:off x="228600" y="3581280"/>
            <a:ext cx="3429000" cy="643320"/>
          </a:xfrm>
          <a:prstGeom prst="roundRect">
            <a:avLst>
              <a:gd name="adj" fmla="val 16667"/>
            </a:avLst>
          </a:prstGeom>
          <a:solidFill>
            <a:srgbClr val="184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  <a:ea typeface="Arial"/>
              </a:rPr>
              <a:t>Host country laws establish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  <a:ea typeface="Arial"/>
              </a:rPr>
              <a:t>para 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444F-C37F-4394-9693-D0B60406B59B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A staged approach towards implementation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abling the submission of methodologies and the accreditation of DO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07280" indent="-37728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ures and forms for methodology submi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07280" indent="-37728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on of the accreditation stand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abling the registration of CCS project 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07280" indent="-37728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on of the Project Standard, Validation &amp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erification Standard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07280" indent="-37728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ures and forms for requesting for registration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abling the issuance of CERs from CCS project 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07280" indent="-37728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ures and forms for requesting issu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07280" indent="-37728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anges to the CDM registry and IT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7"/>
          <p:cNvSpPr/>
          <p:nvPr/>
        </p:nvSpPr>
        <p:spPr>
          <a:xfrm>
            <a:off x="7467480" y="9907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  <a:ea typeface="Arial"/>
              </a:rPr>
              <a:t>Focus for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7"/>
          <p:cNvSpPr/>
          <p:nvPr/>
        </p:nvSpPr>
        <p:spPr>
          <a:xfrm>
            <a:off x="7391520" y="2590920"/>
            <a:ext cx="144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  <a:ea typeface="Arial"/>
              </a:rPr>
              <a:t>Preparation in 2012, Adoption in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7"/>
          <p:cNvSpPr/>
          <p:nvPr/>
        </p:nvSpPr>
        <p:spPr>
          <a:xfrm>
            <a:off x="7467480" y="4952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  <a:ea typeface="Arial"/>
              </a:rPr>
              <a:t>2013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  <a:ea typeface="Arial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93dc"/>
                </a:solidFill>
                <a:latin typeface="Calibri"/>
              </a:rPr>
              <a:t>Next steps in 2012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4680" y="1125000"/>
            <a:ext cx="78246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marL="40320" indent="-403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B67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3960" indent="-5328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ures, forms and guidelines for the submission and assessment of CCS 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60" indent="-5328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mendment of TORs for the Boards support structure to establish a CCS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739280" indent="-540000">
              <a:lnSpc>
                <a:spcPts val="2398"/>
              </a:lnSpc>
              <a:spcBef>
                <a:spcPts val="876"/>
              </a:spcBef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CCS experts and Meth Panel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739280" indent="-540000">
              <a:lnSpc>
                <a:spcPts val="2398"/>
              </a:lnSpc>
              <a:spcBef>
                <a:spcPts val="876"/>
              </a:spcBef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Meetings only as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60" indent="-5328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on of the accreditation standard to enable accreditation of DOEs for CCS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739280" indent="-540000">
              <a:lnSpc>
                <a:spcPts val="2398"/>
              </a:lnSpc>
              <a:spcBef>
                <a:spcPts val="876"/>
              </a:spcBef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Possible new sectoral scope 16 for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storag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f CO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320" indent="-403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B70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3960" indent="-5328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cept note for the revision of standards, procedures, forms and guidelines to enable the registration of CCS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960" indent="-5328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320" indent="-403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320" indent="-403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320" indent="-403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587B-8570-4544-8DE4-ABEBD28179E9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34680" y="1125000"/>
            <a:ext cx="78246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ank you for your atten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7D48-CBF3-486C-A373-1C7286066C71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1:08:21Z</dcterms:created>
  <dc:creator>Howard</dc:creator>
  <dc:description/>
  <dc:language>en-US</dc:language>
  <cp:lastModifiedBy>Wenxin Li</cp:lastModifiedBy>
  <cp:lastPrinted>2004-03-02T21:24:15Z</cp:lastPrinted>
  <dcterms:modified xsi:type="dcterms:W3CDTF">2012-03-22T12:51:17Z</dcterms:modified>
  <cp:revision>147</cp:revision>
  <dc:subject/>
  <dc:title>TITLE HEADER</dc:title>
</cp:coreProperties>
</file>