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F26A-E480-4ADA-90C8-2B7BBA764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2D1B-8D6F-4432-A926-0B0FEF73C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E25F-4348-4DFE-BEF6-6C23B7EDF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CBC0-8DE7-42E8-90BD-E8C631C65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F369-0198-4BCB-9D9A-48098C630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2A416-44D8-4AA7-BC3E-859FD88F6F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C1713-E535-4C13-BC25-BA536D12C9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32E21-C57C-4A47-B3D2-104BB46F56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EBADB-34FE-4AB9-B0A0-17FCE73294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540EE-5358-4E95-A7AE-F769E81FA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3B70-8C6C-4952-A5CE-1C2F9902B7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E322C-BC46-4CE9-97C7-8D08CA6DB4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C4447-DF95-4266-93DE-A0034C6F03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77A52-4817-4C20-B791-B8BFE2F2BA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40245-9BF8-4045-ADC5-F02A92F4F6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7BCB8-5972-4699-AC29-459B237AD7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BAFB8-2D7B-44EC-A20D-FC3C61B5C9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77EDA-735E-4EEF-853C-DAD260123D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2DE1F-EBD2-409F-9D8B-FF4C9EFF53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98A6E-4357-4F72-B2B4-0E590C355E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0830B-EFF0-49F7-9AE5-EF7E09B3C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F4DE-67D2-41F7-BFEA-FF3E1E1376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518D3-4114-46BD-A59B-A0CB881295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86C4D-69C7-470F-8F0D-27B304B535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B672A-DB02-4C77-8C1E-4CDA9809BB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9C840-43CA-45E5-8060-543A459461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AF289-78D0-4924-AE03-1928689A53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2EA6C-7CC4-4031-BF10-54812DD6AD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FC4BC-465D-47EC-9457-98A20EBC14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6438C-B4EA-4306-B416-D6E5E42062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7CFAA-92AC-4E57-B7D7-F8F81D5720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51FA-B148-43FE-B5D1-B696BA9A11C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32C6-12F3-45E7-AA97-F8919C1404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527A-0B0A-4B8D-9547-7D399A10D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F834-60C1-4DB4-A93D-119BC0528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5269-AD57-446F-870A-36B97A14B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554-3C67-4A6D-B77D-599DE37F3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161928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stainable Development Mechanisms Programme, UNFC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1619280" y="62373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Vlad Trusca, Strategy and Policy Development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AD5B-49E6-4350-81AE-B2032E75A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21D6-1096-418B-BE7A-21C4BB541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6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7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78818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JI Governance – review of JI Guide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1280" y="4437000"/>
            <a:ext cx="78818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FIRST SDM JOINT COORDINATION WORKSHOP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, Germany, 24-25 March,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NFCCC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SDM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rcRect l="4087" t="6682" r="553" b="3978"/>
          <a:stretch/>
        </p:blipFill>
        <p:spPr>
          <a:xfrm>
            <a:off x="5651640" y="2997360"/>
            <a:ext cx="3297240" cy="2993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11280" y="1628640"/>
            <a:ext cx="705780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 Guideli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 Experience Report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ISC Recommendations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ban Decision &amp; Next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189000"/>
            <a:ext cx="81374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b93dc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C508-B0E3-446C-9CFA-E2291FBA4E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1125360"/>
            <a:ext cx="84978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8920" indent="-3589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ticle 6 Supervisory Committee???)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erv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verification of ERUs generated by Article 6 (JI)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ISC responsible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aborating its rules of proce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ing procedures under Track 2 verific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ilding up on the criteria for baselines setting and monitor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rediting independent entities &amp;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ing and revising reporting guideli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aborating PDD forms and other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porting on its activities to 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opting/reviewing the fe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89000"/>
            <a:ext cx="81374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b93dc"/>
                </a:solidFill>
                <a:latin typeface="Arial"/>
              </a:rPr>
              <a:t>JI Guidelines – JISC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01BBA-E8FA-42BD-9899-4E82F9CAED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4000" y="1123920"/>
            <a:ext cx="840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8200" indent="-268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ri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 members from KP Par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 members from Annex I EiT Pa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 members from other Annex I Pa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 members from non-Annex I Pa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member from the S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ISC memb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ncl. alternates sha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ve no pecuniary or financial inter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in their personal capacities (max. 2 consecutive term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nominated by constituencies and elected by C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disclose any confidential or proprietary informa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vernance issu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ection of Chair/Vice-Chair; resignation, replacement, appointment of me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eting schedule (at least two times per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orum and decisions (by consensus/vo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189000"/>
            <a:ext cx="81374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b93dc"/>
                </a:solidFill>
                <a:latin typeface="Arial"/>
              </a:rPr>
              <a:t>JI Guidelines – JISC Composition &amp;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2047" t="5536" r="3047" b="3691"/>
          <a:stretch/>
        </p:blipFill>
        <p:spPr>
          <a:xfrm>
            <a:off x="5580000" y="1125360"/>
            <a:ext cx="3313080" cy="23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0145C-6013-4FB1-ADBA-19F70392AA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95280" y="1125360"/>
            <a:ext cx="849780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operational model for joint implementation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SC recomm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es to consider adjusting the role, membership and composition of the JI regulatory bo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-setting role, rather than a project assessment 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n overall policy framework (implemented at national leve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communication with DFPs, AIEs and other stakehold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hip reflects the necessary skills and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tion aligned with the new JI operationa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 under the authority of the C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080" indent="-353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systems put in place at national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89000"/>
            <a:ext cx="81374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b93dc"/>
                </a:solidFill>
                <a:latin typeface="Arial"/>
              </a:rPr>
              <a:t>JI Experience Report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56360" y="4021200"/>
            <a:ext cx="2592360" cy="20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2C57-4DF4-4E7B-924F-73E4A8535A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5280" y="1052640"/>
            <a:ext cx="856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52440" indent="-3524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ISC recommended CM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establish a new governing body which wi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e under the authority, be accountable, and report to the C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 mandatory standards and procedures and best practice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sue offset credits, on the basis of verification by accredited ver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redit verifiers and supervise their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see the conformity of the implementation with the mandatory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ISC recommended Par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give further consideration to the following iss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of a unified accreditation process for JI and CD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verning body working in an executive, impartial and transpar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mbers of the governing body being drawn from Parties involved in JI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3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eals process established to allow appeal against governing body dec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189000"/>
            <a:ext cx="83534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b93dc"/>
                </a:solidFill>
                <a:latin typeface="Arial"/>
              </a:rPr>
              <a:t>JISC Recommendations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988AC-AAE6-4D9B-A345-7F496D349D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4000" y="1112760"/>
            <a:ext cx="882000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1440" indent="-2714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urban Deci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1/CMP.7 “Guidance on implementation of JI” – CM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ok note of the recommendations on options for building on the JI appro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alled its decision to initiate the first review of the JI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ited all Parties, and other stakeholders to submit their views by 16 April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quested the secretariat to compile submissions into a report for CMP 8 by 31 July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quested the JISC to draft a revised set of key attributes and transitional measures dealing with the possible changes to the JI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ISC 28 meet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– JISC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2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ook note of the CMP.7 reque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3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itiated its discussions on the key attribut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3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greed to provide a draft revision of the JI guidelin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8560">
              <a:lnSpc>
                <a:spcPct val="13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7460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cretariat + JISC members to prepare draft material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89000"/>
            <a:ext cx="83534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b93dc"/>
                </a:solidFill>
                <a:latin typeface="Arial"/>
              </a:rPr>
              <a:t>Durban Decision &amp; 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67280" y="3789360"/>
            <a:ext cx="3095640" cy="21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2AAD3-C9FB-4993-AC2B-6D360C5D5B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1440" y="1125360"/>
            <a:ext cx="9144000" cy="46087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7" descr="unfccc_schriftzug_big"/>
          <p:cNvPicPr/>
          <p:nvPr/>
        </p:nvPicPr>
        <p:blipFill>
          <a:blip r:embed="rId1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270000"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unfccc.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468360" y="1341360"/>
            <a:ext cx="86407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385596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  <a:tab algn="l" pos="108806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rmly establish JI as an effective tool of international collaboration for developed country Parties in mitigating their GHG emissions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’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596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  <a:tab algn="l" pos="9934560"/>
                <a:tab algn="l" pos="10407600"/>
                <a:tab algn="l" pos="108806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JI Management Plan 201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7" descr="http://alltelleringet.com/wp-content/gallery/commissioned/stratco5.jpg"/>
          <p:cNvPicPr/>
          <p:nvPr/>
        </p:nvPicPr>
        <p:blipFill>
          <a:blip r:embed="rId2"/>
          <a:stretch/>
        </p:blipFill>
        <p:spPr>
          <a:xfrm>
            <a:off x="468360" y="2349360"/>
            <a:ext cx="3857400" cy="35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A96D-13AE-4537-96E0-131157A1534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27:45Z</dcterms:created>
  <dc:creator>malnaric</dc:creator>
  <dc:description/>
  <dc:language>en-US</dc:language>
  <cp:lastModifiedBy>Vlad Trusca</cp:lastModifiedBy>
  <cp:lastPrinted>2004-03-02T21:24:15Z</cp:lastPrinted>
  <dcterms:modified xsi:type="dcterms:W3CDTF">2012-03-25T07:58:01Z</dcterms:modified>
  <cp:revision>49</cp:revision>
  <dc:subject/>
  <dc:title>TITLE HEADER</dc:title>
</cp:coreProperties>
</file>