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jpeg" ContentType="image/jpeg"/>
  <Override PartName="/ppt/media/image9.wmf" ContentType="image/x-wmf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3453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Verónica García M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CCC secretariat  SDM / P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2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icrosofthelpnow.com/wp-content/uploads/2011/10/delete-icon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llaborationideas.com/wp-content/uploads/2011/04/manag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ule 3.2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ignment of CDM and JI accreditatio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7000" y="4552920"/>
            <a:ext cx="4318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1st SDM Joint Coordination Workshop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onn, Germany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24 March,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588000" y="3933720"/>
            <a:ext cx="2390760" cy="15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SDM</a:t>
            </a: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b93dc"/>
                </a:solidFill>
                <a:latin typeface="Arial"/>
              </a:rPr>
              <a:t>THANK YOU VERY MUC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03640" y="1046160"/>
            <a:ext cx="2390760" cy="1590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777960" y="4257720"/>
            <a:ext cx="7681680" cy="1116000"/>
            <a:chOff x="777960" y="4257720"/>
            <a:chExt cx="7681680" cy="1116000"/>
          </a:xfrm>
        </p:grpSpPr>
        <p:pic>
          <p:nvPicPr>
            <p:cNvPr id="22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77960" y="4281480"/>
              <a:ext cx="10810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361960" y="4581360"/>
              <a:ext cx="1151280" cy="576360"/>
            </a:xfrm>
            <a:prstGeom prst="rightArrow">
              <a:avLst>
                <a:gd name="adj1" fmla="val 50000"/>
                <a:gd name="adj2" fmla="val 49938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3657600" y="4365360"/>
              <a:ext cx="1512720" cy="936720"/>
            </a:xfrm>
            <a:prstGeom prst="rect">
              <a:avLst/>
            </a:prstGeom>
          </p:spPr>
          <p:txBody>
            <a:bodyPr wrap="none" lIns="0" rIns="0" tIns="0" bIns="0" anchor="ctr" anchorCtr="1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Performance 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Assess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5040" y="4581360"/>
              <a:ext cx="1150920" cy="576360"/>
            </a:xfrm>
            <a:prstGeom prst="rightArrow">
              <a:avLst>
                <a:gd name="adj1" fmla="val 50000"/>
                <a:gd name="adj2" fmla="val 49922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6753240" y="4257720"/>
              <a:ext cx="1706400" cy="1116000"/>
            </a:xfrm>
            <a:prstGeom prst="rect">
              <a:avLst/>
            </a:prstGeom>
          </p:spPr>
          <p:txBody>
            <a:bodyPr wrap="none" lIns="0" rIns="0" tIns="0" bIns="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August 2011  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    </a:t>
              </a: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&gt; AIE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765000"/>
            <a:ext cx="75326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4b93dc"/>
                </a:solidFill>
                <a:latin typeface="Arial"/>
              </a:rPr>
              <a:t>“</a:t>
            </a:r>
            <a:r>
              <a:rPr b="1" lang="en-GB" sz="2100" spc="-1" strike="noStrike">
                <a:solidFill>
                  <a:srgbClr val="4b93dc"/>
                </a:solidFill>
                <a:latin typeface="Arial"/>
              </a:rPr>
              <a:t>MEASURES TO STREAMLINE AND FURTHER IMPROVE JI ACCREDITATION PROCESS AND FUNCTIONN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93dc"/>
                </a:solidFill>
                <a:latin typeface="Arial"/>
              </a:rPr>
              <a:t>JISC Approv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93dc"/>
                </a:solidFill>
                <a:latin typeface="Arial"/>
              </a:rPr>
              <a:t>Option 2: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ligning the steps  of JI accreditation procedure with the steps of CDM accreditation procedure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(Desk review, on-site assessment, Performance assessments…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4221000"/>
            <a:ext cx="1800000" cy="936720"/>
          </a:xfrm>
          <a:prstGeom prst="rect">
            <a:avLst/>
          </a:prstGeom>
        </p:spPr>
        <p:txBody>
          <a:bodyPr wrap="none" lIns="0" rIns="0" tIns="0" bIns="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tnessing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tiviti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95640" y="1484280"/>
            <a:ext cx="1528920" cy="1079640"/>
          </a:xfrm>
          <a:prstGeom prst="rect">
            <a:avLst/>
          </a:prstGeom>
        </p:spPr>
        <p:txBody>
          <a:bodyPr wrap="none" lIns="0" rIns="0" tIns="0" bIns="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4 options 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27640" y="2852640"/>
            <a:ext cx="3708360" cy="3672000"/>
          </a:xfrm>
          <a:prstGeom prst="irregularSeal1">
            <a:avLst/>
          </a:prstGeom>
          <a:solidFill>
            <a:srgbClr val="fb927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765000"/>
            <a:ext cx="75326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5280" y="836640"/>
            <a:ext cx="2376360" cy="1873080"/>
          </a:xfrm>
          <a:prstGeom prst="rect">
            <a:avLst/>
          </a:prstGeom>
        </p:spPr>
        <p:txBody>
          <a:bodyPr wrap="none" lIns="0" rIns="0" tIns="0" bIns="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b92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DDITIONAL FOCUS</a:t>
            </a:r>
            <a:endParaRPr b="1" lang="en-US" sz="2400" spc="1" strike="noStrike">
              <a:ln w="0">
                <a:noFill/>
              </a:ln>
              <a:solidFill>
                <a:srgbClr val="fb927d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b92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b92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N SITE ASSESSMENTS</a:t>
            </a:r>
            <a:endParaRPr b="1" lang="en-US" sz="2400" spc="1" strike="noStrike">
              <a:ln w="0">
                <a:noFill/>
              </a:ln>
              <a:solidFill>
                <a:srgbClr val="fb927d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1104840"/>
            <a:ext cx="4968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4b93dc"/>
                </a:solidFill>
                <a:latin typeface="Arial"/>
              </a:rPr>
              <a:t>Particular focus on JI specific areas in performing determinations and verifications and changes that have occurred since the last on-site assessment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3789360"/>
            <a:ext cx="316872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CDM assessment report can be used by AIE to show compliance to common require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16360" y="836640"/>
            <a:ext cx="1008000" cy="2376360"/>
          </a:xfrm>
          <a:custGeom>
            <a:avLst/>
            <a:gdLst>
              <a:gd name="textAreaLeft" fmla="*/ 0 w 1008000"/>
              <a:gd name="textAreaRight" fmla="*/ 363960 w 1008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3933720"/>
            <a:ext cx="25923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cus on Impartiality, Competence, Process and Q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836640"/>
            <a:ext cx="813600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4b93dc"/>
                </a:solidFill>
                <a:latin typeface="Arial"/>
              </a:rPr>
              <a:t>Option 3: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4b93dc"/>
                </a:solidFill>
                <a:latin typeface="Arial"/>
              </a:rPr>
              <a:t>Aligning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GB" sz="2100" spc="-1" strike="noStrike">
                <a:solidFill>
                  <a:srgbClr val="4b93dc"/>
                </a:solidFill>
                <a:latin typeface="Arial"/>
              </a:rPr>
              <a:t>JI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accreditation process with the </a:t>
            </a:r>
            <a:r>
              <a:rPr b="0" lang="en-GB" sz="2100" spc="-1" strike="noStrike">
                <a:solidFill>
                  <a:srgbClr val="4b93dc"/>
                </a:solidFill>
                <a:latin typeface="Arial"/>
              </a:rPr>
              <a:t>CDM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accreditation process steps and carrying out </a:t>
            </a:r>
            <a:r>
              <a:rPr b="0" lang="en-GB" sz="2100" spc="-1" strike="noStrike">
                <a:solidFill>
                  <a:srgbClr val="4b93dc"/>
                </a:solidFill>
                <a:latin typeface="Arial"/>
              </a:rPr>
              <a:t>combined/joint assessment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resulting in two reports for decision making of the two accreditation panel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284720" y="2205000"/>
            <a:ext cx="1800000" cy="119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300720" y="2133720"/>
            <a:ext cx="23767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93dc"/>
                </a:solidFill>
                <a:latin typeface="Arial"/>
              </a:rPr>
              <a:t>Full alignme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f the CDM and JI </a:t>
            </a:r>
            <a:r>
              <a:rPr b="0" lang="en-US" sz="2100" spc="-1" strike="noStrike">
                <a:solidFill>
                  <a:srgbClr val="4b93dc"/>
                </a:solidFill>
                <a:latin typeface="Arial"/>
              </a:rPr>
              <a:t>accreditation proced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1581480" cy="1513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124000" y="3500280"/>
            <a:ext cx="23767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option of a </a:t>
            </a:r>
            <a:r>
              <a:rPr b="0" lang="en-US" sz="2100" spc="-1" strike="noStrike">
                <a:solidFill>
                  <a:srgbClr val="4b93dc"/>
                </a:solidFill>
                <a:latin typeface="Arial"/>
              </a:rPr>
              <a:t>common accreditation standar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3933720"/>
            <a:ext cx="2519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use of the </a:t>
            </a:r>
            <a:r>
              <a:rPr b="0" lang="en-US" sz="1900" spc="-1" strike="noStrike">
                <a:solidFill>
                  <a:srgbClr val="4b93dc"/>
                </a:solidFill>
                <a:latin typeface="Arial"/>
              </a:rPr>
              <a:t>same roster of exper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qualified in both CDM and JI using </a:t>
            </a:r>
            <a:r>
              <a:rPr b="0" lang="en-US" sz="1900" spc="-1" strike="noStrike">
                <a:solidFill>
                  <a:srgbClr val="4b93dc"/>
                </a:solidFill>
                <a:latin typeface="Arial"/>
              </a:rPr>
              <a:t>same qualification crite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093080" y="3716280"/>
            <a:ext cx="1288800" cy="224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5040" y="836640"/>
            <a:ext cx="78692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93dc"/>
                </a:solidFill>
                <a:latin typeface="Arial"/>
              </a:rPr>
              <a:t>JOINT SESSION OF THE CDM AND JI ACCREDITATION PAN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3th, 20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ed possible areas for collabo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1. 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Full alignment of the accreditation procedu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2. 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Common accreditation standar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3. 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Same roster of exper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with same qualification 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4b93dc"/>
                </a:solidFill>
                <a:latin typeface="Arial"/>
              </a:rPr>
              <a:t>criteri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700280"/>
            <a:ext cx="2159280" cy="162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4680" y="522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b93dc"/>
                </a:solidFill>
                <a:latin typeface="Arial"/>
              </a:rPr>
              <a:t>Combined Assessor resource pool for CDM &amp; JI</a:t>
            </a:r>
            <a:br>
              <a:rPr sz="2400"/>
            </a:b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565560"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ach AP has established concrete requirement criteria to qualify persons and include them in their specific </a:t>
            </a:r>
            <a:r>
              <a:rPr b="0" lang="en-GB" sz="2100" spc="-1" strike="noStrike">
                <a:solidFill>
                  <a:srgbClr val="1960ab"/>
                </a:solidFill>
                <a:latin typeface="Arial"/>
              </a:rPr>
              <a:t>AR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5560"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5560" indent="-321120">
              <a:lnSpc>
                <a:spcPts val="2999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960ab"/>
                </a:solidFill>
                <a:latin typeface="Arial"/>
              </a:rPr>
              <a:t>JI  “ToR for the JI Assessment Teams”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5560"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5560" indent="-321120">
              <a:lnSpc>
                <a:spcPts val="2999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960ab"/>
                </a:solidFill>
                <a:latin typeface="Arial"/>
              </a:rPr>
              <a:t>CDM “Criteria for selection and use of assessors &amp; experts” for CD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5560"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5560"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5560"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5560"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re are differences between CDM and JI requirements  but people in comm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1727280" cy="1140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87640" y="3500280"/>
            <a:ext cx="1382760" cy="148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b93dc"/>
                </a:solidFill>
                <a:latin typeface="Arial"/>
              </a:rPr>
              <a:t>Steps to go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214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1.- Integration of SDM Accreditation Roster of Expert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first st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sons in the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JI ARo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are not in the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CDM ARo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viceversa, to maintain their qualifications need to fulfill requirements p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lementation of this stage will give u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5 persons SDM, 20 as JI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38 as CD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140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According t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qualificat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ersons can be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appointed in JI Assessments, CDM Assessments or bot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1628640"/>
            <a:ext cx="129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DM AR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1486080"/>
            <a:ext cx="287280" cy="934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b92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08360" y="1700280"/>
            <a:ext cx="4248360" cy="4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SDM/CDM/J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Assessors &amp; Technical Exper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4797360"/>
            <a:ext cx="936720" cy="0"/>
          </a:xfrm>
          <a:prstGeom prst="line">
            <a:avLst/>
          </a:prstGeom>
          <a:ln w="57240">
            <a:solidFill>
              <a:srgbClr val="fb92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451640" y="3598920"/>
            <a:ext cx="1101960" cy="1630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908000" y="4579920"/>
            <a:ext cx="93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960ab"/>
                </a:solidFill>
                <a:latin typeface="Arial"/>
              </a:rPr>
              <a:t>SDM ARo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b93dc"/>
                </a:solidFill>
                <a:latin typeface="Arial"/>
              </a:rPr>
              <a:t>Steps to go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8674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.- Moving persons to the SDM qualification statu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second st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SDM member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ill remain in the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</a:rPr>
              <a:t>SDM ARo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960ab"/>
                </a:solidFill>
                <a:latin typeface="Arial"/>
                <a:ea typeface="ＭＳ Ｐゴシック"/>
              </a:rPr>
              <a:t>ARoE with SDM Lead Assessors/Assessors and  SDM Technical Expe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960ab"/>
                </a:solidFill>
                <a:latin typeface="Arial"/>
                <a:ea typeface="ＭＳ Ｐゴシック"/>
              </a:rPr>
              <a:t>Train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ll be </a:t>
            </a:r>
            <a:r>
              <a:rPr b="0" lang="en-US" sz="2100" spc="-1" strike="noStrike">
                <a:solidFill>
                  <a:srgbClr val="1960ab"/>
                </a:solidFill>
                <a:latin typeface="Arial"/>
                <a:ea typeface="ＭＳ Ｐゴシック"/>
              </a:rPr>
              <a:t>combine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gaps of technical expertise in some Technical Areas will be clos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356000" y="414972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b93dc"/>
                </a:solidFill>
                <a:latin typeface="Arial"/>
              </a:rPr>
              <a:t>Steps to go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s in the SDM ARoE can be </a:t>
            </a:r>
            <a:r>
              <a:rPr b="0" lang="en-US" sz="2900" spc="-1" strike="noStrike">
                <a:solidFill>
                  <a:srgbClr val="1960ab"/>
                </a:solidFill>
                <a:latin typeface="Arial"/>
                <a:ea typeface="ＭＳ Ｐゴシック"/>
              </a:rPr>
              <a:t>appointed in JI and/or CDM Assessments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960ab"/>
                </a:solidFill>
                <a:latin typeface="Arial"/>
                <a:ea typeface="ＭＳ Ｐゴシック"/>
              </a:rPr>
              <a:t>or i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960ab"/>
                </a:solidFill>
                <a:latin typeface="Arial"/>
                <a:ea typeface="ＭＳ Ｐゴシック"/>
              </a:rPr>
              <a:t>COMBINED/JOINT ASSESS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1974960" cy="186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33:53Z</dcterms:created>
  <dc:creator>Yamazaki</dc:creator>
  <dc:description/>
  <dc:language>en-US</dc:language>
  <cp:lastModifiedBy>Malo</cp:lastModifiedBy>
  <cp:lastPrinted>2004-03-02T21:24:15Z</cp:lastPrinted>
  <dcterms:modified xsi:type="dcterms:W3CDTF">2012-03-24T15:10:34Z</dcterms:modified>
  <cp:revision>42</cp:revision>
  <dc:subject/>
  <dc:title>REVISION OF TERMS OF REFERENCE OF PANELS AND WORKING GROUPS</dc:title>
</cp:coreProperties>
</file>