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276720" y="652464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96720" indent="23364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39800" indent="16200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82520" indent="88920" algn="ctr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82520" indent="88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7120" y="2205000"/>
            <a:ext cx="7881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Wrap-up session</a:t>
            </a:r>
            <a:br>
              <a:rPr sz="3000"/>
            </a:br>
            <a:br>
              <a:rPr sz="30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ustainable Development Mechanisms Joint Coordination Wor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4960" y="3922560"/>
            <a:ext cx="78822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itim Hot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onn Germany, 24-25 March 201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rstname Lastname, Job Tit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NFCCC secretariat, program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session number &amp; title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Main issues discu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dditionality and 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Liability – D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Sampling (inclusion of formulas) / </a:t>
            </a: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prohibitive large number of scattered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PoA competition – multiple PoA in one country same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Transfer or withdrawn of C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93dc"/>
                </a:solidFill>
                <a:latin typeface="Arial"/>
              </a:rPr>
              <a:t>Addressing existing policies – Addi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b93dc"/>
                </a:solidFill>
                <a:latin typeface="Arial"/>
              </a:rPr>
              <a:t>Break-out session </a:t>
            </a:r>
            <a:r>
              <a:rPr b="1" i="1" lang="en-US" sz="1200" spc="-1" strike="noStrike">
                <a:solidFill>
                  <a:srgbClr val="4b93dc"/>
                </a:solidFill>
                <a:latin typeface="Arial"/>
              </a:rPr>
              <a:t>[session number &amp; title]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Action points /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Standardize optional CME template for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Arial"/>
              </a:rPr>
              <a:t>Extension of the deadline (25/07) for the application of the new PoA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b93dc"/>
                </a:solidFill>
                <a:latin typeface="Arial"/>
              </a:rPr>
              <a:t>Rules to address very small household level activities (CFL, cook stoves, rice patch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29:01Z</dcterms:created>
  <dc:creator>lenz</dc:creator>
  <dc:description/>
  <dc:language>en-US</dc:language>
  <cp:lastModifiedBy>Paris</cp:lastModifiedBy>
  <cp:lastPrinted>2004-03-02T21:24:15Z</cp:lastPrinted>
  <dcterms:modified xsi:type="dcterms:W3CDTF">2012-03-24T16:36:33Z</dcterms:modified>
  <cp:revision>5</cp:revision>
  <dc:subject/>
  <dc:title>7th Joint Coordination Workshop</dc:title>
</cp:coreProperties>
</file>