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move the slide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9"/>
          <p:cNvSpPr/>
          <p:nvPr/>
        </p:nvSpPr>
        <p:spPr>
          <a:xfrm>
            <a:off x="496800" y="401760"/>
            <a:ext cx="6105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0"/>
          <p:cNvSpPr/>
          <p:nvPr/>
        </p:nvSpPr>
        <p:spPr>
          <a:xfrm>
            <a:off x="496800" y="9529920"/>
            <a:ext cx="6105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hdr"/>
          </p:nvPr>
        </p:nvSpPr>
        <p:spPr>
          <a:xfrm>
            <a:off x="49032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22" descr="unfccc_logos+text"/>
          <p:cNvPicPr/>
          <p:nvPr/>
        </p:nvPicPr>
        <p:blipFill>
          <a:blip r:embed="rId2"/>
          <a:stretch/>
        </p:blipFill>
        <p:spPr>
          <a:xfrm>
            <a:off x="496800" y="9642600"/>
            <a:ext cx="6104160" cy="59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1"/>
          <p:cNvSpPr/>
          <p:nvPr/>
        </p:nvSpPr>
        <p:spPr>
          <a:xfrm>
            <a:off x="49068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7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33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47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3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4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8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9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0" descr="unfccc_schriftzug_big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1" descr="unfccc_logos_big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"/>
          </p:nvPr>
        </p:nvSpPr>
        <p:spPr>
          <a:xfrm>
            <a:off x="3276720" y="652464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2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0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1" descr="unfccc_schriftzug_big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unfccc_logos_big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3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UNFCCC secretariat, program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4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irstname Lastname, Job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Arial"/>
              </a:rPr>
              <a:t>Wrap-up session</a:t>
            </a:r>
            <a:br>
              <a:rPr sz="3000"/>
            </a:br>
            <a:br>
              <a:rPr sz="30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Sustainable Development Mechanisms Joint Coordination Workshop</a:t>
            </a:r>
            <a:endParaRPr b="0" lang="en-US" sz="18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24960" y="3922560"/>
            <a:ext cx="78822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aritim Hot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onn Germany, 24-25 March 20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b93dc"/>
                </a:solidFill>
                <a:latin typeface="Arial"/>
              </a:rPr>
              <a:t>Break-out session </a:t>
            </a:r>
            <a:r>
              <a:rPr b="1" i="1" lang="en-US" sz="1200" spc="-1" strike="noStrike">
                <a:solidFill>
                  <a:srgbClr val="4b93dc"/>
                </a:solidFill>
                <a:latin typeface="Arial"/>
              </a:rPr>
              <a:t>[1.2 CDM Project Cycle Calibration]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Main issues discus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NFCCC secretariat - Focus on post-registration process and Presentation of the implementation timeli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RM -Too much work for little chan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DM AP/RIT  - Right changes in the wrong ti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RM CVS - Changes are welcome but please allow more flexibility in the timeli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2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Action points /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93dc"/>
                </a:solidFill>
                <a:latin typeface="Arial"/>
              </a:rPr>
              <a:t>Recommending the Board to review the 1 October dea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07:29:01Z</dcterms:created>
  <dc:creator>lenz</dc:creator>
  <dc:description/>
  <dc:language>en-US</dc:language>
  <cp:lastModifiedBy>Laura Lenz</cp:lastModifiedBy>
  <cp:lastPrinted>2004-03-02T21:24:15Z</cp:lastPrinted>
  <dcterms:modified xsi:type="dcterms:W3CDTF">2012-03-24T16:30:53Z</dcterms:modified>
  <cp:revision>7</cp:revision>
  <dc:subject/>
  <dc:title>7th Joint Coordination Workshop</dc:title>
</cp:coreProperties>
</file>