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A6E-29BE-4C39-9B93-2D1BF5CF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8A4A-A24B-4E5E-8A6E-65C54D52A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553B-B99E-448F-AA35-5623D42EA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518C-E8E9-467C-ADA8-6077C89E1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3AB9-CB57-4B96-ADA2-BD45C2715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08D2-65C4-4C67-9E4C-E157CB134E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2A578-D106-4F83-BA72-8490313F8F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0FB3E-AF8E-490C-B592-B02445AF36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F8A32-F051-44F2-9A22-015E4E8A7C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E8A2B-734E-4FE3-82F8-4F854A6D6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4AA-070A-42D0-9D08-C9D17A5C57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DC9D-C28C-4FDE-9BE4-2AF38C91F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3BA9D-E8D3-47DD-9B20-3B8F24F574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F000-B546-4A8D-809D-5E77F1CD93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64EA-48F3-495D-B5DA-550E05A433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EB726-F1F4-420E-8A73-84C9B5355F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4C2DF-C542-47BE-9BEE-A265CE5046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9508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55120" y="11253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3504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9508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55120" y="3569760"/>
            <a:ext cx="25329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E3176-C95F-4787-AB96-30BB9CFF0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C0EF-D922-4054-8FC5-20035BC22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D410-3768-492D-8CAB-D10C390AD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266760"/>
            <a:ext cx="78692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8388-6481-4347-A2F7-3DCBFCFE4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7108-0D62-455B-A4E7-6E4C21E4E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697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766C-63AD-413E-A6E2-EB93B1F12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125360"/>
            <a:ext cx="3839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69760"/>
            <a:ext cx="78674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62CD-DDFD-47D6-909E-752741EA7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158E-0AA2-4E9C-AC1C-5A8A5370788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2268360" y="6517800"/>
            <a:ext cx="623592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68360" y="6248520"/>
            <a:ext cx="6235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de-DE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70D2-E665-4A3A-A4EC-89F131011A6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7120" y="3263760"/>
            <a:ext cx="788184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ey recent developments in the CDM and 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50880" y="170028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360" y="475776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Joint Coordination 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onn, Germany, 24-25 March 20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6353280"/>
            <a:ext cx="457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drew Howard, UNFCCC secretar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mechanisms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orities of CDM Executive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ments and directions in the C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ndardization and up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solidation and cla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ding the reach of the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orities of the JI Supervisory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ments and directions in Joint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3BF67-2099-4EE6-BBC7-4CF239C68215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The mechanisms today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ioneering market instruments with years of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ory framework added to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going focus on environmental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lementary focus on efficiency, clarity, extending reach of the mechanisms, engaging with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urban removed legal uncertainty on post-2012 CDM and 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erging market systems will change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mphasis on making the mechanisms “fit for the futur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y new regulatory aspects adopted recently – focus is now on ensuring their robust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8BA21-6D29-4335-A6A7-1722E5DFC0A9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DM prioritie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eater integrity, efficiency and enhanced predic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obje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suring timely processing of submi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ansion of the CDM’s reach and re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rther regulatory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outr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asures to promote regional dis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943C5-8DC6-413C-8A3C-76D527D697B4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DM improvements – standardization and upscaling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rationalizing standardized bas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ementation of the guidelines for their establ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rther guidelines to expand their applic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A/QC guidelines fo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 for their submission and consideration by th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dalities to support underrepresented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fied and simplified POA guid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ndard for additionality, eligibility criteria, multiple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mpling standard for reliability requirements and sampling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rst-of-its-kind and common practice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>
              <a:lnSpc>
                <a:spcPts val="2398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8CE52-0E11-4C4B-98FA-289A57A60343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DM improvements – consolidation and clarification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consolidated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ject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alidation and Verification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ject Cycle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0 old procedures, guidelines and clarifications now withdra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ated guidelines and forms now revised or gen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re consolidation this year on methodologies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going revision of accreditation standards and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coming work to guide application of mater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7C19-479C-4DEE-81D9-D2FAEEAD3FF3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DM improvements – extending its reach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ified procedures for microscale renewable projects qualifying for automatic addi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elines on suppress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orporation into 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coming improvement of the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p-down methodologies development for low-CDM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rationalizing the loan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pport for development, validation and first ve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ementing agency now getting establis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lnSpc>
                <a:spcPts val="2398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EBD8E-6CE7-416C-91A0-C548E0221895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JI priorities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197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SC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eater efficiency, clarity and 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motion of the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ibute to future development of 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d review procedures to strengthen electronic decision-making and accelerat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sed guidance on baseline setting and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FP Forum now esta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SC finances now stable (new fees, new project volu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ts val="2398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jor focus – new model design for future 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C5AE-D793-4AFD-83E4-7B0C14835982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144440"/>
            <a:ext cx="9144000" cy="458964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unfccc.int/c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unfccc.int/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r">
              <a:lnSpc>
                <a:spcPts val="36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52A28-6AF4-4B74-9D10-6B9D989BDBE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7:27:35Z</dcterms:created>
  <dc:creator>Howard</dc:creator>
  <dc:description/>
  <dc:language>en-US</dc:language>
  <cp:lastModifiedBy>Howard</cp:lastModifiedBy>
  <cp:lastPrinted>2004-03-02T21:24:15Z</cp:lastPrinted>
  <dcterms:modified xsi:type="dcterms:W3CDTF">2012-03-23T22:15:26Z</dcterms:modified>
  <cp:revision>139</cp:revision>
  <dc:subject/>
  <dc:title>TITLE HEADER</dc:title>
</cp:coreProperties>
</file>