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337608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Wrap-up sess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V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ule 4.1, Extension of simplified modalities for demonstration of additionality</a:t>
            </a: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br>
              <a:rPr sz="2400"/>
            </a:b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r. Peer Stiansen, CDM EB member</a:t>
            </a:r>
            <a:br>
              <a:rPr sz="2200"/>
            </a:br>
            <a:br>
              <a:rPr sz="34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47577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V, Module 4.1, Extension of simplified modalities for demonstration of additionality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9806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 pro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applied microscale additionality guidelines, 10 in LDCs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 mo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pplying the positive list of automatically additional technolog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 of the observed increase of microscale projec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LD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uld (hopefully) due to the guide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DNAs have submitted information on technologies – early ones need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ongoing simplific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keholder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uld be useful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-grid R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 electrifi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stock manure managemen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PoA: microscale threshold for units/technologies or CP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defini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special underdeveloped zone” (public input sought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sh list (not comprehens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regist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projects without validation (only secretariat review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thres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lusi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ity approach for (DSM) EE pro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idering ia. market penetration %, end user type, efficiency level. Benchmarking ? Shorter crediting period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of positive technologie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ware of free r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 ruli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dditionality of projects in LD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need for capacity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3336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V, Module 4.1, Extension of simplified modalities for demonstration of addi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ry-level policies are relevant to ensure uptake of microscale pro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 capital should be considered as one the main barri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Efficiency additional guidelines would help uptake in LD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pplication of the guidelines at the CPA level continues to limit PoA development, by increasing complexity and cost – address aggregation level to ease this bar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lists are to be developed while reducing the possibility of “free rider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uidelines should be further developed reflecting the need to maintain appropriate balances to achieve results and keep integr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se Submit your comments and sugg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onsideration by the Bo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V, Module 4.1, Extension of simplified modalities for demonstration of additionality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Miguel Naranjo Gonzalez</cp:lastModifiedBy>
  <cp:lastPrinted>2004-03-02T21:24:15Z</cp:lastPrinted>
  <dcterms:modified xsi:type="dcterms:W3CDTF">2012-03-25T11:21:01Z</dcterms:modified>
  <cp:revision>37</cp:revision>
  <dc:subject/>
  <dc:title>7th Joint Coordination Workshop</dc:title>
</cp:coreProperties>
</file>