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Validation and Verification Report Templates Module 3.4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UNFCCC: objective is increasing consistency of DOE reporting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urrently 7 forms are created: validation of PA, post registration changes, renewal of crediting period, PoA, CPA inclusion, verification, PoA verification, draft available based on forms of the DOE</a:t>
            </a:r>
            <a:br>
              <a:rPr sz="2000"/>
            </a:b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May 2012 stakeholder consultation, EB68 planned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- DOE: Content should follow the VVS, Pre-Defined statements,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   Avoid doubled information, exclude means of validation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   long-term digitized PDD as well.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GSP before DOE is contracted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PP uploads PDD.-&gt; full dig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RIT: Current forms based on VVM, evolved from IETA,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currently a lot of copy and paste from PDD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language often loose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, this causes request for review,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change should not be done now due to end of K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PD: Target: process should be as easy as online tax form, recommends the German EU ETS software, online interaction with DOE,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Simple, access from everywhere, traceable,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 Validation and Verification Report Templates Module 3.4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The UNFCCC was encouraged to reconsider the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Simplify the system, start from scr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onsistency of system, 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test the system 100 times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Focus 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Define target in consensus with market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: Should work from 2013 on, Webex to discuss development (UN confirmed this is pl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void doubl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Sven</cp:lastModifiedBy>
  <cp:lastPrinted>2004-03-02T21:24:15Z</cp:lastPrinted>
  <dcterms:modified xsi:type="dcterms:W3CDTF">2012-03-25T09:27:03Z</dcterms:modified>
  <cp:revision>16</cp:revision>
  <dc:subject/>
  <dc:title>7th Joint Coordination Workshop</dc:title>
</cp:coreProperties>
</file>