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3.1 </a:t>
            </a:r>
            <a:r>
              <a:rPr b="1" i="1" lang="en-GB" sz="1200" spc="-1" strike="noStrike">
                <a:solidFill>
                  <a:srgbClr val="4b93dc"/>
                </a:solidFill>
                <a:latin typeface="Arial"/>
              </a:rPr>
              <a:t>Enhanced Interaction and Direct Communicatio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Feedback on inputs recei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Not to club case-specific direct communication with other stakeholders inpu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Direct interaction of regulator with PP/DO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Implementation plan on project-specific direct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- Edito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- Cla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Summary/recording of direct communication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Feasibility of stakeholders comments after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3.1 </a:t>
            </a:r>
            <a:r>
              <a:rPr b="1" i="1" lang="en-GB" sz="1200" spc="-1" strike="noStrike">
                <a:solidFill>
                  <a:srgbClr val="4b93dc"/>
                </a:solidFill>
                <a:latin typeface="Arial"/>
              </a:rPr>
              <a:t>Enhanced Interaction and Direct Communicatio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Time period for inputs on annotated agenda – 1 week is too sh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The regulator decisions to be clear and unambigu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PPs/DOEs to have a direct channel for clarifications – help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FAQs on the UNFCCC websi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Stakeholder interaction with EB to be further streamlined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Interested stakeholders to sign for receiving emails – public c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Correia</cp:lastModifiedBy>
  <cp:lastPrinted>2004-03-02T21:24:15Z</cp:lastPrinted>
  <dcterms:modified xsi:type="dcterms:W3CDTF">2012-03-25T09:44:41Z</dcterms:modified>
  <cp:revision>7</cp:revision>
  <dc:subject/>
  <dc:title>7th Joint Coordination Workshop</dc:title>
</cp:coreProperties>
</file>