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, SDM/Standard Sett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Janak Shrestha, Programme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0930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rent Status- Extension of simplified modalities for demonstration of additionality of small scale CDM project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1280" y="4292640"/>
            <a:ext cx="78818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IRST SDM JOINT COORDINATION WORKSHOP,  Maritim Hotel, Bonn,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4 - 25 March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518328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ity demonstration of small scale CDM projects according to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icroscale projec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p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M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GWh/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nergy savings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kt CO2/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tion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lines for demonstrating additionality of microscale project activitie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B 54, May 2010)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utomaticaly  additional (conditions appl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gular small scale 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 MW, 60 GWh/y, 60 ktCO2/y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Attachment A to appendix B of simplified modalities and procedur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B7, 2003) for demonstration of additionality for)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rrier tes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34080" y="1701720"/>
            <a:ext cx="2994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Achievement in 2011 - “Attachment A of appendix B”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63 (Sept, 2011) approve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Positive Lists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connec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energy technologies of installed capacity up to 15M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ar PV and solar therm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 shore wi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ine technologies (wave, tid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chnologies are automatically defined as additional, without further documentation of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Solar panels"/>
          <p:cNvPicPr/>
          <p:nvPr/>
        </p:nvPicPr>
        <p:blipFill>
          <a:blip r:embed="rId1"/>
          <a:stretch/>
        </p:blipFill>
        <p:spPr>
          <a:xfrm>
            <a:off x="6156360" y="328608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Achievement in 2011 - Microscale Additionality Guidelines 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8678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B 60 expanded the guidelin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 III projec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activities with more than one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B 65 operational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for DNA Submission of Microscale Renewable Energy Technologies for Automatic Additionalit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=&lt; 5 MW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Impact of the Micro scale guideline and the positive list 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 apply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cro-scale guideli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til early Feb 201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projec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in LDCs, most of them are for households energy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 apply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sitive li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til early Feb 201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projects in validation ( solar electricity generation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 (21), Thailand (4), South Korea (3), and China 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Ongoing work</a:t>
            </a:r>
            <a:br>
              <a:rPr sz="2400"/>
            </a:b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3600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of Small scale additionality guidelines: ( based on CMP/EB requests, public input, bottom up submiss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of positive list to off-grid renewable energy  technologies (e.g., micro hydro, wind-PV hybrid) and distributed energy supply (e.g., household biogas digester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 EB63/public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dditionality for rural electrification project activity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CMP/.7 / NM07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dditionality for livestock manure management technology which capture and combust methan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put from S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ness of microscale thresholds in the case of CPA (applied to the technology/unit level vs  CPA level 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public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789440" y="4221000"/>
            <a:ext cx="3095640" cy="1725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03280" y="4221000"/>
            <a:ext cx="223200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Next step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13600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inputs through broa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s/practitioners ( teleconferences, call for public inpu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our inputs are  critical to make it happ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78678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93dc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44000"/>
            <a:ext cx="80359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icroscale additionality guideline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1840" y="1052640"/>
            <a:ext cx="88218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rier due to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Si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nders project additional (conditions appl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2 (a) S size in CDM:  =&lt;5MW, =&lt;20 GWh/y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=&lt;20kt/y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2 (b) Geographical lo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LDCs OR underdeveloped zones OR off gr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as in D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2 (c) End us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distributed 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echnologies are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ouseholds/communities/SM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 (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pecific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RE technologie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with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low share in grid-electricity mix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8:35:09Z</dcterms:created>
  <dc:creator>shrestha</dc:creator>
  <dc:description/>
  <dc:language>en-US</dc:language>
  <cp:lastModifiedBy>shrestha</cp:lastModifiedBy>
  <cp:lastPrinted>2004-03-02T21:24:15Z</cp:lastPrinted>
  <dcterms:modified xsi:type="dcterms:W3CDTF">2012-03-25T09:13:14Z</dcterms:modified>
  <cp:revision>39</cp:revision>
  <dc:subject/>
  <dc:title>TITLE HEADER</dc:title>
</cp:coreProperties>
</file>