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273480" y="63453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Motoharu Yamaza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FCCC secretariat (SDM Program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2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3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lignment of CDM and JI accreditation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24960" y="403848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5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Sustainable Development Mechanisms Joint Coordination Workshop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, Germany, 24-25 March 201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FCCC secretari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b93dc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5040" y="976320"/>
            <a:ext cx="78692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4960" indent="-26496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DM accreditation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200" indent="-2653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itially adopted in Aug 2002, currently ver. 1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200" indent="-2653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jor revision took place at ver. 9 revision (Mar 2009), replacing all “witnessing activities” with “performance assessment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200" indent="-2653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ddition to the accreditation procedure, CDM EB introduced “DOE performance monitoring framework” in Nov. 2010, as complementary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I accreditation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200" indent="-2653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itially adopted in Sep 2006, currently ver.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200" indent="-2653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jor revision took place at ver. 5 revision (Sep 2009) and ver. 6 revision (Apr 2010), reducing the role of “witnessing activities”, and at ver. 7 revision (Sep 2011), finally replacing witnessing activities with “performance assessment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b93dc"/>
                </a:solidFill>
                <a:latin typeface="Arial"/>
              </a:rPr>
              <a:t>CDM/JI accreditation process comparison</a:t>
            </a:r>
            <a:endParaRPr b="0" lang="en-US" sz="1600" spc="-1" strike="noStrike">
              <a:solidFill>
                <a:srgbClr val="4b93dc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11280" y="1268280"/>
          <a:ext cx="7991280" cy="4368600"/>
        </p:xfrm>
        <a:graphic>
          <a:graphicData uri="http://schemas.openxmlformats.org/drawingml/2006/table">
            <a:tbl>
              <a:tblPr/>
              <a:tblGrid>
                <a:gridCol w="1344600"/>
                <a:gridCol w="3335400"/>
                <a:gridCol w="3311280"/>
              </a:tblGrid>
              <a:tr h="43632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M accreditation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I accreditation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049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ver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M 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M-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M-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I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I-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I-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29384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ssment ste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k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-site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ular surveill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-accreditation (every 3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k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-site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ular surveill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-accreditation (every 5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3812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M accreditation standard (ver 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I accreditation standard (ver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9040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ties accredi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 (as of 23 Mar 20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(as of 23 Mar 20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04960"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E performance monitoring frame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ual activity 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54000" rIns="54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93dc"/>
                </a:solidFill>
                <a:latin typeface="Arial"/>
              </a:rPr>
              <a:t>Mandates</a:t>
            </a:r>
            <a:endParaRPr b="0" lang="en-US" sz="1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5040" y="907920"/>
            <a:ext cx="78692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4960" indent="-26496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ISC, when making the latest revision of JI accreditation procedure, agreed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200" indent="-2653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ign the steps of JI accreditation procedure with the steps of CDM accreditation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200" indent="-2653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ign with the elements of the process (procedure, standard and functioning) easily implementable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200" indent="-2653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k views of CDM EB on aligning the CDM and JI accreditation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200" indent="-2653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lore the feasibility of full integration of CDM and JI accreditation processes including accreditation pa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DM EB endorsed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200" indent="-2653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llaborate between CDM-AP and JI-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P encouraged JISC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200" indent="-2653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inue to streamline JI accreditation process, including efforts to align with CDM accreditation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b93dc"/>
                </a:solidFill>
                <a:latin typeface="Arial"/>
              </a:rPr>
              <a:t>Questions</a:t>
            </a:r>
            <a:endParaRPr b="0" lang="en-US" sz="1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5040" y="976320"/>
            <a:ext cx="78692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1440" indent="-271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areas of CDM and JI accreditation processes can be further improv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priority areas for alignment in the short term (in the context of Marrakech Accords framework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lignment is preferable in the long-term (in the context of future mechanism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2440" indent="-627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te: Under the CDM, in accordance with CDM Management Plan 2012, a project to improve the performance and role-definition of operational entities within the mechanism,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including through revised standards and procedure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will be conducted this ye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8:33:53Z</dcterms:created>
  <dc:creator>Yamazaki</dc:creator>
  <dc:description/>
  <dc:language>en-US</dc:language>
  <cp:lastModifiedBy>Yamazaki</cp:lastModifiedBy>
  <cp:lastPrinted>2004-03-02T21:24:15Z</cp:lastPrinted>
  <dcterms:modified xsi:type="dcterms:W3CDTF">2012-03-23T10:37:58Z</dcterms:modified>
  <cp:revision>19</cp:revision>
  <dc:subject/>
  <dc:title>REVISION OF TERMS OF REFERENCE OF PANELS AND WORKING GROUPS</dc:title>
</cp:coreProperties>
</file>