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hirendra Ku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m.unfccc.int/" TargetMode="External"/><Relationship Id="rId2" Type="http://schemas.openxmlformats.org/officeDocument/2006/relationships/hyperlink" Target="http://cdm.unfccc.int/" TargetMode="External"/><Relationship Id="rId3" Type="http://schemas.openxmlformats.org/officeDocument/2006/relationships/hyperlink" Target="mailto:Cdm-info@unfccc.int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7840" y="2565360"/>
            <a:ext cx="8281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ODULE 3.1</a:t>
            </a:r>
            <a:br>
              <a:rPr sz="2800"/>
            </a:br>
            <a:br>
              <a:rPr sz="28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RECT COMMUNICATION ON CASE SPECIFIC ISSUE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SDM Joint Coordination Workshop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onn, Germany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de-DE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March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PE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UN Climate Change Secretariat, SD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680" y="1910880"/>
            <a:ext cx="660096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P Requirements on Dire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 Communication – Issues of Editorial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Communication – Clarifications 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306360"/>
            <a:ext cx="8893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Outline of the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309240"/>
            <a:ext cx="88934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PCP Requirements on Direct Communication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770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622520"/>
          <a:ext cx="8424360" cy="3246480"/>
        </p:xfrm>
        <a:graphic>
          <a:graphicData uri="http://schemas.openxmlformats.org/drawingml/2006/table">
            <a:tbl>
              <a:tblPr/>
              <a:tblGrid>
                <a:gridCol w="1684440"/>
                <a:gridCol w="1684800"/>
                <a:gridCol w="1685880"/>
                <a:gridCol w="1684800"/>
                <a:gridCol w="1684440"/>
              </a:tblGrid>
              <a:tr h="648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 / S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 (Editor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C (Editor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C (Clarific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/ SN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1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1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1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2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al of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1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P (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Direct Communication – Issues of Editorial Nature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836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or issues of editorial nature identified during the Completeness Checks (CC) or Information &amp; Reporting Check (IRC), Secretariat will try their best to notify the DOE within defined timeline (7 days for CC &amp; 23 days for IRC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or cases for which similar issues are identified by Secretariat in the last two days of the CC / IRC timeline, at least the notification will be sent to the DOE within defined timelin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or such exceptional cases (as above), the conclusion of CC / IRC is expected to be delayed by 1 or 2 days than the defined timelin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will make public the list of issues of editorial nature for Completeness Check and Information &amp; Reporting Check by 1st May 20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ssing documents would be treated in line with the current practi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Direct Communication – Clarifications on issues</a:t>
            </a:r>
            <a:endParaRPr b="0" lang="en-US" sz="2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836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will make public the dedicated e-mail address for this communication before 1st May 20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 simplify the screening of e-mails meant for direct communication, the subject line of the e-mail will be communicated before 1</a:t>
            </a:r>
            <a:r>
              <a:rPr b="0" lang="en-GB" sz="1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May 20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will notify the DOE or PP/CME about the date of the telephone call appointment within 3 days of such request received and subsequently the teleconference will be organized on the mutually agreed date and time slot in future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y authorized person from a DOE can be the contact point for the  teleconferenc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contact point from a PP/CME for the teleconference shall either be the project specific focal point itself or the person authorized by the project specific focal poin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34680" y="1263240"/>
            <a:ext cx="385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0640" indent="0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20640" indent="0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311560" y="1125360"/>
          <a:ext cx="4679640" cy="3549960"/>
        </p:xfrm>
        <a:graphic>
          <a:graphicData uri="http://schemas.openxmlformats.org/drawingml/2006/table">
            <a:tbl>
              <a:tblPr/>
              <a:tblGrid>
                <a:gridCol w="4679640"/>
              </a:tblGrid>
              <a:tr h="3549960">
                <a:tc>
                  <a:txBody>
                    <a:bodyPr lIns="190440" rIns="190440" tIns="190440" bIns="19044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or more informa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a8d6bc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http://</a:t>
                      </a:r>
                      <a:r>
                        <a:rPr b="0" lang="en-US" sz="2000" spc="-1" strike="noStrike" u="sng">
                          <a:solidFill>
                            <a:srgbClr val="a8d6bc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dm.unfccc.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quiries can be sent 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a8d6bc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dm-info@unfccc.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440" marR="19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712880" y="2421000"/>
            <a:ext cx="5969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19:22Z</dcterms:created>
  <dc:creator>akumar</dc:creator>
  <dc:description/>
  <dc:language>en-US</dc:language>
  <cp:lastModifiedBy>Correia</cp:lastModifiedBy>
  <cp:lastPrinted>2004-03-02T21:24:15Z</cp:lastPrinted>
  <dcterms:modified xsi:type="dcterms:W3CDTF">2012-03-23T09:51:24Z</dcterms:modified>
  <cp:revision>56</cp:revision>
  <dc:subject/>
  <dc:title>EB 60 - REGISTRATION REVIEW CASES Following new review procedures adopted at EB55</dc:title>
</cp:coreProperties>
</file>