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ts val="5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move the slide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9"/>
          <p:cNvSpPr/>
          <p:nvPr/>
        </p:nvSpPr>
        <p:spPr>
          <a:xfrm>
            <a:off x="496800" y="401760"/>
            <a:ext cx="6105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5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20"/>
          <p:cNvSpPr/>
          <p:nvPr/>
        </p:nvSpPr>
        <p:spPr>
          <a:xfrm>
            <a:off x="496800" y="9529920"/>
            <a:ext cx="6105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5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hdr"/>
          </p:nvPr>
        </p:nvSpPr>
        <p:spPr>
          <a:xfrm>
            <a:off x="490320" y="154080"/>
            <a:ext cx="6103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Picture 22" descr="unfccc_logos+text"/>
          <p:cNvPicPr/>
          <p:nvPr/>
        </p:nvPicPr>
        <p:blipFill>
          <a:blip r:embed="rId2"/>
          <a:stretch/>
        </p:blipFill>
        <p:spPr>
          <a:xfrm>
            <a:off x="496800" y="9642600"/>
            <a:ext cx="6104160" cy="59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1"/>
          <p:cNvSpPr/>
          <p:nvPr/>
        </p:nvSpPr>
        <p:spPr>
          <a:xfrm>
            <a:off x="490680" y="154080"/>
            <a:ext cx="61038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tit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1"/>
          <p:cNvSpPr/>
          <p:nvPr/>
        </p:nvSpPr>
        <p:spPr>
          <a:xfrm>
            <a:off x="490680" y="154080"/>
            <a:ext cx="61038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tit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71440" indent="-271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is an initial attempt to explore elements of the CDM that could be used by new mech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7E26E-D9AB-4A9F-A318-769829471C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54154-7ED2-4CF1-B2F7-778AFAF252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4F630-43A9-49B5-A543-2C19A83A5A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73A13-83D4-4E46-9A0E-36DFECD91A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5B12F-AE22-4DC7-BA6E-9D4262BBBF2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E3CED-9628-4505-B51C-8CF4F52FDCA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30D43-8CBD-4CD3-B05D-510DDA4705E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0BECD-C1C8-437B-BC74-9CB8F77BA1B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C31BE-E6CC-4F1A-AD32-19B7E5E532E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E16A9-39FF-437B-BDC7-262FC9C67BA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207C6-8CB1-4A0B-B817-76A869E4E3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B4615-E89E-4281-BD08-F4079D5175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61EF0-C1FE-4DFA-908C-1056433F43A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EFBD4-FCE1-40BB-99A4-14A300E0774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53258-6889-4100-A5E2-7E325E9E228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2E92B-8FCB-4806-990E-C880F84449C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EC79B-205E-4AF1-BE5B-C283CE2BCBC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F67E-8ED2-41B9-A639-356DFE42847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16A8-FFD2-4CB6-AB9F-B67B5B4826D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BC98-0125-444F-997E-490AE2E2C56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E1CB-C964-4D4F-BA52-1CB357392FC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EE3C-C9EF-4DC7-8FCE-E310C17F94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26525-028D-4F5B-AE8A-ADFACAE4DE3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F4F0-362A-4D0A-B294-29B2BCB5842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7A50-11EB-4E16-B30A-B83C6EA2455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7F0A-5EA4-4082-976B-66FF4E0CDF2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5FED-9226-4B53-A691-B6927676AFF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3216-F5CB-43C0-B2D5-32206627671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F4A4-A95F-4B94-A197-FA107BBB1B5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FA5B-60D5-4490-9F3A-4F47E39B639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2A71D6-E2C4-434D-ABBA-082C818058C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14BE36-CB6E-40EC-AFEA-78EB1BDEB0F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BC0127-E6C8-4A49-BF51-E6B64DAEC8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52F36-389D-49AC-9AD8-8FFE1710DF4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311E4C-9A11-4E76-87F7-B9CA8EF673C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C7725E-EF78-4ACF-B87B-21B9C75FBAA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B7ABAF-8AB8-4FCC-9A9D-ACCA7D5C447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5E88F7-9A24-46AF-BD3B-EE318990E5E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2FB08B-B588-48D0-8C3B-D1BD81A1066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4E64A5-324B-4069-A65C-2D3D117E961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BE7A1C-FE84-4AB9-BEAA-76BF350B858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F74CAA-38D5-45E0-9B00-6CD3C166835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098CB4-5D56-43EC-986A-F612DB21F4E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2ED30-5F67-4F17-A0C9-E16EB01FF91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CA54E-2A2E-430D-B999-14617886FA4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B8F04-D4E2-4DE9-9D92-A549CAB4C93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A98BA-EBE1-4A95-9F1F-CCD383F4EF8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DC079-9ABC-43C4-9001-C71956E0C5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6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5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27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5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33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5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5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32F8A-151D-48A9-8FE4-F720801C0F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5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5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3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5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Line 14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5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FB044-CA56-4B31-B0BC-F4DDA6C28B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5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5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7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5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Line 8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5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09365-DDF0-425A-98E0-D79D482CAF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5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5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6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5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7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5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B2C10-CD7E-4CB8-BB82-DF1E014F77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4"/>
          <p:cNvSpPr/>
          <p:nvPr/>
        </p:nvSpPr>
        <p:spPr>
          <a:xfrm>
            <a:off x="0" y="1265400"/>
            <a:ext cx="9144000" cy="432576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5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38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5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39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5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40" descr="unfccc_schriftzug_big"/>
          <p:cNvPicPr/>
          <p:nvPr/>
        </p:nvPicPr>
        <p:blipFill>
          <a:blip r:embed="rId2"/>
          <a:stretch/>
        </p:blipFill>
        <p:spPr>
          <a:xfrm>
            <a:off x="577800" y="309600"/>
            <a:ext cx="7866000" cy="31428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5"/>
          </p:nvPr>
        </p:nvSpPr>
        <p:spPr>
          <a:xfrm>
            <a:off x="3273480" y="650556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DM Program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0" y="1262160"/>
            <a:ext cx="9144000" cy="432576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5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9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5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10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5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11" descr="unfccc_schriftzug_big"/>
          <p:cNvPicPr/>
          <p:nvPr/>
        </p:nvPicPr>
        <p:blipFill>
          <a:blip r:embed="rId2"/>
          <a:stretch/>
        </p:blipFill>
        <p:spPr>
          <a:xfrm>
            <a:off x="577800" y="309600"/>
            <a:ext cx="7866000" cy="31428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6"/>
          </p:nvPr>
        </p:nvSpPr>
        <p:spPr>
          <a:xfrm>
            <a:off x="3273480" y="650556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DM Program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7"/>
          </p:nvPr>
        </p:nvSpPr>
        <p:spPr>
          <a:xfrm>
            <a:off x="3273480" y="626112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Times New Roman"/>
              </a:rPr>
              <a:t>UNFCCC secretari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0" y="1265400"/>
            <a:ext cx="9144000" cy="432576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5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7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5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Line 8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5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Picture 9" descr="unfccc_schriftzug_big"/>
          <p:cNvPicPr/>
          <p:nvPr/>
        </p:nvPicPr>
        <p:blipFill>
          <a:blip r:embed="rId2"/>
          <a:stretch/>
        </p:blipFill>
        <p:spPr>
          <a:xfrm>
            <a:off x="577800" y="309600"/>
            <a:ext cx="7866000" cy="3142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8"/>
          </p:nvPr>
        </p:nvSpPr>
        <p:spPr>
          <a:xfrm>
            <a:off x="3273480" y="650556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DM Program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9"/>
          </p:nvPr>
        </p:nvSpPr>
        <p:spPr>
          <a:xfrm>
            <a:off x="3273480" y="626112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Times New Roman"/>
              </a:rPr>
              <a:t>UNFCCC secretari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1915920"/>
            <a:ext cx="8856720" cy="13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2712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Implementation of the Suppressed Demand Guidelines in New and Existing SSC Methodologies</a:t>
            </a:r>
            <a:endParaRPr b="0" lang="en-US" sz="45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11" name="Rectangle 36"/>
          <p:cNvSpPr/>
          <p:nvPr/>
        </p:nvSpPr>
        <p:spPr>
          <a:xfrm>
            <a:off x="3273480" y="6505560"/>
            <a:ext cx="52308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37"/>
          <p:cNvSpPr/>
          <p:nvPr/>
        </p:nvSpPr>
        <p:spPr>
          <a:xfrm>
            <a:off x="3913200" y="5770440"/>
            <a:ext cx="52308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Carolyn Luce, Small Scale Working Group Memb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650880" y="1413000"/>
            <a:ext cx="788184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468360" y="4365720"/>
            <a:ext cx="788184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FIRST SDM JOINT COORDINATION WORKSHOP,  Maritim Hotel, Bonn, German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24 - 25 March 20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B7B16-58EC-4B92-AAF4-CC1004A9F5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 Box 2"/>
          <p:cNvSpPr/>
          <p:nvPr/>
        </p:nvSpPr>
        <p:spPr>
          <a:xfrm>
            <a:off x="179280" y="115920"/>
            <a:ext cx="8785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Calibri"/>
              </a:rPr>
              <a:t>Approach for baseline emission intens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 Box 3"/>
          <p:cNvSpPr/>
          <p:nvPr/>
        </p:nvSpPr>
        <p:spPr>
          <a:xfrm>
            <a:off x="179280" y="765000"/>
            <a:ext cx="8785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dentify various alternative measures available to the PPs that satisfy the same need as the need satisfied by the project activity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iminate alternatives not in compliance with law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nk the remaining in order of quality of the service provided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ess them in the sequence identified in step 3 and eliminate alternatives that faces barrier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first alternative not eliminated by step 4  is the baseline (</a:t>
            </a:r>
            <a:r>
              <a:rPr b="0" lang="en-AU" sz="2400" spc="-1" strike="noStrike">
                <a:solidFill>
                  <a:srgbClr val="000099"/>
                </a:solidFill>
                <a:latin typeface="Arial"/>
              </a:rPr>
              <a:t>needs to be updated regularly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A8028-70BA-4C81-BFCD-62971E3415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Text Box 2"/>
          <p:cNvSpPr/>
          <p:nvPr/>
        </p:nvSpPr>
        <p:spPr>
          <a:xfrm>
            <a:off x="611280" y="189000"/>
            <a:ext cx="7850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Calibri"/>
              </a:rPr>
              <a:t>Approach for baseline level of servi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179280" y="836640"/>
            <a:ext cx="87854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09480" indent="-6094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re the level of service of the project activity cannot be met with the baseline measure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eline level of service =  Minimum level of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inimum service level is determined based 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tional/international peer reviewed research or relevant studie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nchmarks that take into account that emissions will rise to achieve the international/national development go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34680" y="115920"/>
            <a:ext cx="786924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b93dc"/>
                </a:solidFill>
                <a:latin typeface="Calibri"/>
                <a:ea typeface="Calibri"/>
              </a:rPr>
              <a:t>Opportunities for Stakeholder Input</a:t>
            </a:r>
            <a:endParaRPr b="0" lang="en-US" sz="3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35040" y="1052280"/>
            <a:ext cx="7867440" cy="45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lvl="1" marL="624960" indent="-27684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 Proposed new method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4960" indent="-27684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4960" indent="-27684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 Request for revision of methodolog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4960" indent="-2768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4960" indent="-27684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 Teleconferenc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4960" indent="-27684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4960" indent="-27684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 Calls for public inputs, including comments on draft revisions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4960" indent="-27684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4960" indent="-276840">
              <a:lnSpc>
                <a:spcPts val="2398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dicated methodology worksh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4960" indent="-276840">
              <a:lnSpc>
                <a:spcPts val="2398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4960" indent="-27684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4960" indent="-27684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4b93dc"/>
                </a:solidFill>
                <a:latin typeface="Arial"/>
              </a:rPr>
              <a:t>Your input is welcome …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4960" indent="-27684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4b93dc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4b93dc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4b93dc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4b93dc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4b93dc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4b93dc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4b93d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4960" indent="-27684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4b93dc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4b93dc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4b93dc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4b93dc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4b93dc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4b93dc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4b93dc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4b93dc"/>
                </a:solidFill>
                <a:latin typeface="Arial"/>
              </a:rPr>
              <a:t>Thank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4960" indent="-27684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4960" indent="-27684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4960" indent="-276840">
              <a:lnSpc>
                <a:spcPts val="2398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4960" indent="-276840">
              <a:lnSpc>
                <a:spcPts val="2398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3EA0C-9A68-4126-96A4-F4F56C5162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DCC1C-9062-45E4-9BA4-8CE5DC1398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2"/>
          <p:cNvSpPr/>
          <p:nvPr/>
        </p:nvSpPr>
        <p:spPr>
          <a:xfrm>
            <a:off x="971640" y="189000"/>
            <a:ext cx="633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93dc"/>
                </a:solidFill>
                <a:latin typeface="Arial"/>
              </a:rPr>
              <a:t>OVER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179280" y="1125360"/>
            <a:ext cx="8785440" cy="25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09480" indent="-609480">
              <a:lnSpc>
                <a:spcPts val="2999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ew defin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ts val="2999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D Work Program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ts val="2999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itized Methodolog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ts val="25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roman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 for Revisions/Approa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ts val="25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roman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rther Stakeholder Inp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3D917-D336-4860-9FA1-109E0E3290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2"/>
          <p:cNvSpPr/>
          <p:nvPr/>
        </p:nvSpPr>
        <p:spPr>
          <a:xfrm>
            <a:off x="468360" y="0"/>
            <a:ext cx="770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Calibri"/>
              </a:rPr>
              <a:t>SD Guidelines </a:t>
            </a:r>
            <a:r>
              <a:rPr b="1" lang="es-ES" sz="3600" spc="-1" strike="noStrike">
                <a:solidFill>
                  <a:srgbClr val="3366ff"/>
                </a:solidFill>
                <a:latin typeface="Calibri"/>
              </a:rPr>
              <a:t>– </a:t>
            </a:r>
            <a:r>
              <a:rPr b="1" lang="en-US" sz="3600" spc="-1" strike="noStrike">
                <a:solidFill>
                  <a:srgbClr val="3366ff"/>
                </a:solidFill>
                <a:latin typeface="Calibri"/>
              </a:rPr>
              <a:t>Scope and Applicability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324000" y="1125360"/>
            <a:ext cx="8640720" cy="34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pplicable when the minimum service level is not met, eg. For basic lighting, purified water, water treatment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rovides methodological approaches for two issu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identification of the </a:t>
            </a:r>
            <a:r>
              <a:rPr b="0" lang="en-AU" sz="2400" spc="-1" strike="noStrike">
                <a:solidFill>
                  <a:srgbClr val="000099"/>
                </a:solidFill>
                <a:latin typeface="Arial"/>
              </a:rPr>
              <a:t>baseline measure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under a suppressed demand situation;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identification of the </a:t>
            </a:r>
            <a:r>
              <a:rPr b="0" lang="en-AU" sz="2400" spc="-1" strike="noStrike">
                <a:solidFill>
                  <a:srgbClr val="000099"/>
                </a:solidFill>
                <a:latin typeface="Arial"/>
              </a:rPr>
              <a:t>baseline service level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that should be used to calculate baseline emissions in a suppressed demand situ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03A94-4C48-428A-B8FC-0D4173561A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2"/>
          <p:cNvSpPr/>
          <p:nvPr/>
        </p:nvSpPr>
        <p:spPr>
          <a:xfrm>
            <a:off x="1116000" y="189000"/>
            <a:ext cx="63356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3366ff"/>
                </a:solidFill>
                <a:latin typeface="Calibri"/>
              </a:rPr>
              <a:t>Definitions from the Guidelin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250920" y="765000"/>
            <a:ext cx="8534160" cy="42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09480" indent="-6094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"/>
              </a:rPr>
              <a:t>Minimum service level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rvice level that is able to meet basic human needs (e.g. basic housing, basic energy services including lighting, cooking, drinking water suppl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"/>
              </a:rPr>
              <a:t>Income effect: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Occurs when the demand for a service would increase over time in the baseline scenario as a result of an increase of inco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"/>
              </a:rPr>
              <a:t>Rebound effect: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Occurs when the demand for a service would increase as a result of the decreased cost of the service per unit in the project scenario.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84358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ff"/>
                </a:solidFill>
                <a:latin typeface="Calibri"/>
              </a:rPr>
              <a:t>Work programme on SD Guidelines (1)</a:t>
            </a:r>
            <a:endParaRPr b="0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250560" y="836640"/>
            <a:ext cx="828180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77200" indent="-2772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Existing Methodologi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346320">
              <a:lnSpc>
                <a:spcPts val="2398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0c0"/>
                </a:solidFill>
                <a:latin typeface="Arial"/>
              </a:rPr>
              <a:t>Scan methodologies to ass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346320">
              <a:lnSpc>
                <a:spcPts val="2398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8120" indent="-2768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suppressed demand has been already addre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8120" indent="-276840">
              <a:lnSpc>
                <a:spcPts val="2398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8120" indent="-2768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suppressed demand is relevan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8120" indent="-276840">
              <a:lnSpc>
                <a:spcPts val="2398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346320">
              <a:lnSpc>
                <a:spcPts val="2398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0c0"/>
                </a:solidFill>
                <a:latin typeface="Arial"/>
              </a:rPr>
              <a:t>Prioritize methodologies for revision, taking into accou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8120" indent="-2768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tinence of minimum servic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8120" indent="-276840">
              <a:lnSpc>
                <a:spcPts val="2398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8120" indent="-2768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iority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8120" indent="-276840">
              <a:lnSpc>
                <a:spcPts val="2398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88120" indent="-2768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tential for improving regional distribution of C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8120" indent="-276840">
              <a:lnSpc>
                <a:spcPts val="2398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8120" indent="-2768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age rate of the 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ACCE5-9C85-42D5-8F78-4AD9DCCB4E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ff"/>
                </a:solidFill>
                <a:latin typeface="Calibri"/>
              </a:rPr>
              <a:t>Work programme on SD Guidelines (2)</a:t>
            </a:r>
            <a:endParaRPr b="0" lang="en-US" sz="36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539280" y="1125000"/>
            <a:ext cx="786780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259920" indent="-259920">
              <a:lnSpc>
                <a:spcPts val="2398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Arial"/>
              </a:rPr>
              <a:t>Define the minimum service level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methodolog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ts val="2398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32472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using international/national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32472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ts val="2398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70c0"/>
                </a:solidFill>
                <a:latin typeface="Arial"/>
              </a:rPr>
              <a:t>Request input from DNAs, stakeholders and practitioner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32472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) Teleconferenc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32472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) Call for public inputs, including comments on draft revisions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32472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) Dedicated methodology workshop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ts val="2398"/>
              </a:lnSpc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Arial"/>
              </a:rPr>
              <a:t>Assessment of the draft revised methodologies by SSC WG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ts val="2398"/>
              </a:lnSpc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ts val="2398"/>
              </a:lnSpc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CDBA-4742-427D-BECE-85893D6F8D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34680" y="115920"/>
            <a:ext cx="786924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b93dc"/>
                </a:solidFill>
                <a:latin typeface="Calibri"/>
                <a:ea typeface="Calibri"/>
              </a:rPr>
              <a:t>SSC Meths where SD is taken into account</a:t>
            </a:r>
            <a:br>
              <a:rPr sz="3600"/>
            </a:br>
            <a:endParaRPr b="0" lang="en-US" sz="3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635040" y="1052280"/>
            <a:ext cx="7867440" cy="45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259200" indent="-259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MS-I.A.  Electricity generation by the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MS-I.D.  Grid-connect reneable electricity gener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.E.  Switch from non-renewable biomass for thermal applications by the us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MS-I.K.   Solar cookers for househo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MS-I.L .   Electrification of rural communities using renewable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MS-II.G.   Energy efficiency measures in thermal applications of non-renewable bioma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MS-III.AV.   Low greenhouse gas emitting water purification syste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2FC27-5354-4E2C-B198-6902B13627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34680" y="115920"/>
            <a:ext cx="786924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b93dc"/>
                </a:solidFill>
                <a:latin typeface="Calibri"/>
                <a:ea typeface="Calibri"/>
              </a:rPr>
              <a:t>SSC Meths prioritized for revision  </a:t>
            </a:r>
            <a:br>
              <a:rPr sz="3600"/>
            </a:br>
            <a:endParaRPr b="0" lang="en-US" sz="3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35040" y="1052280"/>
            <a:ext cx="7867440" cy="45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MS-I.A.  Electricity generation by the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II.AR  Substituting fossil fuel based lighting with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LED/CFL lighting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…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D7CD8-6EB1-41A5-B703-4CF72D9268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34680" y="115920"/>
            <a:ext cx="786924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b93dc"/>
                </a:solidFill>
                <a:latin typeface="Calibri"/>
                <a:ea typeface="Calibri"/>
              </a:rPr>
              <a:t>Requests for Revisions</a:t>
            </a:r>
            <a:endParaRPr b="0" lang="en-US" sz="3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635040" y="1052280"/>
            <a:ext cx="7867440" cy="45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s for revisions of  methodologies to take into account SD Guidelines are welcom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cently received requests for revisions includ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MS-III.F  Avoidance of methane emissions through compo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II.AR  Substituting fossil fuel based lighting with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LED/CFL lighting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…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B0B93-3A5A-49CE-B8FB-9C1EEF244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1T13:27:45Z</dcterms:created>
  <dc:creator>malnaric</dc:creator>
  <dc:description/>
  <dc:language>en-US</dc:language>
  <cp:lastModifiedBy>C. Luce</cp:lastModifiedBy>
  <cp:lastPrinted>2004-03-02T21:24:15Z</cp:lastPrinted>
  <dcterms:modified xsi:type="dcterms:W3CDTF">2012-03-23T23:27:10Z</dcterms:modified>
  <cp:revision>207</cp:revision>
  <dc:subject/>
  <dc:title>TITLE HEADER</dc:title>
</cp:coreProperties>
</file>