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E92-FD8F-4E6C-89DB-6EEE3C24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CDB-EAA0-4C1A-BE4A-8D5C7CCD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5FF-6B27-4572-AA94-AEB5FEAE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47C-9418-4A11-AFE6-4C940F67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C61A-A489-42F7-8158-2E585C48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20F5-5A9B-4BFC-9157-4164C501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1546-E036-4AF1-A8FB-3D6306F5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E342-91CF-4E9A-9748-615ADF78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070D-42DF-4C7C-BB25-B80CA509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9C98-D6A0-4B42-B445-F2981705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856A-B099-4D9C-8567-CBD6BC1F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0D8-83D5-4227-9EE2-A3CB7293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DA39-08A1-4154-B8C0-FA965123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3EA8-780A-46DB-8AB8-06488F7F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2D9E-1C9B-4FF2-874E-411CCB40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C356-0BFC-4369-B3C7-78405BE5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16C4-7B74-4691-A6AF-722D3ACA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5A48-30EF-4010-A194-A970E422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3DB22-A50E-4BD5-AF55-58B2AB66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50EA-7D23-4882-8410-40D018C3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AA54-50FC-41CE-ADAB-4F2E495C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5784-2503-437B-94F5-6CA50A76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359-D47D-4265-9136-9D680D5B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25D9A-F095-4E05-AE0C-529249B4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AD5A-609C-4774-8A18-1FFC6B5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47B96-EFE4-4917-AD53-4D2FE6D5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EAEB-EEB8-4A57-AC0C-9D81466D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FBB5-0FC1-4842-821D-C3D03B19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654A-5341-4EDE-B808-F589EE27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F16AF-6DED-4457-A1C1-5498E279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CEF6B-89A8-4F99-A2BC-D1D0C6EF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2FECD-E4EC-4638-8D9B-31A64F1C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85D5F-09AC-4151-9655-EC379541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15F-BAE0-4DF7-9A65-2FC70396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A2D86-7848-4837-B093-30FAC4B4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D3B53-5FFB-45E4-B5F0-A4565F00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D6B077-D436-4196-ADCA-B03A2B26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5FA54-6890-44FD-8D55-D336B75C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EFF64-CF25-43D1-852A-B9BBE8F4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ADED6-F2A3-4FA5-B866-7C0730A8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DA571-9945-4D1D-8DD3-CD856A63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77B7B-732B-4445-906C-7911F06E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4B405-BB89-470A-B2D5-42CCC786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9C076-76A1-4C2B-9BD0-5FE7D679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1D8-787A-4C20-A01F-73F5D1C0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3EC49-686A-4B1F-9FE9-FC832883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9DFDE-175C-4427-BF81-439FDDCB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CD0B9-BAFF-4FF3-B185-98BF908F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F3A0C-2EAB-416F-A5A2-511F5FD4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11DE-F7E0-48CE-8336-349CFF93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7D93D-C80C-480B-BF0B-C7CD9F2E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24E5F-468A-482D-9FE0-A05D00D9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642E0-9CB6-43E6-88D6-735F1FB3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BAC63-EC5C-4667-9441-2D0AC29E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C97EC-22A4-4D38-BF70-9DB6591F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F4B-7384-4EBF-9648-5E27AF10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8295F-C75F-499F-944D-07800762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8CD-6C63-4C51-84FA-C3AF2938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9F4-3DB8-42CD-927A-FE4EADFE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FD3-2C45-49C3-BD7E-583DB56B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D27E-9EEE-432A-B91C-D85127DB5E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2c0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pic>
        <p:nvPicPr>
          <p:cNvPr id="6" name="Picture 9" descr="logoAENORsinleyendapequeñoa600"/>
          <p:cNvPicPr/>
          <p:nvPr/>
        </p:nvPicPr>
        <p:blipFill>
          <a:blip r:embed="rId2"/>
          <a:stretch/>
        </p:blipFill>
        <p:spPr>
          <a:xfrm>
            <a:off x="7308720" y="6365880"/>
            <a:ext cx="151128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B9B5-5F24-442F-BA8D-8D28F38EE5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2c0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graphicFrame>
        <p:nvGraphicFramePr>
          <p:cNvPr id="49" name="Object 8"/>
          <p:cNvGraphicFramePr/>
          <p:nvPr/>
        </p:nvGraphicFramePr>
        <p:xfrm>
          <a:off x="270000" y="1916280"/>
          <a:ext cx="1780920" cy="28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00" y="1916280"/>
                    <a:ext cx="178092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1B5E-1389-4C30-8909-5DE18CB2A1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2c0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pic>
        <p:nvPicPr>
          <p:cNvPr id="93" name="Picture 9" descr="gestionIDIplataT"/>
          <p:cNvPicPr/>
          <p:nvPr/>
        </p:nvPicPr>
        <p:blipFill>
          <a:blip r:embed="rId2"/>
          <a:stretch/>
        </p:blipFill>
        <p:spPr>
          <a:xfrm>
            <a:off x="287280" y="1922400"/>
            <a:ext cx="1800360" cy="280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0FDC-6D0C-4EDC-B6B7-616C0DC028C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ENOR Fontana ND Semibold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ENOR Fontana ND Semibold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ENOR Fontana ND Semibold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ENOR Fontana ND Semibold"/>
                </a:endParaRPr>
              </a:p>
            </p:txBody>
          </p:sp>
          <p:sp>
            <p:nvSpPr>
              <p:cNvPr id="13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ENOR Fontana ND Semibold"/>
                </a:endParaRPr>
              </a:p>
            </p:txBody>
          </p:sp>
        </p:grpSp>
        <p:sp>
          <p:nvSpPr>
            <p:cNvPr id="13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ENOR Fontana ND Semibold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ENOR Fontana ND Semibold"/>
              </a:endParaRPr>
            </a:p>
          </p:txBody>
        </p:sp>
      </p:grpSp>
      <p:sp>
        <p:nvSpPr>
          <p:cNvPr id="14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17" descr="logoAENORsinleyendapequeñoa600"/>
          <p:cNvPicPr/>
          <p:nvPr/>
        </p:nvPicPr>
        <p:blipFill>
          <a:blip r:embed="rId2"/>
          <a:stretch/>
        </p:blipFill>
        <p:spPr>
          <a:xfrm>
            <a:off x="7308720" y="6365880"/>
            <a:ext cx="151128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ENOR Fontana ND Semibold"/>
                </a:endParaRPr>
              </a:p>
            </p:txBody>
          </p:sp>
          <p:sp>
            <p:nvSpPr>
              <p:cNvPr id="18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ENOR Fontana ND Semibold"/>
                </a:endParaRPr>
              </a:p>
            </p:txBody>
          </p:sp>
          <p:sp>
            <p:nvSpPr>
              <p:cNvPr id="18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ENOR Fontana ND Semibold"/>
                </a:endParaRPr>
              </a:p>
            </p:txBody>
          </p:sp>
          <p:sp>
            <p:nvSpPr>
              <p:cNvPr id="18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ENOR Fontana ND Semibold"/>
                </a:endParaRPr>
              </a:p>
            </p:txBody>
          </p:sp>
          <p:sp>
            <p:nvSpPr>
              <p:cNvPr id="18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ENOR Fontana ND Semibold"/>
                </a:endParaRPr>
              </a:p>
            </p:txBody>
          </p:sp>
        </p:grpSp>
        <p:sp>
          <p:nvSpPr>
            <p:cNvPr id="18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ENOR Fontana ND Semibold"/>
              </a:endParaRPr>
            </a:p>
          </p:txBody>
        </p:sp>
        <p:sp>
          <p:nvSpPr>
            <p:cNvPr id="18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ENOR Fontana ND Semibold"/>
              </a:endParaRPr>
            </a:p>
          </p:txBody>
        </p:sp>
      </p:grpSp>
      <p:sp>
        <p:nvSpPr>
          <p:cNvPr id="190" name="Rectangle 1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2c09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pic>
        <p:nvPicPr>
          <p:cNvPr id="191" name="Picture 17" descr="logoAENORsinleyendapequeñoa600"/>
          <p:cNvPicPr/>
          <p:nvPr/>
        </p:nvPicPr>
        <p:blipFill>
          <a:blip r:embed="rId2"/>
          <a:stretch/>
        </p:blipFill>
        <p:spPr>
          <a:xfrm>
            <a:off x="7308720" y="6365880"/>
            <a:ext cx="1511280" cy="303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CE08-594A-40AD-8A1E-53F9FAEF7A7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xc.hu/browse.phtml?f=download&amp;id=1354835&amp;redirect=photo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324000" y="907920"/>
            <a:ext cx="856908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lementation of PoA standards</a:t>
            </a:r>
            <a:endParaRPr b="0" lang="en-US" sz="4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he point of view of a DOE</a:t>
            </a:r>
            <a:endParaRPr b="0" lang="en-US" sz="3600" spc="-1" strike="noStrike">
              <a:solidFill>
                <a:srgbClr val="000000"/>
              </a:solidFill>
              <a:latin typeface="AENOR Fontana ND Semibol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Management and Climate Change Regional Workshop, ISO/TC 207 WG.</a:t>
            </a:r>
            <a:endParaRPr b="0" lang="en-US" sz="2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nn, 24 – 25 March 2012</a:t>
            </a:r>
            <a:endParaRPr b="0" lang="en-US" sz="2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ENOR Fontana ND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250920" y="1071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00264"/>
                </a:solidFill>
                <a:latin typeface="Arial"/>
              </a:rPr>
              <a:t>         </a:t>
            </a:r>
            <a:r>
              <a:rPr b="0" lang="es-ES" sz="2800" spc="-1" strike="noStrike">
                <a:solidFill>
                  <a:srgbClr val="100264"/>
                </a:solidFill>
                <a:latin typeface="Arial"/>
              </a:rPr>
              <a:t>Thank you very much for your kind attention</a:t>
            </a:r>
            <a:endParaRPr b="0" lang="en-US" sz="28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000160" y="2276640"/>
            <a:ext cx="487224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00264"/>
                </a:solidFill>
                <a:latin typeface="Arial"/>
              </a:rPr>
              <a:t>Luis Fernando Robles Olmos</a:t>
            </a:r>
            <a:endParaRPr b="0" lang="en-US" sz="2400" spc="-1" strike="noStrike">
              <a:solidFill>
                <a:srgbClr val="000000"/>
              </a:solidFill>
              <a:latin typeface="AENOR Fontana ND Semibol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00264"/>
                </a:solidFill>
                <a:latin typeface="Arial"/>
              </a:rPr>
              <a:t>Head, Climate Change Unit</a:t>
            </a: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00264"/>
                </a:solidFill>
                <a:latin typeface="Arial"/>
              </a:rPr>
              <a:t>AENOR</a:t>
            </a: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00264"/>
                </a:solidFill>
                <a:latin typeface="Arial"/>
              </a:rPr>
              <a:t>E-mail:  lrobles@aenor.es 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919240" y="4429080"/>
            <a:ext cx="3305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Pier 3 - HDR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20640" y="981000"/>
            <a:ext cx="7912080" cy="52736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1380960" y="1762200"/>
            <a:ext cx="381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76400" y="2143080"/>
            <a:ext cx="30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55640" y="1484280"/>
            <a:ext cx="6192720" cy="38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120270"/>
                </a:solidFill>
                <a:latin typeface="Arial"/>
              </a:rPr>
              <a:t>PRESENTATION OF  AENOR</a:t>
            </a:r>
            <a:endParaRPr b="0" lang="en-US" sz="2400" spc="-1" strike="noStrike">
              <a:solidFill>
                <a:srgbClr val="000000"/>
              </a:solidFill>
              <a:latin typeface="AENOR Fontana ND Semibold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120270"/>
                </a:solidFill>
                <a:latin typeface="Arial"/>
              </a:rPr>
              <a:t>PoA EXPERIENCE</a:t>
            </a:r>
            <a:endParaRPr b="0" lang="en-US" sz="2400" spc="-1" strike="noStrike">
              <a:solidFill>
                <a:srgbClr val="000000"/>
              </a:solidFill>
              <a:latin typeface="AENOR Fontana ND Semibold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120270"/>
                </a:solidFill>
                <a:latin typeface="Arial"/>
              </a:rPr>
              <a:t>MAIN ISSUES ON PoA VALIDATION</a:t>
            </a:r>
            <a:endParaRPr b="0" lang="en-US" sz="2400" spc="-1" strike="noStrike">
              <a:solidFill>
                <a:srgbClr val="000000"/>
              </a:solidFill>
              <a:latin typeface="AENOR Fontana ND Semibold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120270"/>
                </a:solidFill>
                <a:latin typeface="Arial"/>
              </a:rPr>
              <a:t>NEW PoA  STANDARD EB 65</a:t>
            </a:r>
            <a:endParaRPr b="0" lang="en-US" sz="2400" spc="-1" strike="noStrike">
              <a:solidFill>
                <a:srgbClr val="000000"/>
              </a:solidFill>
              <a:latin typeface="AENOR Fontana ND Semibold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120270"/>
                </a:solidFill>
                <a:latin typeface="Arial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AENOR Fontana ND Semibol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85680" y="920880"/>
            <a:ext cx="8663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1380960" y="1762200"/>
            <a:ext cx="381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076400" y="2143080"/>
            <a:ext cx="30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250920" y="1096920"/>
            <a:ext cx="849780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120270"/>
                </a:solidFill>
                <a:latin typeface="Arial"/>
              </a:rPr>
              <a:t>AENOR</a:t>
            </a:r>
            <a:r>
              <a:rPr b="0" lang="es-ES_tradnl" sz="1800" spc="-1" strike="noStrike">
                <a:solidFill>
                  <a:srgbClr val="120270"/>
                </a:solidFill>
                <a:latin typeface="Arial"/>
              </a:rPr>
              <a:t> = ASOCIACIÓN ESPAÑOLA DE NORMALIZACIÓN Y CERTIFICACIÓN       (SPANISH ASSOCIATION FOR STANDARDIZATION AND CERTIFICATION)</a:t>
            </a: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120270"/>
                </a:solidFill>
                <a:latin typeface="Arial"/>
              </a:rPr>
              <a:t>AENOR</a:t>
            </a:r>
            <a:r>
              <a:rPr b="0" lang="es-ES_tradnl" sz="1800" spc="-1" strike="noStrike">
                <a:solidFill>
                  <a:srgbClr val="120270"/>
                </a:solidFill>
                <a:latin typeface="Arial"/>
              </a:rPr>
              <a:t>: Spain + 12 branch offices in Europe, Africa and America</a:t>
            </a: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120270"/>
                </a:solidFill>
                <a:latin typeface="Arial"/>
              </a:rPr>
              <a:t>Non profitable association </a:t>
            </a: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120270"/>
                </a:solidFill>
                <a:latin typeface="Arial"/>
              </a:rPr>
              <a:t>Standardization body of Spain + certification company</a:t>
            </a: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PRESENTATION OF  AE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http://www.globalecologygrant.com/images/wolrd.jpg"/>
          <p:cNvPicPr/>
          <p:nvPr/>
        </p:nvPicPr>
        <p:blipFill>
          <a:blip r:embed="rId1"/>
          <a:stretch/>
        </p:blipFill>
        <p:spPr>
          <a:xfrm>
            <a:off x="1206360" y="3767040"/>
            <a:ext cx="748044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1380960" y="1762200"/>
            <a:ext cx="381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076400" y="2143080"/>
            <a:ext cx="30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468360" y="1413000"/>
            <a:ext cx="820728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120270"/>
                </a:solidFill>
                <a:latin typeface="Arial"/>
              </a:rPr>
              <a:t>Validation of 17 Poas</a:t>
            </a:r>
            <a:endParaRPr b="0" lang="en-US" sz="2400" spc="-1" strike="noStrike">
              <a:solidFill>
                <a:srgbClr val="000000"/>
              </a:solidFill>
              <a:latin typeface="AENOR Fontana ND Semibold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2027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120270"/>
                </a:solidFill>
                <a:latin typeface="Arial"/>
                <a:ea typeface="Arial"/>
              </a:rPr>
              <a:t>2 registered:  waste compost programme (Uganda); Turbococinas (El Salvador)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2027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120270"/>
                </a:solidFill>
                <a:latin typeface="Arial"/>
                <a:ea typeface="Arial"/>
              </a:rPr>
              <a:t>1 PoA requesting registration (energy efficient lighting, Senegal)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2027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120270"/>
                </a:solidFill>
                <a:latin typeface="Arial"/>
                <a:ea typeface="Arial"/>
              </a:rPr>
              <a:t>14 validation on going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20270"/>
                </a:solidFill>
                <a:latin typeface="Arial"/>
                <a:ea typeface="Arial"/>
              </a:rPr>
              <a:t>  </a:t>
            </a:r>
            <a:r>
              <a:rPr b="0" lang="es-ES_tradnl" sz="2000" spc="-1" strike="noStrike">
                <a:solidFill>
                  <a:srgbClr val="120270"/>
                </a:solidFill>
                <a:latin typeface="Arial"/>
                <a:ea typeface="Arial"/>
              </a:rPr>
              <a:t>Sectoral scopes: 1; 3; 13; 15.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  <a:ea typeface="Arial"/>
              </a:rPr>
              <a:t>PoA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World shapes 3"/>
          <p:cNvPicPr/>
          <p:nvPr/>
        </p:nvPicPr>
        <p:blipFill>
          <a:blip r:embed="rId1"/>
          <a:stretch/>
        </p:blipFill>
        <p:spPr>
          <a:xfrm>
            <a:off x="5815080" y="3444840"/>
            <a:ext cx="286524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1380960" y="1762200"/>
            <a:ext cx="381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076400" y="2143080"/>
            <a:ext cx="30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  <a:ea typeface="Arial"/>
              </a:rPr>
              <a:t>PoA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17520" y="895320"/>
            <a:ext cx="4230720" cy="2543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780080" y="901800"/>
            <a:ext cx="4101840" cy="2536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317520" y="3713040"/>
            <a:ext cx="4254480" cy="2565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4"/>
          <a:stretch/>
        </p:blipFill>
        <p:spPr>
          <a:xfrm>
            <a:off x="4737240" y="3713040"/>
            <a:ext cx="423540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1380960" y="1762200"/>
            <a:ext cx="381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076400" y="2143080"/>
            <a:ext cx="30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11280" y="1716120"/>
            <a:ext cx="7359480" cy="40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120270"/>
                </a:solidFill>
                <a:latin typeface="Arial"/>
              </a:rPr>
              <a:t>Eligibility criteria not enough clear or detailed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120270"/>
                </a:solidFill>
                <a:latin typeface="Arial"/>
              </a:rPr>
              <a:t>Demonstration of additionality is based on opinions, non on substantiated facts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20270"/>
                </a:solidFill>
                <a:latin typeface="Arial"/>
              </a:rPr>
              <a:t>CPA starting date is not in accordance with requirements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120270"/>
                </a:solidFill>
                <a:latin typeface="Arial"/>
              </a:rPr>
              <a:t>Additionality and eligibility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20270"/>
                </a:solidFill>
                <a:latin typeface="Arial"/>
              </a:rPr>
              <a:t>Some eligibility criteria are not verifiable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85680" y="920880"/>
            <a:ext cx="8663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  <a:ea typeface="Arial"/>
              </a:rPr>
              <a:t>MAIN ISSUES ON PoA VAL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Drive Slowly"/>
          <p:cNvPicPr/>
          <p:nvPr/>
        </p:nvPicPr>
        <p:blipFill>
          <a:blip r:embed="rId1"/>
          <a:stretch/>
        </p:blipFill>
        <p:spPr>
          <a:xfrm>
            <a:off x="6076800" y="3638520"/>
            <a:ext cx="28720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380960" y="1762200"/>
            <a:ext cx="381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076400" y="2143080"/>
            <a:ext cx="30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50920" y="1498680"/>
            <a:ext cx="7978680" cy="35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120270"/>
                </a:solidFill>
                <a:latin typeface="Arial"/>
              </a:rPr>
              <a:t>Monitoring plan is not detailed and it is non described according to the </a:t>
            </a:r>
            <a:r>
              <a:rPr b="0" i="1" lang="es-ES_tradnl" sz="2000" spc="-1" strike="noStrike">
                <a:solidFill>
                  <a:srgbClr val="120270"/>
                </a:solidFill>
                <a:latin typeface="Arial"/>
              </a:rPr>
              <a:t>Procedure for </a:t>
            </a:r>
            <a:r>
              <a:rPr b="0" i="1" lang="en-US" sz="2000" spc="-1" strike="noStrike">
                <a:solidFill>
                  <a:srgbClr val="120270"/>
                </a:solidFill>
                <a:latin typeface="Arial"/>
              </a:rPr>
              <a:t>Registration of a programme of activities as a single CDM project activity</a:t>
            </a:r>
            <a:r>
              <a:rPr b="0" lang="en-US" sz="2000" spc="-1" strike="noStrike">
                <a:solidFill>
                  <a:srgbClr val="120270"/>
                </a:solidFill>
                <a:latin typeface="Arial"/>
              </a:rPr>
              <a:t>. (EB 55 annex 38) (sampling vs. surveys)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120270"/>
                </a:solidFill>
                <a:latin typeface="Arial"/>
              </a:rPr>
              <a:t>Guidelines on the assessment of investment analysis </a:t>
            </a:r>
            <a:r>
              <a:rPr b="0" lang="en-US" sz="2000" spc="-1" strike="noStrike">
                <a:solidFill>
                  <a:srgbClr val="120270"/>
                </a:solidFill>
                <a:latin typeface="Arial"/>
              </a:rPr>
              <a:t>is not properly and completely explained.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20270"/>
                </a:solidFill>
                <a:latin typeface="Arial"/>
              </a:rPr>
              <a:t>Emission Factor: PoA-DD does not specify if the EF is fixed ex ante or each CPA will use its own Emission F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85680" y="920880"/>
            <a:ext cx="8663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  <a:ea typeface="Arial"/>
              </a:rPr>
              <a:t>MAIN ISSUES ON PoA VAL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Road End Sign"/>
          <p:cNvPicPr/>
          <p:nvPr/>
        </p:nvPicPr>
        <p:blipFill>
          <a:blip r:embed="rId1"/>
          <a:stretch/>
        </p:blipFill>
        <p:spPr>
          <a:xfrm>
            <a:off x="5742000" y="3956040"/>
            <a:ext cx="28656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1380960" y="1762200"/>
            <a:ext cx="381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076400" y="2143080"/>
            <a:ext cx="30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  <a:ea typeface="Arial"/>
              </a:rPr>
              <a:t>NEW PoA  STANDARD EB 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Derek J"/>
          <p:cNvPicPr/>
          <p:nvPr/>
        </p:nvPicPr>
        <p:blipFill>
          <a:blip r:embed="rId1"/>
          <a:stretch/>
        </p:blipFill>
        <p:spPr>
          <a:xfrm>
            <a:off x="5931000" y="3981600"/>
            <a:ext cx="2871720" cy="22604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250920" y="1628640"/>
            <a:ext cx="8137440" cy="35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120270"/>
                </a:solidFill>
                <a:latin typeface="Arial"/>
              </a:rPr>
              <a:t>Eligibility criteria: “</a:t>
            </a:r>
            <a:r>
              <a:rPr b="0" i="1" lang="en-US" sz="2000" spc="-1" strike="noStrike">
                <a:solidFill>
                  <a:srgbClr val="120270"/>
                </a:solidFill>
                <a:latin typeface="Arial"/>
              </a:rPr>
              <a:t>Validating DOE and/or the Board may specify additional criteria depending on the specific characteristics of a PoA”</a:t>
            </a:r>
            <a:r>
              <a:rPr b="0" lang="en-US" sz="2000" spc="-1" strike="noStrike">
                <a:solidFill>
                  <a:srgbClr val="12027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120270"/>
                </a:solidFill>
                <a:latin typeface="Arial"/>
              </a:rPr>
              <a:t>The CME shall develop and implement a management system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120270"/>
                </a:solidFill>
                <a:latin typeface="Arial"/>
              </a:rPr>
              <a:t>The revision of eligibility criteria of a registered PoA may be initiated by the Board at any time during the lifetime of the PoA if an issue related to environment integrity is identified.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50920" y="3857760"/>
            <a:ext cx="5545080" cy="22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20270"/>
                </a:solidFill>
                <a:latin typeface="Arial"/>
              </a:rPr>
              <a:t>Application of multiple CDM methodologies (…) Combinations of technologies/measures and methodologies vary across CPAs of a PoA.</a:t>
            </a:r>
            <a:endParaRPr b="0" lang="en-US" sz="20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ENOR Fontana ND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1380960" y="1762200"/>
            <a:ext cx="381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076400" y="1341360"/>
            <a:ext cx="30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826920" y="1700280"/>
            <a:ext cx="676944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120270"/>
                </a:solidFill>
                <a:latin typeface="Arial"/>
              </a:rPr>
              <a:t>Further clarification on additionality</a:t>
            </a:r>
            <a:endParaRPr b="0" lang="en-US" sz="2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120270"/>
                </a:solidFill>
                <a:latin typeface="Arial"/>
              </a:rPr>
              <a:t>New procedures for CPA withdrawal</a:t>
            </a:r>
            <a:endParaRPr b="0" lang="en-US" sz="2800" spc="-1" strike="noStrike">
              <a:solidFill>
                <a:srgbClr val="000000"/>
              </a:solidFill>
              <a:latin typeface="AENOR Fontana ND Semibold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Clr>
                <a:srgbClr val="1202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2027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120270"/>
                </a:solidFill>
                <a:latin typeface="Arial"/>
              </a:rPr>
              <a:t>DOE liability</a:t>
            </a:r>
            <a:endParaRPr b="0" lang="en-US" sz="2800" spc="-1" strike="noStrike">
              <a:solidFill>
                <a:srgbClr val="000000"/>
              </a:solidFill>
              <a:latin typeface="AENOR Fontana ND Semibol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  <a:ea typeface="Arial"/>
              </a:rPr>
              <a:t>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8 Grupo"/>
          <p:cNvGrpSpPr/>
          <p:nvPr/>
        </p:nvGrpSpPr>
        <p:grpSpPr>
          <a:xfrm>
            <a:off x="5602320" y="3724200"/>
            <a:ext cx="2857320" cy="2505240"/>
            <a:chOff x="5602320" y="3724200"/>
            <a:chExt cx="2857320" cy="2505240"/>
          </a:xfrm>
        </p:grpSpPr>
        <p:pic>
          <p:nvPicPr>
            <p:cNvPr id="280" name="Picture 2" descr="direction sign"/>
            <p:cNvPicPr/>
            <p:nvPr/>
          </p:nvPicPr>
          <p:blipFill>
            <a:blip r:embed="rId1"/>
            <a:stretch/>
          </p:blipFill>
          <p:spPr>
            <a:xfrm>
              <a:off x="5614200" y="3724200"/>
              <a:ext cx="2845440" cy="25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7 Rectángulo" descr=""/>
            <p:cNvPicPr/>
            <p:nvPr/>
          </p:nvPicPr>
          <p:blipFill>
            <a:blip r:embed="rId2"/>
            <a:stretch/>
          </p:blipFill>
          <p:spPr>
            <a:xfrm>
              <a:off x="5602320" y="4160880"/>
              <a:ext cx="2404440" cy="16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3:32:10Z</dcterms:created>
  <dc:creator>LFRO</dc:creator>
  <dc:description/>
  <dc:language>en-US</dc:language>
  <cp:lastModifiedBy>Correia</cp:lastModifiedBy>
  <dcterms:modified xsi:type="dcterms:W3CDTF">2012-03-23T15:02:22Z</dcterms:modified>
  <cp:revision>496</cp:revision>
  <dc:subject/>
  <dc:title>Slide 1</dc:title>
</cp:coreProperties>
</file>