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rcRect l="0" t="0" r="86366" b="44250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ji.unfccc.int/" TargetMode="Externa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Module 1.4 JI Project Cycle</a:t>
            </a:r>
            <a:br>
              <a:rPr sz="3000"/>
            </a:b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- Status of Implement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7000" y="4552920"/>
            <a:ext cx="43182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1st SDM Joint Coordination Workshop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onn, Germany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24 March, 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f Bystrom, Programme Offic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FCCC secretariat, SD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b93dc"/>
                </a:solidFill>
                <a:latin typeface="Arial"/>
              </a:rPr>
              <a:t>Project Status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65280" y="1263600"/>
          <a:ext cx="7867440" cy="4630680"/>
        </p:xfrm>
        <a:graphic>
          <a:graphicData uri="http://schemas.openxmlformats.org/drawingml/2006/table">
            <a:tbl>
              <a:tblPr/>
              <a:tblGrid>
                <a:gridCol w="3941640"/>
                <a:gridCol w="1938240"/>
                <a:gridCol w="1987560"/>
              </a:tblGrid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23 March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24 March 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PDDs </a:t>
                      </a: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(incl Po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Published since Nov 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2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Withdra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680"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Expected ERs </a:t>
                      </a:r>
                      <a:r>
                        <a:rPr b="0" lang="en-US" sz="18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(Million tonnes CO</a:t>
                      </a:r>
                      <a:r>
                        <a:rPr b="0" lang="en-US" sz="1800" spc="-1" strike="noStrike" baseline="-25000">
                          <a:solidFill>
                            <a:srgbClr val="4b93dc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4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3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DETERMIN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Publish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Finaliz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VERIF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Publish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Finaliz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680"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Verified ERs </a:t>
                      </a:r>
                      <a:r>
                        <a:rPr b="0" lang="en-US" sz="18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(Million tonnes CO</a:t>
                      </a:r>
                      <a:r>
                        <a:rPr b="0" lang="en-US" sz="1800" spc="-1" strike="noStrike" baseline="-25000">
                          <a:solidFill>
                            <a:srgbClr val="4b93dc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70000" indent="-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TRACK 1 Published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3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70000" indent="-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b93dc"/>
                          </a:solidFill>
                          <a:latin typeface="Arial"/>
                        </a:rPr>
                        <a:t>2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34680" y="337680"/>
            <a:ext cx="78692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Highlights 2011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915840"/>
            <a:ext cx="82803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es for track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view procedures revised to enhance electronic decision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uidance on criteria for baseline setting and monitoring revised 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clarify use of CDM methodologies and prece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ment of DFP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ommendations to CMP on options for JI post 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 in verifications along with Track 1 fee make JI financiall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viable going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40 million ERUs issued to date – 93 million ERUs in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b93d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b93dc"/>
                </a:solidFill>
                <a:latin typeface="Arial"/>
              </a:rPr>
              <a:t>JISC recommendations to CMP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848600"/>
            <a:ext cx="78692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ngle, unified verification process (single Trac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armonized national procedures for approval of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w governing body to oversee the single verification pro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ified accreditation process to accredit auditors, report to th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C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mixture of fees on accreditation, registration and 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Focus areas in 2012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65280" y="836280"/>
            <a:ext cx="7867440" cy="394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MP 7 Decision on 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ties are invited to submit their views on the revision of the JI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guidelines by 16 April, 2012. Secretariat to summarize i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synthesi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JISC is request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e a draft set of "key attributes and transition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measures" for the future operation of JI for consideration a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CMP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굴림"/>
              </a:rPr>
              <a:t>Revise fee structure to avoid track-switching projects pay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굴림"/>
              </a:rPr>
              <a:t>   double fe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5280" y="4837680"/>
            <a:ext cx="7867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ISC 28 Work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draft revised JI guidelines for CMP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draft of revised provisions for charging of fees at JISC 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URTHER INFORMATIO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a8d6bc"/>
                </a:solidFill>
                <a:uFillTx/>
                <a:latin typeface="Arial"/>
                <a:hlinkClick r:id="rId1"/>
              </a:rPr>
              <a:t>http://ji.unfccc.int/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4:43:13Z</dcterms:created>
  <dc:creator>ha</dc:creator>
  <dc:description/>
  <dc:language>en-US</dc:language>
  <cp:lastModifiedBy>Bystrom</cp:lastModifiedBy>
  <cp:lastPrinted>2004-03-02T21:24:15Z</cp:lastPrinted>
  <dcterms:modified xsi:type="dcterms:W3CDTF">2012-03-23T14:42:56Z</dcterms:modified>
  <cp:revision>20</cp:revision>
  <dc:subject/>
  <dc:title>TITLE HEADER</dc:title>
</cp:coreProperties>
</file>