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4960" y="431928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80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48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496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48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27120" y="2205000"/>
            <a:ext cx="788184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4960" y="431928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040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48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496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040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48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7120" y="2205000"/>
            <a:ext cx="788184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380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4960" y="431928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380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040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48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496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040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48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27120" y="2205000"/>
            <a:ext cx="788184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380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4960" y="431928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380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040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48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2496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040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48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27120" y="2205000"/>
            <a:ext cx="788184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380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4960" y="431928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380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7120" y="2205000"/>
            <a:ext cx="788184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040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480" y="392256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2496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040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480" y="4319280"/>
            <a:ext cx="25380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800" y="431928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496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800" y="3922560"/>
            <a:ext cx="384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4960" y="4319280"/>
            <a:ext cx="78822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50880" y="1413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13600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STATUS AND WAY FORWARD ON </a:t>
            </a:r>
            <a:br>
              <a:rPr sz="3000"/>
            </a:b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STANDARDIZED BASEL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UNFCCC Joint coordination Workshop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4-25 March 2012, Bon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shor Rajhansa, Programme Offic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DM programme, UNFCCC secretari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35040" y="260280"/>
            <a:ext cx="7869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b93dc"/>
                </a:solidFill>
                <a:latin typeface="Arial"/>
                <a:ea typeface="Arial"/>
              </a:rPr>
              <a:t>Ongoing Work on implementation of SB guidelines and SB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84360" y="1052640"/>
          <a:ext cx="7632720" cy="3997080"/>
        </p:xfrm>
        <a:graphic>
          <a:graphicData uri="http://schemas.openxmlformats.org/drawingml/2006/table">
            <a:tbl>
              <a:tblPr/>
              <a:tblGrid>
                <a:gridCol w="2801880"/>
                <a:gridCol w="4830840"/>
              </a:tblGrid>
              <a:tr h="33012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s fo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93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1440"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kflows for the submission of standardized bas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s for submission of standardised baseline are ready and to be uploaded on website shortl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al workflow of submission will be maintained till web-based workflow is not in pla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-based workflow is to be ready in Q4 20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5520"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-based system for the submission of the data needed for the development and assessment of standardized bas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purpose i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roman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acilitate DNAs to submit the data needed for SB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roman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generate the standardized baselines and the positive list of measures based on da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be ready by Q4 20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0" y="485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35040" y="260280"/>
            <a:ext cx="7869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b93dc"/>
                </a:solidFill>
                <a:latin typeface="Arial"/>
                <a:ea typeface="Arial"/>
              </a:rPr>
              <a:t>Ongoing Work on implementation of SB guidelines and SB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85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28560" y="836640"/>
          <a:ext cx="7991640" cy="5133960"/>
        </p:xfrm>
        <a:graphic>
          <a:graphicData uri="http://schemas.openxmlformats.org/drawingml/2006/table">
            <a:tbl>
              <a:tblPr/>
              <a:tblGrid>
                <a:gridCol w="2933640"/>
                <a:gridCol w="5058000"/>
              </a:tblGrid>
              <a:tr h="24444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s for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93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5880"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idelines and/or software for the determination of sector wide baseline emission factors in consultation with practitio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 or three sector specific workshops to be organised with practioners to receive inputs (in September 201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ee or four more workshops planned in 20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pt to be presented to Board in Q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 delivery planned for 20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3640"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base on the cost of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s is web-based database and softwa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d to demonstrate positive list under standardised baselin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k is going on finalisation of initial concept no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ultant is hired for networking with various industry organisations, technology manufacturers and international institu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to be collected in 20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al of final concept by Board in Q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 delivery is for 20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260280"/>
            <a:ext cx="7869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b93dc"/>
                </a:solidFill>
                <a:latin typeface="Arial"/>
                <a:ea typeface="Arial"/>
              </a:rPr>
              <a:t>Ongoing Work on implementation of SB guidelines and SB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84360" y="907920"/>
          <a:ext cx="7632720" cy="1955880"/>
        </p:xfrm>
        <a:graphic>
          <a:graphicData uri="http://schemas.openxmlformats.org/drawingml/2006/table">
            <a:tbl>
              <a:tblPr/>
              <a:tblGrid>
                <a:gridCol w="2749320"/>
                <a:gridCol w="4883400"/>
              </a:tblGrid>
              <a:tr h="24444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s for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93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1440">
                <a:tc>
                  <a:txBody>
                    <a:bodyPr lIns="0" rIns="0" tIns="0" bIns="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s of the testing of the guidelines in some sectors in collaboration with relevant practitioners and  other standard setting bo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 is to improve SB guidelines based on feedbacks from several stakeholders during implement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d guidelines to be delivered in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0" y="379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712800" y="3152880"/>
          <a:ext cx="7559640" cy="1711080"/>
        </p:xfrm>
        <a:graphic>
          <a:graphicData uri="http://schemas.openxmlformats.org/drawingml/2006/table">
            <a:tbl>
              <a:tblPr/>
              <a:tblGrid>
                <a:gridCol w="2774880"/>
                <a:gridCol w="4784760"/>
              </a:tblGrid>
              <a:tr h="24444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s for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93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6640"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ex to the guidelines defining vintage of the relevant data and frequency of update of the relevant paramet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4960" indent="-264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rpose is to review the vintage and frequency based on lessons learnt in first ye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se SB guidelines (if required) based on lessons learnt in Q3 20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8000" y="2636640"/>
            <a:ext cx="8856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THANK YOU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0880" y="1413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47640" y="4221000"/>
            <a:ext cx="65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ajhansa@unfccc.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Kishor Rajhansa, Programme Offic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SDM programme, UNFCCC secretari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115920"/>
            <a:ext cx="806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5200" y="858960"/>
            <a:ext cx="806436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5040" indent="-365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Why Standardised baselin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Reduce transaction cost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Enhance transparency, objectivity and predictabil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Facilitate access to the CDM;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cale up, while ensuring Environmental Integrit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5040" y="30960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  <a:ea typeface="Arial"/>
              </a:rPr>
              <a:t>Background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5200" y="2624040"/>
            <a:ext cx="77770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standardized baseli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line established for a Party or a group of Parties to facilitate the calculation of emission reductions and removals; and/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for determination of additionality for CDM project activities, while providing assurance for environmental integ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6400" y="4486320"/>
            <a:ext cx="785052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CMP6 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ies, PPs, and other admitted entities, through the host country’s DNAs, may submit proposals for SBs, for consideration by the Boar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quests the Board to develop SBs, as appropriate, in consultation with relevant DNAs, taking into account the outcome of the workshop on SB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68360" y="874800"/>
            <a:ext cx="8496360" cy="47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Work done by the Board so f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EB62 adopted the “Guidelines for the establishment of sector specific standardized baselines” (SB guidel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B63 adopted the “Procedure for submission and consideration of standardized baselines”  (SB procedu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EB65 adopted the work programme containing following main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he implementation of SB guidel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he improvement and the expansion of the scope of the SB guidelin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he implementation of the SB procedu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of procedures for the submission and consideration of CDM projects using standardized baseli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st meeting (EB66) adopted the 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elines for data quality in the establishment of standardized baselines” (QA/QC guidel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8440" y="30960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  <a:ea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b93dc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4b93dc"/>
                </a:solidFill>
                <a:latin typeface="Arial"/>
              </a:rPr>
              <a:t>Measures” under SB Guidelines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867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” as per SB guid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 class of GHG emission reduc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essing commo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133720"/>
            <a:ext cx="813744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types of “measures” cover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el and feedstock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itch of technology with or without change of energy sources (incl. RE and 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ane de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ane formation avoi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b93dc"/>
                </a:solidFill>
                <a:latin typeface="Arial"/>
              </a:rPr>
              <a:t>Applicability of SB guidelines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8674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pplic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ationary sources, but not A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most types of projec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2708280"/>
            <a:ext cx="604836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ized bas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or a country or a group of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258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emonstrate additionality: positive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258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baseline technology/f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258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baseline e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b93dc"/>
                </a:solidFill>
                <a:latin typeface="Arial"/>
              </a:rPr>
              <a:t>General approach of SB guidelines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268360" y="1413000"/>
            <a:ext cx="4896000" cy="3240000"/>
            <a:chOff x="2268360" y="1413000"/>
            <a:chExt cx="4896000" cy="3240000"/>
          </a:xfrm>
        </p:grpSpPr>
        <p:grpSp>
          <p:nvGrpSpPr>
            <p:cNvPr id="237" name=""/>
            <p:cNvGrpSpPr/>
            <p:nvPr/>
          </p:nvGrpSpPr>
          <p:grpSpPr>
            <a:xfrm>
              <a:off x="2268360" y="1413000"/>
              <a:ext cx="4895640" cy="3240000"/>
              <a:chOff x="2268360" y="1413000"/>
              <a:chExt cx="4895640" cy="3240000"/>
            </a:xfrm>
          </p:grpSpPr>
          <p:sp>
            <p:nvSpPr>
              <p:cNvPr id="238" name=""/>
              <p:cNvSpPr/>
              <p:nvPr/>
            </p:nvSpPr>
            <p:spPr>
              <a:xfrm>
                <a:off x="2268360" y="1413000"/>
                <a:ext cx="4895640" cy="3240000"/>
              </a:xfrm>
              <a:prstGeom prst="rect">
                <a:avLst/>
              </a:prstGeom>
              <a:gradFill rotWithShape="0">
                <a:gsLst>
                  <a:gs pos="0">
                    <a:srgbClr val="171775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65080" y="1728720"/>
                <a:ext cx="2590920" cy="2664000"/>
              </a:xfrm>
              <a:prstGeom prst="ellipse">
                <a:avLst/>
              </a:prstGeom>
              <a:solidFill>
                <a:srgbClr val="2901b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6012000" y="1773360"/>
              <a:ext cx="115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Count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67280" y="2708280"/>
              <a:ext cx="1584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Total output of Sec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11280" y="1404720"/>
            <a:ext cx="4319640" cy="3308400"/>
            <a:chOff x="2411280" y="1404720"/>
            <a:chExt cx="4319640" cy="3308400"/>
          </a:xfrm>
        </p:grpSpPr>
        <p:sp>
          <p:nvSpPr>
            <p:cNvPr id="243" name=""/>
            <p:cNvSpPr/>
            <p:nvPr/>
          </p:nvSpPr>
          <p:spPr>
            <a:xfrm>
              <a:off x="2411280" y="3284640"/>
              <a:ext cx="1224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Fuels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technolog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987640" y="1404720"/>
              <a:ext cx="3743280" cy="3308400"/>
              <a:chOff x="2987640" y="1404720"/>
              <a:chExt cx="3743280" cy="3308400"/>
            </a:xfrm>
          </p:grpSpPr>
          <p:sp>
            <p:nvSpPr>
              <p:cNvPr id="245" name=""/>
              <p:cNvSpPr/>
              <p:nvPr/>
            </p:nvSpPr>
            <p:spPr>
              <a:xfrm rot="3101400">
                <a:off x="3743280" y="1519920"/>
                <a:ext cx="503280" cy="431640"/>
              </a:xfrm>
              <a:prstGeom prst="rightArrow">
                <a:avLst>
                  <a:gd name="adj1" fmla="val 50000"/>
                  <a:gd name="adj2" fmla="val 29149"/>
                </a:avLst>
              </a:prstGeom>
              <a:solidFill>
                <a:srgbClr val="cca67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87640" y="2779920"/>
                <a:ext cx="576000" cy="431640"/>
              </a:xfrm>
              <a:prstGeom prst="rightArrow">
                <a:avLst>
                  <a:gd name="adj1" fmla="val 50000"/>
                  <a:gd name="adj2" fmla="val 33361"/>
                </a:avLst>
              </a:prstGeom>
              <a:solidFill>
                <a:srgbClr val="cca67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978600">
                <a:off x="3744720" y="4203360"/>
                <a:ext cx="576360" cy="360360"/>
              </a:xfrm>
              <a:prstGeom prst="rightArrow">
                <a:avLst>
                  <a:gd name="adj1" fmla="val 50000"/>
                  <a:gd name="adj2" fmla="val 39985"/>
                </a:avLst>
              </a:prstGeom>
              <a:solidFill>
                <a:srgbClr val="cca67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3806000">
                <a:off x="5650200" y="4003920"/>
                <a:ext cx="576360" cy="431640"/>
              </a:xfrm>
              <a:prstGeom prst="rightArrow">
                <a:avLst>
                  <a:gd name="adj1" fmla="val 50000"/>
                  <a:gd name="adj2" fmla="val 33382"/>
                </a:avLst>
              </a:prstGeom>
              <a:solidFill>
                <a:srgbClr val="cca67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7932000">
                <a:off x="5508000" y="1555560"/>
                <a:ext cx="574920" cy="431640"/>
              </a:xfrm>
              <a:prstGeom prst="rightArrow">
                <a:avLst>
                  <a:gd name="adj1" fmla="val 50000"/>
                  <a:gd name="adj2" fmla="val 33299"/>
                </a:avLst>
              </a:prstGeom>
              <a:solidFill>
                <a:srgbClr val="cca67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54560" y="2851200"/>
                <a:ext cx="576360" cy="431640"/>
              </a:xfrm>
              <a:prstGeom prst="leftArrow">
                <a:avLst>
                  <a:gd name="adj1" fmla="val 50000"/>
                  <a:gd name="adj2" fmla="val 33382"/>
                </a:avLst>
              </a:prstGeom>
              <a:solidFill>
                <a:srgbClr val="cca67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250920" y="5013360"/>
            <a:ext cx="8893080" cy="1041840"/>
            <a:chOff x="250920" y="5013360"/>
            <a:chExt cx="8893080" cy="1041840"/>
          </a:xfrm>
        </p:grpSpPr>
        <p:sp>
          <p:nvSpPr>
            <p:cNvPr id="252" name=""/>
            <p:cNvSpPr/>
            <p:nvPr/>
          </p:nvSpPr>
          <p:spPr>
            <a:xfrm>
              <a:off x="324000" y="5372280"/>
              <a:ext cx="158400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2760" y="5013360"/>
              <a:ext cx="84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o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000" y="5373720"/>
              <a:ext cx="1663920" cy="1443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52720" y="5013360"/>
              <a:ext cx="122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Heavy Fu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79840" y="5372280"/>
              <a:ext cx="1440000" cy="144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64080" y="5013360"/>
              <a:ext cx="115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el O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8680" y="5380200"/>
              <a:ext cx="1217520" cy="136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18120" y="5041800"/>
              <a:ext cx="110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ie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32680" y="5373720"/>
              <a:ext cx="1276200" cy="144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99080" y="5013360"/>
              <a:ext cx="71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3280" y="5373720"/>
              <a:ext cx="11109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61160" y="5013360"/>
              <a:ext cx="1121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1640" y="5689440"/>
              <a:ext cx="817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5749920"/>
              <a:ext cx="88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0%                            25%                             50%                             75%                            1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195640" y="1341360"/>
            <a:ext cx="5041800" cy="3365280"/>
            <a:chOff x="2195640" y="1341360"/>
            <a:chExt cx="5041800" cy="3365280"/>
          </a:xfrm>
        </p:grpSpPr>
        <p:grpSp>
          <p:nvGrpSpPr>
            <p:cNvPr id="267" name=""/>
            <p:cNvGrpSpPr/>
            <p:nvPr/>
          </p:nvGrpSpPr>
          <p:grpSpPr>
            <a:xfrm>
              <a:off x="2195640" y="1341360"/>
              <a:ext cx="5041800" cy="3365280"/>
              <a:chOff x="2195640" y="1341360"/>
              <a:chExt cx="5041800" cy="3365280"/>
            </a:xfrm>
          </p:grpSpPr>
          <p:graphicFrame>
            <p:nvGraphicFramePr>
              <p:cNvPr id="268" name=""/>
              <p:cNvGraphicFramePr/>
              <p:nvPr/>
            </p:nvGraphicFramePr>
            <p:xfrm>
              <a:off x="2195640" y="1341360"/>
              <a:ext cx="5041800" cy="33652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26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195640" y="1341360"/>
                        <a:ext cx="5041800" cy="336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70" name=""/>
              <p:cNvGrpSpPr/>
              <p:nvPr/>
            </p:nvGrpSpPr>
            <p:grpSpPr>
              <a:xfrm>
                <a:off x="2842920" y="1361880"/>
                <a:ext cx="3743280" cy="3307680"/>
                <a:chOff x="2842920" y="1361880"/>
                <a:chExt cx="3743280" cy="3307680"/>
              </a:xfrm>
            </p:grpSpPr>
            <p:sp>
              <p:nvSpPr>
                <p:cNvPr id="271" name=""/>
                <p:cNvSpPr/>
                <p:nvPr/>
              </p:nvSpPr>
              <p:spPr>
                <a:xfrm rot="3101400">
                  <a:off x="3598920" y="1477080"/>
                  <a:ext cx="502920" cy="431640"/>
                </a:xfrm>
                <a:prstGeom prst="rightArrow">
                  <a:avLst>
                    <a:gd name="adj1" fmla="val 50000"/>
                    <a:gd name="adj2" fmla="val 29128"/>
                  </a:avLst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842920" y="2736720"/>
                  <a:ext cx="576000" cy="431280"/>
                </a:xfrm>
                <a:prstGeom prst="rightArrow">
                  <a:avLst>
                    <a:gd name="adj1" fmla="val 50000"/>
                    <a:gd name="adj2" fmla="val 33389"/>
                  </a:avLst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18978600">
                  <a:off x="3599640" y="4160160"/>
                  <a:ext cx="576360" cy="360000"/>
                </a:xfrm>
                <a:prstGeom prst="rightArrow">
                  <a:avLst>
                    <a:gd name="adj1" fmla="val 50000"/>
                    <a:gd name="adj2" fmla="val 40025"/>
                  </a:avLst>
                </a:prstGeom>
                <a:solidFill>
                  <a:srgbClr val="77777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3806000">
                  <a:off x="5505840" y="3961080"/>
                  <a:ext cx="576000" cy="431640"/>
                </a:xfrm>
                <a:prstGeom prst="rightArrow">
                  <a:avLst>
                    <a:gd name="adj1" fmla="val 50000"/>
                    <a:gd name="adj2" fmla="val 33361"/>
                  </a:avLst>
                </a:prstGeom>
                <a:solidFill>
                  <a:srgbClr val="29292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7932000">
                  <a:off x="5363280" y="1512360"/>
                  <a:ext cx="574560" cy="431640"/>
                </a:xfrm>
                <a:prstGeom prst="rightArrow">
                  <a:avLst>
                    <a:gd name="adj1" fmla="val 50000"/>
                    <a:gd name="adj2" fmla="val 33278"/>
                  </a:avLst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09840" y="2808000"/>
                  <a:ext cx="576360" cy="431280"/>
                </a:xfrm>
                <a:prstGeom prst="leftArrow">
                  <a:avLst>
                    <a:gd name="adj1" fmla="val 50000"/>
                    <a:gd name="adj2" fmla="val 33410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7" name=""/>
            <p:cNvSpPr/>
            <p:nvPr/>
          </p:nvSpPr>
          <p:spPr>
            <a:xfrm rot="6894000">
              <a:off x="4354920" y="2423160"/>
              <a:ext cx="546120" cy="111600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584347"/>
                  <a:lnTo>
                    <a:pt x="21" y="10123"/>
                  </a:lnTo>
                  <a:arcTo wR="10800" hR="10800" stAng="-10584347" swAng="10584347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49a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859280" y="5589720"/>
            <a:ext cx="3457440" cy="744120"/>
            <a:chOff x="4859280" y="5589720"/>
            <a:chExt cx="3457440" cy="744120"/>
          </a:xfrm>
        </p:grpSpPr>
        <p:sp>
          <p:nvSpPr>
            <p:cNvPr id="279" name=""/>
            <p:cNvSpPr/>
            <p:nvPr/>
          </p:nvSpPr>
          <p:spPr>
            <a:xfrm>
              <a:off x="6629760" y="55897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85200" y="55897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5877000"/>
              <a:ext cx="925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Baseline threshol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89000" y="5805360"/>
              <a:ext cx="927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Addl. Threshol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112000" y="5733720"/>
              <a:ext cx="589320" cy="14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6713640" y="5733720"/>
              <a:ext cx="591120" cy="14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79280" y="922320"/>
            <a:ext cx="345780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lines for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ment of S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708360" y="922320"/>
            <a:ext cx="5256360" cy="2808360"/>
            <a:chOff x="3708360" y="922320"/>
            <a:chExt cx="5256360" cy="2808360"/>
          </a:xfrm>
        </p:grpSpPr>
        <p:grpSp>
          <p:nvGrpSpPr>
            <p:cNvPr id="287" name=""/>
            <p:cNvGrpSpPr/>
            <p:nvPr/>
          </p:nvGrpSpPr>
          <p:grpSpPr>
            <a:xfrm>
              <a:off x="3708360" y="922320"/>
              <a:ext cx="5256360" cy="1513080"/>
              <a:chOff x="3708360" y="922320"/>
              <a:chExt cx="5256360" cy="1513080"/>
            </a:xfrm>
          </p:grpSpPr>
          <p:sp>
            <p:nvSpPr>
              <p:cNvPr id="288" name=""/>
              <p:cNvSpPr/>
              <p:nvPr/>
            </p:nvSpPr>
            <p:spPr>
              <a:xfrm>
                <a:off x="4500720" y="922320"/>
                <a:ext cx="4464000" cy="15130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ositive List- Additional meas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aselines for measur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08360" y="1498680"/>
                <a:ext cx="719280" cy="358920"/>
              </a:xfrm>
              <a:prstGeom prst="rightArrow">
                <a:avLst>
                  <a:gd name="adj1" fmla="val 50000"/>
                  <a:gd name="adj2" fmla="val 50100"/>
                </a:avLst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443640" y="2577960"/>
              <a:ext cx="2521080" cy="1152720"/>
            </a:xfrm>
            <a:prstGeom prst="upArrowCallout">
              <a:avLst>
                <a:gd name="adj1" fmla="val 54682"/>
                <a:gd name="adj2" fmla="val 54677"/>
                <a:gd name="adj3" fmla="val 16667"/>
                <a:gd name="adj4" fmla="val 6666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 level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ndard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695240" y="2565720"/>
            <a:ext cx="7269480" cy="2675880"/>
            <a:chOff x="1695240" y="2565720"/>
            <a:chExt cx="7269480" cy="2675880"/>
          </a:xfrm>
        </p:grpSpPr>
        <p:grpSp>
          <p:nvGrpSpPr>
            <p:cNvPr id="292" name=""/>
            <p:cNvGrpSpPr/>
            <p:nvPr/>
          </p:nvGrpSpPr>
          <p:grpSpPr>
            <a:xfrm>
              <a:off x="1695240" y="2565720"/>
              <a:ext cx="4595040" cy="2675880"/>
              <a:chOff x="1695240" y="2565720"/>
              <a:chExt cx="4595040" cy="2675880"/>
            </a:xfrm>
          </p:grpSpPr>
          <p:sp>
            <p:nvSpPr>
              <p:cNvPr id="293" name=""/>
              <p:cNvSpPr/>
              <p:nvPr/>
            </p:nvSpPr>
            <p:spPr>
              <a:xfrm>
                <a:off x="2124000" y="3730320"/>
                <a:ext cx="3888000" cy="1511280"/>
              </a:xfrm>
              <a:prstGeom prst="roundRect">
                <a:avLst>
                  <a:gd name="adj" fmla="val 16667"/>
                </a:avLst>
              </a:prstGeom>
              <a:solidFill>
                <a:srgbClr val="4b93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mission factor of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he sector, if relev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49800">
                <a:off x="1692000" y="2938320"/>
                <a:ext cx="1368360" cy="431640"/>
              </a:xfrm>
              <a:prstGeom prst="rightArrow">
                <a:avLst>
                  <a:gd name="adj1" fmla="val 50000"/>
                  <a:gd name="adj2" fmla="val 79254"/>
                </a:avLst>
              </a:prstGeom>
              <a:solidFill>
                <a:srgbClr val="4b93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8547600">
                <a:off x="4932000" y="2937960"/>
                <a:ext cx="1368360" cy="431640"/>
              </a:xfrm>
              <a:prstGeom prst="rightArrow">
                <a:avLst>
                  <a:gd name="adj1" fmla="val 50000"/>
                  <a:gd name="adj2" fmla="val 79254"/>
                </a:avLst>
              </a:prstGeom>
              <a:solidFill>
                <a:srgbClr val="4b93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6084720" y="3873600"/>
              <a:ext cx="2880000" cy="1296720"/>
            </a:xfrm>
            <a:prstGeom prst="leftArrowCallout">
              <a:avLst>
                <a:gd name="adj1" fmla="val 25095"/>
                <a:gd name="adj2" fmla="val 25000"/>
                <a:gd name="adj3" fmla="val 19711"/>
                <a:gd name="adj4" fmla="val 8506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 level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ndard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35040" y="309600"/>
            <a:ext cx="7869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b93dc"/>
                </a:solidFill>
                <a:latin typeface="Arial"/>
                <a:ea typeface="Arial"/>
              </a:rPr>
              <a:t>Levels of standardization under SB implementation progra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35040" y="260280"/>
            <a:ext cx="7869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b93dc"/>
                </a:solidFill>
                <a:latin typeface="Arial"/>
                <a:ea typeface="Arial"/>
              </a:rPr>
              <a:t>Ongoing Work on implementation of SB guidelines and SB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26920" y="981000"/>
          <a:ext cx="7777440" cy="4707000"/>
        </p:xfrm>
        <a:graphic>
          <a:graphicData uri="http://schemas.openxmlformats.org/drawingml/2006/table">
            <a:tbl>
              <a:tblPr/>
              <a:tblGrid>
                <a:gridCol w="2856240"/>
                <a:gridCol w="4921200"/>
              </a:tblGrid>
              <a:tr h="34128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s fo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93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720"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 the thresholds for baseline and additionality and their implications for sectors covered by the guid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ring of consultant/s plan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tors to be focused initially depending upon data availability (Power, Cook Stoves, Cement could be possible candida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deliverables are Guidelines for development of thresholds, assessment of thresholds and thresholds for three (possibly) secto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ications of threshold will be tested with real data from sectors of two countries (possibly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be delivered in Q3 20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000"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A/QC guidelin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A/QC guidelines are approved by EB6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data templates to be develop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e on submission of data template to be ready in Q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35040" y="260280"/>
            <a:ext cx="7869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b93dc"/>
                </a:solidFill>
                <a:latin typeface="Arial"/>
                <a:ea typeface="Arial"/>
              </a:rPr>
              <a:t>Ongoing Work on implementation of SB guidelines and SB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39640" y="839880"/>
          <a:ext cx="8064720" cy="5219640"/>
        </p:xfrm>
        <a:graphic>
          <a:graphicData uri="http://schemas.openxmlformats.org/drawingml/2006/table">
            <a:tbl>
              <a:tblPr/>
              <a:tblGrid>
                <a:gridCol w="4319640"/>
                <a:gridCol w="3745080"/>
              </a:tblGrid>
              <a:tr h="33012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s fo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93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>
                  <a:txBody>
                    <a:bodyPr lIns="0" rIns="0" tIns="0" bIns="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idelines with expanded applicability to afforestation and reforestation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first draft on A/R SB guidelines is discussed with ARW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be ready in Q4 20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0" rIns="0" tIns="0" bIns="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idelines with expanded applicability to transport sector 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process of finalisation of consultant and drafting ToR is going 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be ready in Q4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0" rIns="0" tIns="0" bIns="0" anchor="t">
                      <a:noAutofit/>
                    </a:bodyPr>
                    <a:p>
                      <a:pPr marL="452520" indent="-27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2520" indent="-27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2520" indent="-276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alities for support to countries with less than 10 CDM projec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2520" indent="-276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e for the submission of projects using SBs (Potential revision in existing PCP, PS, VV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2520" indent="-276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ure on submission of data tem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2520" indent="-276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work is underwa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be ready in Q2-Q3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6T13:07:23Z</dcterms:created>
  <dc:creator>Wenxin Li</dc:creator>
  <dc:description/>
  <dc:language>en-US</dc:language>
  <cp:lastModifiedBy>Kishor Rajhansa</cp:lastModifiedBy>
  <cp:lastPrinted>2004-03-02T21:24:15Z</cp:lastPrinted>
  <dcterms:modified xsi:type="dcterms:W3CDTF">2012-03-21T19:12:24Z</dcterms:modified>
  <cp:revision>112</cp:revision>
  <dc:subject/>
  <dc:title>TITLE HEADER</dc:title>
</cp:coreProperties>
</file>