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0D6-BB16-4271-B333-D8108099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F7C-7072-4BA7-BDBA-401555D8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8D8-2030-4B75-8787-4C76F450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92B-34E3-43E2-BB8F-322017EC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8B71-EA5E-47FA-A82A-406039BB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453A-9F74-42C7-BC86-A14AE9ED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3E1A-6D8D-4007-907F-D6375603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6F79-9D0A-4556-A113-B4E79258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E665-F715-4151-9682-409713A4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CF31-72B0-4E71-8B9B-A08B527D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BD32-FBE4-4EB0-B6EF-11BD4B71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99A-CFBB-43F3-8016-6306F718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9C49-1C67-43A3-8864-228031C4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B706-024F-442E-96F6-B5FE6CB7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AE7E-C117-4E5F-99CD-C69B894F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BEC1-CE10-4DFB-AE6C-BAE425F7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48CC-17D2-41A1-B7BC-F4F9E53C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981D1-C1DC-4D76-B29F-DFE7D4DD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54138-5229-4C8E-A110-11E8D92A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C22E-464F-4418-9655-BA82EC64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1FF9D-BACB-4ACB-BFEA-1E84704E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A7AF9-7932-4BD0-811C-6C7169DF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59D-3736-4DDD-8B5D-2BCE4B65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715EE-F0E2-4DB7-BDE4-F3E9C9AB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E0B61-9B9A-48E9-975E-0E358815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9F7A7-361F-4810-8107-CD12BE8D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D4C78-5948-43D9-A6DC-B337BECD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7BF02-2DDA-4D3B-ABBE-DD0CCD6D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C8F26-D75E-4B5E-A5F5-64EF265D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FBF84-BB4A-4E91-8ED9-830C7C1F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C010F-0420-4E32-9704-209AA223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9E4FA-2D5A-4013-9F03-FB891A47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BC93-0B2E-44D3-B48C-090EADBF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7FE-8FDA-42EC-AFC5-8EBA7ECC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7DB0E-570E-4CCC-86DE-FE07E5CF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5A1EB-1DF6-4781-A9D4-C7A07D57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180D6-BD1B-4CC5-A9B5-F377C15B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4E610-D4E6-4ED9-AEA4-05C8A7C7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63F94-D5E4-4688-A5FF-BCD42526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73BA4-1F9F-4AAA-93DF-68F29A96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02DA4-F595-414A-98F0-7CFDB1D2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52766-9DEB-4D89-879F-22241C0B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5AED0-E32D-47D4-8890-14C52C85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9F656-3713-428A-A4A6-6F3392AB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AB1-BD1C-4AA5-8B61-4001F6FD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E052C-9874-4E82-BA8E-A50A20EE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8FFE6-755C-4E61-AE18-9ADBBCD5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C9D24-C6C4-4603-A173-24991847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04B0E-12C6-45F9-B9DF-0FB558E6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A927C-4638-43C8-B4AA-EC2AE3A6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B2FE2-3A33-4E4A-8D8D-6121C660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1C62C-CDF4-409D-84CD-3F784549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1FCB6-A08F-4761-9C6F-BF91C8CD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90DEF-BA64-40C3-A014-DD8CC877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B7C23-C42C-40DB-9C28-B15C0CA2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447-D741-4EC6-BB16-E3EEE800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0D871-2C8E-444F-90EF-51330243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D75-0D79-4C1E-A293-CEE4DD34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7DE-D5C5-4ABE-9165-F0711EF3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8C0-A714-4862-8BF3-C8098069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3B94-F427-4588-80F2-03F20EE61FF4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96F9-E717-49F1-A145-814871860161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CF42-42FB-4594-AB62-CA3F59B69DB3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CFD3-F136-4DDD-9140-64C1C525ACE4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A08F-F1B9-42F6-875C-95BFD1A9E896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409C-3A09-445A-919D-9A06506871D3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869B-EEAD-47DD-9EBE-13FAF5AF0B1C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12BA-5ECD-457D-8211-340FEA503D4C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F551-D438-4573-880E-D90494F13F3B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2EEE-18A4-415D-AF1D-A97BD90FDF66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1371240"/>
            <a:ext cx="8351640" cy="15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Bookman Old Style"/>
              </a:rPr>
              <a:t>Durban Decisions on the Clean Development Mechanism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39920" y="393372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Bookman Old Style"/>
              </a:rPr>
              <a:t>DUAN Maoshe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Bookman Old Style"/>
              </a:rPr>
              <a:t>Chair of the CDM Executive Boa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Bookman Old Style"/>
              </a:rPr>
              <a:t>2012.3.24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108000" y="404640"/>
            <a:ext cx="59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First SDM Joint Coordination Workshop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Bonn, Germany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24-25 March 2012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8000" y="533160"/>
            <a:ext cx="892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2533c"/>
                </a:solidFill>
                <a:latin typeface="Bookman Old Style"/>
              </a:rPr>
              <a:t>Further Guidance Relating to the CDM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the EB to continue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promoting the equitable distribution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 of project activiti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the secretariat to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enhance its support 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for underrepresented countries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the EB to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allocate funds 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for this purpos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the secretariat to accelerate the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operationalization of the loan schem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673F-68AE-4ACE-B8A5-392E9128D7A0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8000" y="533160"/>
            <a:ext cx="892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2533c"/>
                </a:solidFill>
                <a:latin typeface="Bookman Old Style"/>
              </a:rPr>
              <a:t>Materiality Standard under the CDM</a:t>
            </a:r>
            <a:endParaRPr b="0" lang="en-US" sz="3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78920" y="1557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Defines the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concept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 of material informatio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Decides that the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scope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 of materiality initially covers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601"/>
              </a:spcBef>
              <a:buClr>
                <a:srgbClr val="7030a0"/>
              </a:buClr>
              <a:buSzPct val="85000"/>
              <a:buFont typeface="Bookman Old Styl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The stage of verification by designated operational entities;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601"/>
              </a:spcBef>
              <a:buClr>
                <a:srgbClr val="7030a0"/>
              </a:buClr>
              <a:buSzPct val="85000"/>
              <a:buFont typeface="Bookman Old Styl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The assessment of requests for issuance by the Executive Board of the CDM and its support structure;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601"/>
              </a:spcBef>
              <a:buClr>
                <a:srgbClr val="7030a0"/>
              </a:buClr>
              <a:buSzPct val="85000"/>
              <a:buFont typeface="Bookman Old Styl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Non-prescriptive and prescriptive requirements;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601"/>
              </a:spcBef>
              <a:buClr>
                <a:srgbClr val="7030a0"/>
              </a:buClr>
              <a:buSzPct val="85000"/>
              <a:buFont typeface="Bookman Old Styl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Quantitative informati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Decides on the materiality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thresholds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Decides that the scope of materiality and the thresholds shall be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reviewed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 by the EB no later than one year after their implement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C429-503E-4A52-A5F2-6336BD8D5DA6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8000" y="533160"/>
            <a:ext cx="892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2533c"/>
                </a:solidFill>
                <a:latin typeface="Bookman Old Style"/>
              </a:rPr>
              <a:t>Materiality Standard under the CDM</a:t>
            </a:r>
            <a:endParaRPr b="0" lang="en-US" sz="3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8920" y="1700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the EB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To </a:t>
            </a:r>
            <a:r>
              <a:rPr b="0" lang="en-US" sz="22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implement</a:t>
            </a: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 the concept of materiality and to report to CMP8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To </a:t>
            </a:r>
            <a:r>
              <a:rPr b="0" lang="en-US" sz="22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develop guidance </a:t>
            </a: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on how to calculate the thresholds and on what should be done if the thresholds are surpassed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To </a:t>
            </a:r>
            <a:r>
              <a:rPr b="0" lang="en-US" sz="22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address the issue of uncertainties </a:t>
            </a: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of measurements in  methodologies, so that these types of uncertainties do not need to be considered in addressing materiality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AFF6-53BD-4763-9476-29C99524FD52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8000" y="533160"/>
            <a:ext cx="892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2533c"/>
                </a:solidFill>
                <a:latin typeface="Bookman Old Style"/>
              </a:rPr>
              <a:t>Responses from the EB</a:t>
            </a:r>
            <a:endParaRPr b="0" lang="en-US" sz="3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78920" y="1557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Swift and robust responses to the needs of Parties and the guidance given by the CMP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CDM management plan 2012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Greater integrity, efficiency and enhanced predictability in the operation of the CDM through simplification, improved objectivity and compliance with sustainable timelines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Expansion of the reach and reputation of the CDM through outreach, further development of requirements, increased distribution of projects, and focused skills development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E55E-F728-4D3D-B00D-C5B44720C36A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533160"/>
            <a:ext cx="892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2533c"/>
                </a:solidFill>
                <a:latin typeface="Bookman Old Style"/>
              </a:rPr>
              <a:t>Responses from the EB</a:t>
            </a:r>
            <a:endParaRPr b="0" lang="en-US" sz="3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A(1): Ensure operational capacity and improve efficiency in the operation of the CD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isk-based approach for assessing project submissions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Management of operational capacity to deal with expected increase in submissions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Implementation of the PoA standards and procedures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Improvement to the guidelines on suppressed demand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1ED7-5258-4402-99C0-6A14BC95A5AE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8000" y="533160"/>
            <a:ext cx="892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2533c"/>
                </a:solidFill>
                <a:latin typeface="Bookman Old Style"/>
              </a:rPr>
              <a:t>Responses from the EB</a:t>
            </a:r>
            <a:endParaRPr b="0" lang="en-US" sz="3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78920" y="1483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A(2): Improved objectivity, clarity and integrity in the CD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Top-down small-scale methodologies using standardized approaches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Guidelines on standardized approaches for determining baselines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vised micro-scale additionality guidelines and extension of simplified modalities for additionality demonstration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Top-down development and revisions of small scale methodologies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Implementation of the CDM PS, VVS, and PCP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4525-8993-4F70-B2D7-9B7AF25409F8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8000" y="533160"/>
            <a:ext cx="892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2533c"/>
                </a:solidFill>
                <a:latin typeface="Bookman Old Style"/>
              </a:rPr>
              <a:t>Responses from the EB</a:t>
            </a:r>
            <a:endParaRPr b="0" lang="en-US" sz="3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7892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A(2): Improved objectivity, clarity and integrity in the CD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15320" indent="-44784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Top-down large-scale methodologies using standardized approaches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715320" indent="-44784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Guidance on the application of materiality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715320" indent="-44784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Improve guidelines on first-of-its-kind and the assessment of common practic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715320" indent="-44784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vised draft procedures to address significant deficiencies and CMP recommendations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715320" indent="-44784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New or revised standards and/or guidelines for additionality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47840" indent="-447840" algn="just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Symbol"/>
                <a:ea typeface="Symbol"/>
              </a:rPr>
              <a:t>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11FD-EFE6-4402-A6FD-8B19153C430D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8000" y="533160"/>
            <a:ext cx="892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2533c"/>
                </a:solidFill>
                <a:latin typeface="Bookman Old Style"/>
              </a:rPr>
              <a:t>Responses from the EB</a:t>
            </a:r>
            <a:endParaRPr b="0" lang="en-US" sz="3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78920" y="1483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EB66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agreed on the steps for the implementation of the concept of materiality and requested the secretariat to increase its interaction with DOEs in developing guidelines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Agreed to establish a working group on CCS with flexibility on the number and scheduling of meetings requested the secretariat to secure the required expertise for the assessment of CCS methodologies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Allocation of necessary financial resources to the Policy Dialogu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B13F-FF96-4EDB-899C-02754584F0D7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8000" y="533160"/>
            <a:ext cx="892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2533c"/>
                </a:solidFill>
                <a:latin typeface="Bookman Old Style"/>
              </a:rPr>
              <a:t>Key Messages</a:t>
            </a:r>
            <a:endParaRPr b="0" lang="en-US" sz="3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78920" y="1773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Vision for the CDM : “Credible offset mechanism for a low greenhouse gas future promoting sustainable developme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Endeavored to ensure the environmental integrity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Committed to continuing with this crucial focu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Improving the efficiency and effectiveness of the mechanis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Ensuring that the CDM is “fit for the futur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20BE-D9EB-4B4B-B542-C5A69D5EABA6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000" y="2708280"/>
            <a:ext cx="8928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2533c"/>
                </a:solidFill>
                <a:latin typeface="Bookman Old Style"/>
              </a:rPr>
              <a:t>THANKS</a:t>
            </a:r>
            <a:endParaRPr b="0" lang="en-US" sz="6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5B0B-F1C6-4695-9AF4-D5C976363290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713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2533c"/>
                </a:solidFill>
                <a:latin typeface="Bookman Old Style"/>
              </a:rPr>
              <a:t>Durban Decisions Related to the CDM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ts val="2999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1/CMP.7: Outcome of the work of the AWG KP at its 16th Sess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ts val="2999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2/CMP.7: Land use, land-use change and Forestr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ts val="2999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3/CMP.7: Emissions trading and the project-based mechanism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ts val="2999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8/CMP.7: Further guidance relating to the CD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ts val="2999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9/CMP.7: Materiality standard under the CD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ts val="2999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10/CMP.7: M&amp;P for CCS in geological formations as CDM project activiti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A774-7A61-49ED-ACC8-BDAD66D8828D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713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2533c"/>
                </a:solidFill>
                <a:latin typeface="Bookman Old Style"/>
              </a:rPr>
              <a:t>Outcome of the AWG-KP 16</a:t>
            </a:r>
            <a:endParaRPr b="0" lang="en-US" sz="3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8920" y="1557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confirms the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qualitative supplementarity requirement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 on the use of the mechanism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SBSTA to initiate a work programme to consider and, as appropriate, develop and recommend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M&amp;P for possible additional LULUCF activities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 under the CDM with a view to forwarding a draft decision for adoption by CMP9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the SBSTA to initiate a work programme to consider and, as appropriate, develop and recommend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M&amp;P for alternative approaches to addressing the risk of nonpermanence 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under the CDM with a view to forwarding a draft decision for adoption by CMP9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3747-219B-45AC-890A-A41AB8E9B2B0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533160"/>
            <a:ext cx="892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2533c"/>
                </a:solidFill>
                <a:latin typeface="Bookman Old Style"/>
              </a:rPr>
              <a:t>Further Guidance Relating to the CDM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78920" y="1915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the EB to develop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appropriate voluntary measures to highlight the co-benefits 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brought about by CDM PAs and PoAs, while maintaining the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prerogative of Parties 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to define their SD criteri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the EB to continue to further improve the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consistency, efficiency and transparency 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of its decision-mak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0E70-42AD-4A2E-A000-DE99F0AF1B5F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000" y="533160"/>
            <a:ext cx="892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2533c"/>
                </a:solidFill>
                <a:latin typeface="Bookman Old Style"/>
              </a:rPr>
              <a:t>Further Guidance Relating to the CDM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78920" y="1557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Welcomes the work undertaken by the EB to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address liability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 in the context of the draft procedure on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significant deficiencies 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in validation, verification and certification report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the sec. and the EB to further investigate the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impact of potential approaches to address significant deficiencies 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in validation, verification and certification reports and to prepare a repor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the EB, in consultation with stakeholders, to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revise the draft procedure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, taking into account conclusions, if any, on the appeals process under consideration of the SBI,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for adoption by CMP8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F5CF-649B-49EA-8D54-18478686D90D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8000" y="533160"/>
            <a:ext cx="892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2533c"/>
                </a:solidFill>
                <a:latin typeface="Bookman Old Style"/>
              </a:rPr>
              <a:t>Further Guidance Relating to the CDM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Encourages the EB to extend the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simplified modalities for the demonstration of additionality 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to a wider scope of PA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the EB to continue ensuring environmental integrity when developing and revising methodologies and tools, in particular by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considering possible ways 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of improving the current approach to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the assessment of additionali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7B8F-34C1-4DD8-B1C8-79A814FEA3C8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8000" y="533160"/>
            <a:ext cx="892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2533c"/>
                </a:solidFill>
                <a:latin typeface="Bookman Old Style"/>
              </a:rPr>
              <a:t>Further Guidance Relating to the CDM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78920" y="1915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the EB to further improve the guidelines on the use of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“first-of-its-kind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” and the assessment of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common practice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, on the basis of applic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the EB to accelerate the implementation of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guidelines on suppressed demand 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in baselines and monitoring methodologi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1B35-F47B-44FB-A886-700CF8964AFC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8000" y="533160"/>
            <a:ext cx="892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2533c"/>
                </a:solidFill>
                <a:latin typeface="Bookman Old Style"/>
              </a:rPr>
              <a:t>Further Guidance Relating to the CDM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the EB to further develop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simplified top-down methodologies, tools and standardized baselines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 for use in underrepresented countries and for project types, and to expand the scopes covered by the guidelines for the establishment of sector-specific standardized baselin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the EB to ensure its readiness to process submissions of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standardized baselin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2C07-B5ED-4747-A08E-0CEC746F75E7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8000" y="533160"/>
            <a:ext cx="892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2533c"/>
                </a:solidFill>
                <a:latin typeface="Bookman Old Style"/>
              </a:rPr>
              <a:t>Further Guidance Relating to the CDM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8920" y="206064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Urges the EB and the secretariat to ensure that the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average waiting time 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between the receipt of submissions for registration and issuance and the commencement of completeness checks is less than 15 calendar day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just">
              <a:lnSpc>
                <a:spcPts val="2798"/>
              </a:lnSpc>
              <a:spcBef>
                <a:spcPts val="1199"/>
              </a:spcBef>
              <a:buClr>
                <a:srgbClr val="7030a0"/>
              </a:buClr>
              <a:buSzPct val="85000"/>
              <a:buFont typeface="Bookman Old Style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Requests the EB to assess the implications of the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Bookman Old Style"/>
                <a:ea typeface="Times New Roman"/>
              </a:rPr>
              <a:t>withdrawal or suspension of  LoAs </a:t>
            </a:r>
            <a:r>
              <a:rPr b="0" lang="en-US" sz="2400" spc="-1" strike="noStrike">
                <a:solidFill>
                  <a:srgbClr val="292934"/>
                </a:solidFill>
                <a:latin typeface="Bookman Old Style"/>
                <a:ea typeface="Times New Roman"/>
              </a:rPr>
              <a:t>and make recommendations to CMP8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4A51-4DB3-4994-A8DE-5F689D712117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9:52:21Z</dcterms:created>
  <dc:creator>duanmsh</dc:creator>
  <dc:description/>
  <dc:language>en-US</dc:language>
  <cp:lastModifiedBy>duanmsh</cp:lastModifiedBy>
  <dcterms:modified xsi:type="dcterms:W3CDTF">2012-03-23T23:12:13Z</dcterms:modified>
  <cp:revision>38</cp:revision>
  <dc:subject/>
  <dc:title>PowerPoint 演示文稿</dc:title>
</cp:coreProperties>
</file>