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2b8c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9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C605-E4A6-41A9-A079-7691E3ACC1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DEBD-3969-4BE5-A527-271F066774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2F2C-14DC-4660-AB93-DDE8B3ABE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25B9-5C01-4B98-BDAA-6CF5BCA7D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47EA-E957-41B3-8D1F-F4C60D6B0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EF40-7FC0-4C04-A8C3-E51BB55E1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0A76B-DDC4-4A93-9574-B34F470219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C20AC-1D81-4F63-91F6-367AAB2816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56D8B-3BC4-43F8-9D1B-499088E470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E71D6-5C33-4EE3-8186-72B3EB19C8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D5B48-06E7-4BA6-92F1-23E0E2EAF0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5508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D9C0A-F508-47CF-8A8D-B6BBCDC7E6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787AD-39C2-4167-B8E8-2404F7F71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0B22-6977-4D8C-8906-B7EA307A4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34187-DDB6-4BC9-BF41-D75E1C5949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BC58C-7700-425F-B1CE-4C394E59C4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351D3-9154-4735-B975-DD4A57A47A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54618-F035-4BF9-8E89-479A313C34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A4DCD-55D6-4925-A1CD-23E0277A71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38D2-9A8C-470C-B12B-CE9C95106B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74A5-1BDB-41FA-A62A-732E311BEA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CC80-7EC4-4803-BB42-C63B94D224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F00E-594C-4BD2-9294-343618BA7D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3B0B-E91B-45D9-B394-8FADD7B95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4FED-D528-4E65-BBC3-2DAA0E2CC6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5508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9F38-EA88-4DC6-8EFD-19FA8F9739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B9F0-39C2-4C6C-A4F2-E5C2517907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F296-5A76-4D25-8078-CA2D58FA9A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F73D-9B76-497C-9E70-D66F22B460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D10-C3D7-472D-99BE-17512F5762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F334-3AC5-495A-AECB-C7DBAA70DA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9C5F-43A7-4983-9C9F-DB9AD3626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A7A0-D834-41EC-B917-74BD4F437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FA8F-63C3-401E-A99E-67D1C9436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5508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6D31-039E-4918-BD7F-841C3B5A2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C380C-995D-4FB7-A2BA-90B189501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07E3-AC2E-4663-AC1F-9E5301CBB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0812-6697-4AF5-9BE6-0EF02B94C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8920" y="6381720"/>
            <a:ext cx="604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tre de la Présentation                I   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876720" y="6381720"/>
            <a:ext cx="1871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512b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E96-CB2D-434C-8CEA-8F5AAE51999C}" type="slidenum">
              <a:rPr b="1" lang="fr-FR" sz="1400" spc="-1" strike="noStrike">
                <a:solidFill>
                  <a:srgbClr val="512b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itre 6"/>
          <p:cNvSpPr/>
          <p:nvPr/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25560">
            <a:solidFill>
              <a:srgbClr val="512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2b8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pic>
        <p:nvPicPr>
          <p:cNvPr id="5" name="Picture 32" descr="Copie de PPT visuel_VA2-4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itre 6"/>
          <p:cNvSpPr/>
          <p:nvPr/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25560">
            <a:solidFill>
              <a:srgbClr val="512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2" descr="Copie de PPT visuel_VA2-4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928800"/>
          </a:xfrm>
          <a:prstGeom prst="rect">
            <a:avLst/>
          </a:prstGeom>
          <a:ln w="0">
            <a:noFill/>
          </a:ln>
        </p:spPr>
      </p:pic>
      <p:sp>
        <p:nvSpPr>
          <p:cNvPr id="44" name="Espace réservé du titre 7"/>
          <p:cNvSpPr/>
          <p:nvPr/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12b8c"/>
                </a:solidFill>
                <a:latin typeface="Arial"/>
              </a:rPr>
              <a:t>Cliquez pour modifier le style du ti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2b8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178920" y="6381720"/>
            <a:ext cx="604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tre de la Présentation                I   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876720" y="6381720"/>
            <a:ext cx="1871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512b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6996-AE59-4702-9874-A623712C73B5}" type="slidenum">
              <a:rPr b="1" lang="fr-FR" sz="1400" spc="-1" strike="noStrike">
                <a:solidFill>
                  <a:srgbClr val="512b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6"/>
          <p:cNvSpPr/>
          <p:nvPr/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25560">
            <a:solidFill>
              <a:srgbClr val="512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2" descr="Copie de PPT visuel_VA2-4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928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2b8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178920" y="6381720"/>
            <a:ext cx="604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TI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    Feb 29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876720" y="6381720"/>
            <a:ext cx="1871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512b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7E2F-B286-464B-81FF-AAC68F56F62E}" type="slidenum">
              <a:rPr b="1" lang="fr-FR" sz="1400" spc="-1" strike="noStrike">
                <a:solidFill>
                  <a:srgbClr val="512b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enoit.leguet@cdcclimat.com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PPT visuel_VA2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7"/>
          <p:cNvSpPr/>
          <p:nvPr/>
        </p:nvSpPr>
        <p:spPr>
          <a:xfrm>
            <a:off x="1187280" y="4005360"/>
            <a:ext cx="44992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3000" spc="-1" strike="noStrike">
                <a:solidFill>
                  <a:srgbClr val="512b8c"/>
                </a:solidFill>
                <a:latin typeface="Arial"/>
                <a:ea typeface="ヒラギノ角ゴ Pro W3"/>
              </a:rPr>
              <a:t>Transitional measures for Joint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fr-FR" sz="1800" spc="-1" strike="noStrike">
                <a:solidFill>
                  <a:srgbClr val="f2b100"/>
                </a:solidFill>
                <a:latin typeface="Arial"/>
                <a:ea typeface="ヒラギノ角ゴ Pro W3"/>
              </a:rPr>
              <a:t>Benoît Leguet, Member of the JI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335240" y="5877000"/>
            <a:ext cx="1363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fr-FR" sz="1500" spc="-1" strike="noStrike">
                <a:solidFill>
                  <a:srgbClr val="512b8c"/>
                </a:solidFill>
                <a:latin typeface="Arial"/>
                <a:ea typeface="Arial"/>
              </a:rPr>
              <a:t>March 25,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2b8c"/>
                </a:solidFill>
                <a:latin typeface="Arial"/>
              </a:rPr>
              <a:t>Bridging the gap</a:t>
            </a: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 guidelines do work…</a:t>
            </a:r>
            <a:br>
              <a:rPr sz="2800"/>
            </a:b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nd will keep working until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agreement for CP2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 AAUs on Jan 1, 20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until AAUs ar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at CMP8 on mod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visional application, “prompt sta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P1 AAUs with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re there’s a will there’s a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12b8c"/>
                </a:solidFill>
                <a:latin typeface="Arial"/>
              </a:rPr>
              <a:t>Bridging towards CP2 JI:</a:t>
            </a:r>
            <a:br>
              <a:rPr sz="2700"/>
            </a:br>
            <a:r>
              <a:rPr b="1" lang="en-US" sz="2700" spc="-1" strike="noStrike">
                <a:solidFill>
                  <a:srgbClr val="512b8c"/>
                </a:solidFill>
                <a:latin typeface="Arial"/>
              </a:rPr>
              <a:t>not a “writer’s block”</a:t>
            </a:r>
            <a:endParaRPr b="1" lang="en-US" sz="27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341360"/>
            <a:ext cx="7661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y book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akesh Ac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o CMP6 (Experi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o CMP7 (Approa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-setting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rack for J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questions unanswered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f the future governing body: auditors and projects? offset sche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12b8c"/>
                </a:solidFill>
                <a:latin typeface="Arial"/>
              </a:rPr>
              <a:t>Bridging towards CP2 JI: challenges ahead</a:t>
            </a:r>
            <a:endParaRPr b="1" lang="en-US" sz="27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267920"/>
            <a:ext cx="7661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mooth transition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ed projec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project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edited audito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A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JI procedu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F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if end point is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JISC 28: draft CP2 JI guidelines to be submitted to CMP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n key attributes to be provided by April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12b8c"/>
              </a:buClr>
              <a:buSzPct val="80000"/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 operates in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p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vironment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ere there’s JI, there’s room for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0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2b8c"/>
                </a:solidFill>
                <a:latin typeface="Arial"/>
              </a:rPr>
              <a:t>Thank you for your attention</a:t>
            </a:r>
            <a:endParaRPr b="1" lang="en-US" sz="3000" spc="-1" strike="noStrike">
              <a:solidFill>
                <a:srgbClr val="512b8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12b8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noît Leguet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mber of the Joint Implementation Supervisory Committee </a:t>
            </a:r>
            <a:br>
              <a:rPr sz="2000"/>
            </a:b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oit.leguet@cdcclimat.co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31:56Z</dcterms:created>
  <dc:creator>CDC Climat</dc:creator>
  <dc:description/>
  <dc:language>en-US</dc:language>
  <cp:lastModifiedBy>bleguet</cp:lastModifiedBy>
  <cp:lastPrinted>2009-11-07T17:29:34Z</cp:lastPrinted>
  <dcterms:modified xsi:type="dcterms:W3CDTF">2012-04-04T08:44:40Z</dcterms:modified>
  <cp:revision>158</cp:revision>
  <dc:subject/>
  <dc:title>Présentation PowerPoint</dc:title>
</cp:coreProperties>
</file>