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8720" y="742680"/>
            <a:ext cx="495612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76280" y="388800"/>
            <a:ext cx="5842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76280" y="9223200"/>
            <a:ext cx="5842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76280" y="9333000"/>
            <a:ext cx="5840280" cy="57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1"/>
          <p:cNvSpPr/>
          <p:nvPr/>
        </p:nvSpPr>
        <p:spPr>
          <a:xfrm>
            <a:off x="469800" y="149400"/>
            <a:ext cx="5842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unfccc-letter-es-e-header"/>
          <p:cNvPicPr/>
          <p:nvPr/>
        </p:nvPicPr>
        <p:blipFill>
          <a:blip r:embed="rId2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unfccc-letter-es-e-header"/>
          <p:cNvPicPr/>
          <p:nvPr/>
        </p:nvPicPr>
        <p:blipFill>
          <a:blip r:embed="rId2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2" descr="unfccc-letter-es-e-header"/>
          <p:cNvPicPr/>
          <p:nvPr/>
        </p:nvPicPr>
        <p:blipFill>
          <a:blip r:embed="rId3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John Ki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unfccc-letter-es-e-header"/>
          <p:cNvPicPr/>
          <p:nvPr/>
        </p:nvPicPr>
        <p:blipFill>
          <a:blip r:embed="rId3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ohn Ki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6"/>
          <p:cNvSpPr/>
          <p:nvPr/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7"/>
          <p:cNvSpPr/>
          <p:nvPr/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James Grabert, Coordinator S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DM Strategy</a:t>
            </a:r>
            <a:endParaRPr b="0" lang="en-US" sz="3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50920" y="4508280"/>
            <a:ext cx="78818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SDM Joint  Coordination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, Germany 24-25 March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Measures</a:t>
            </a: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86744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ed regist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he uptake of market mechanisms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ion of a common framework for tracking units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y services available to private and public (non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) entities to allow cancellation of units on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 ba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set-up and operation of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Measures</a:t>
            </a: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86744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integrity of units generated and enhanc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tation of existing mech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elled doubts on the quality of units and improv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in the outcomes of the various steps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 and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internal operations and relations i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- - PP / DOE-AIE / Secretariat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tion of specific actions taking into ac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DM modalities and JI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Measures</a:t>
            </a: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86744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ional supp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a support service to assist proj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in under represen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capacity in under-represented areas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pro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in-person support service, including thr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on with UN agencies with local/reg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so as to achieve efficiencies in being clo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“custom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Cross-cutting measures</a:t>
            </a: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86744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Communication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of Resources /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 communications and resources to the strategy, making necessary adjustments to related actions and means of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re essential for delivery of the various measures and overall 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1849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Relationship: measures and markets</a:t>
            </a:r>
            <a:br>
              <a:rPr sz="3600"/>
            </a:b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116000" y="1022400"/>
            <a:ext cx="7113600" cy="471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013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of the CDM and JI mechanisms beyond 2012 and ensuring their evolution in a complementary manner with further approaches as they ev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SDM to continually be in a position to support Parties, constituted bodies and stakeholders effectively through the move toward the future market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sion of elements of support, including improved infrastructure,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39640" y="476280"/>
            <a:ext cx="7869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  <a:ea typeface="Arial"/>
              </a:rPr>
              <a:t>Out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95280" y="2637000"/>
            <a:ext cx="83534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39640" y="476280"/>
            <a:ext cx="7869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777708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’s core business in CP1 is focus on operation and improvement in the CDM &amp; 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CP2, new conditions will apply to carbon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357120">
              <a:lnSpc>
                <a:spcPts val="2398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that there will be a reduction in demand for CER drastically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357120">
              <a:lnSpc>
                <a:spcPts val="2398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new markets and instruments are emerging bottom-up glob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357120">
              <a:lnSpc>
                <a:spcPts val="2398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market based mechanism under UNFCCC was defined in Dur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357120">
              <a:lnSpc>
                <a:spcPts val="2398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k programme for a Framework for various approaches was launched in Dur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0">
              <a:lnSpc>
                <a:spcPts val="23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rrent market situation reflects over-supply, economic uncertainties, and a generally immature marke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ally the secretariat’s SDM programme needs to focus on the medium term perspective, preparing for a new market situation with several markets, several mechanisms, while, as yet, having an undefined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light of current situation, objective of strategy is broadly twofo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5748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arkets / market approaches (including existing CDM &amp; JI) to mature and become more sophis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lnSpc>
                <a:spcPts val="23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5748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potential role(s) of the secretariat/UNFCCC in a new market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539640" y="476280"/>
            <a:ext cx="7869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  <a:ea typeface="Arial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06440" y="134100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sion of continued high quality support to the CDM &amp; JI regulator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sion of support to Parties in the negotiation process with regard to market-based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of som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ecific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539640" y="476280"/>
            <a:ext cx="7869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  <a:ea typeface="Arial"/>
              </a:rPr>
              <a:t>SDM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Specific Measures</a:t>
            </a: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72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ts val="2398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Purpose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ts val="2398"/>
              </a:lnSpc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confidence in marke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ommitment by mark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market linkag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ing policy makers i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ence -&gt; 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ure mechamism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M as standard s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particip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anded regist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integrity of mechanis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capa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onal suppor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ts val="2398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ts val="2398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3760" y="333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Measures</a:t>
            </a: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786744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commitment from market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long-term commitment to carbon marke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major inves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ement on engagement in markets includ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claration of role of market mechanisms for co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FCCC supported partnership/initiative alo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key stakeholder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Measures</a:t>
            </a: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8674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gaging policy makers in new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foundations of a future integr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 market – how existing and new mechanis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linked under the future climate regi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hands-on experiences from connecting bottom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markets with KP markets. Possibility for grea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ibility of KP units in new marke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atic approach to contacting and interac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olicy makers, regulators  and other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keholders in new mar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93dc"/>
                </a:solidFill>
                <a:latin typeface="Arial"/>
              </a:rPr>
              <a:t>Measures</a:t>
            </a: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743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M as standard s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DM standards as a bridge to the fu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(e.g. NAMAs, NMBM). An increased level of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n how the current reformed CDM c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evelopment and implementation of fu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i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mechanism’s take fully into account the experie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unique expertise that has built up around C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398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 further implementation of CDM, in parti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sed baselines and PoAs, and broadening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h of the CDM to under represented region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privileged communities, and sectors, along 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improvements that particularly build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to future mechan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7:47:27Z</dcterms:created>
  <dc:creator>Tollmann</dc:creator>
  <dc:description/>
  <dc:language>en-US</dc:language>
  <cp:lastModifiedBy>Correia</cp:lastModifiedBy>
  <cp:lastPrinted>2004-03-02T21:24:15Z</cp:lastPrinted>
  <dcterms:modified xsi:type="dcterms:W3CDTF">2012-03-24T14:39:42Z</dcterms:modified>
  <cp:revision>31</cp:revision>
  <dc:subject/>
  <dc:title>TITLE HEADER</dc:title>
</cp:coreProperties>
</file>