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Header Placeholder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 III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Module 3.2 – Alignment of the Accreditation Procedures</a:t>
            </a: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 - </a:t>
            </a:r>
            <a:r>
              <a:rPr b="0" lang="de-DE" sz="1200" spc="-1" strike="noStrike">
                <a:solidFill>
                  <a:srgbClr val="4b93dc"/>
                </a:solidFill>
                <a:latin typeface="Arial"/>
              </a:rPr>
              <a:t>Module 3.2 – Alignment of the Accreditation Procedures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Stepwise alignment of the JI accreditation process with the CDM accredit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Priority areas for alignment in the short and long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Discussion on the different nature of both systems and the possible implications on the feasibility of integrated assessm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Uncertainty as a element that conditions future options for integration of bo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III  - </a:t>
            </a:r>
            <a:r>
              <a:rPr b="0" lang="de-DE" sz="1200" spc="-1" strike="noStrike">
                <a:solidFill>
                  <a:srgbClr val="4b93dc"/>
                </a:solidFill>
                <a:latin typeface="Arial"/>
              </a:rPr>
              <a:t>Module 3.2 – Alignment of the Accreditation Procedures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Integration of the roster of expe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Joint assessments (JI and CDM) in order to optimiz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Explore the feasibility of full integration of CDM and JI accreditation processes including accreditation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Laura Lenz</cp:lastModifiedBy>
  <cp:lastPrinted>2004-03-02T21:24:15Z</cp:lastPrinted>
  <dcterms:modified xsi:type="dcterms:W3CDTF">2012-03-25T09:45:18Z</dcterms:modified>
  <cp:revision>7</cp:revision>
  <dc:subject/>
  <dc:title>7th Joint Coordination Workshop</dc:title>
</cp:coreProperties>
</file>