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907200" cy="688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9061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9061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9061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9043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9043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4294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08800" y="0"/>
            <a:ext cx="4294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236760" y="517680"/>
            <a:ext cx="3430800" cy="257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999999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328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24560"/>
            <a:ext cx="429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"/>
          </p:nvPr>
        </p:nvSpPr>
        <p:spPr>
          <a:xfrm>
            <a:off x="5608800" y="6540120"/>
            <a:ext cx="4286160" cy="3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FCB71-6432-48C6-A3F2-5E1A7C14B2BC}" type="slidenum"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543640" y="6330960"/>
            <a:ext cx="3878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5C81-6169-4032-A933-C9EC5CE0A320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3640" y="6330960"/>
            <a:ext cx="3879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6230-1BF8-400B-AE11-660AF0AD28AA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3640" y="6330960"/>
            <a:ext cx="3882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6B06C-44EB-4C12-B532-E4D29E296EC3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7680" y="719280"/>
            <a:ext cx="6532560" cy="240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36760" y="517680"/>
            <a:ext cx="3435480" cy="25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320840" y="3269880"/>
            <a:ext cx="725472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335" b="0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04760" y="6500880"/>
            <a:ext cx="6231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20080" y="6541920"/>
            <a:ext cx="153180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02360" y="648180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irection générale de l’énergie et du climat</a:t>
            </a: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4c4c4c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287"/>
              </a:spcBef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90298" r="21024" b="0"/>
          <a:stretch/>
        </p:blipFill>
        <p:spPr>
          <a:xfrm>
            <a:off x="1927080" y="6191280"/>
            <a:ext cx="7216920" cy="66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13901" b="0"/>
          <a:stretch/>
        </p:blipFill>
        <p:spPr>
          <a:xfrm>
            <a:off x="3240" y="0"/>
            <a:ext cx="7867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-360" y="2612520"/>
            <a:ext cx="360" cy="3599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05560" indent="0">
              <a:lnSpc>
                <a:spcPct val="8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205560" indent="-205560">
              <a:lnSpc>
                <a:spcPct val="8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205560" indent="-205560">
              <a:lnSpc>
                <a:spcPct val="8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205560" indent="-205560">
              <a:lnSpc>
                <a:spcPct val="8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560" indent="-205560">
              <a:lnSpc>
                <a:spcPct val="8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560" indent="-205560">
              <a:lnSpc>
                <a:spcPct val="8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560" indent="-205560">
              <a:lnSpc>
                <a:spcPct val="8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55156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55880" y="2060640"/>
            <a:ext cx="4407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0560" y="6531120"/>
            <a:ext cx="163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22760" y="6205680"/>
            <a:ext cx="5421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irection générale de l’énergie et du climat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51560" y="6543720"/>
            <a:ext cx="342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94560" y="6543720"/>
            <a:ext cx="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1720" y="6618240"/>
            <a:ext cx="1576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48440" y="6543720"/>
            <a:ext cx="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0560" y="6543720"/>
            <a:ext cx="164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543720"/>
            <a:ext cx="163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3413160"/>
            <a:ext cx="3421080" cy="281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90600" y="5127480"/>
            <a:ext cx="1044360" cy="174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348000" y="1413000"/>
            <a:ext cx="525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Standing challenges for JI</a:t>
            </a:r>
            <a:endParaRPr b="1" lang="en-US" sz="2900" spc="-1" strike="noStrike">
              <a:solidFill>
                <a:srgbClr val="005ea7"/>
              </a:solidFill>
              <a:latin typeface="Arial"/>
            </a:endParaRPr>
          </a:p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900" spc="-1" strike="noStrike">
              <a:solidFill>
                <a:srgbClr val="005ea7"/>
              </a:solidFill>
              <a:latin typeface="Arial"/>
            </a:endParaRPr>
          </a:p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9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4200"/>
            <a:ext cx="414648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900" spc="-1" strike="noStrike">
              <a:solidFill>
                <a:srgbClr val="005ea7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5ea7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5ea7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76440" y="5172120"/>
            <a:ext cx="500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rst SDM Joint Coordination Workshop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4 – 25 March 2012 - Bonn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867040"/>
            <a:ext cx="3429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mitar Nikov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5410080"/>
            <a:ext cx="4954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82760" y="1106640"/>
            <a:ext cx="71881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61740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s learned so far 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127160"/>
            <a:ext cx="784872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as expected from JI : to be an efficient flexibility mechanism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nvironment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ly capped (and tracked) credit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conomy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inance, flexibility and clean technology transfer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as delivered : an efficient flexibility mechanism…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nvironment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+ emission reductions are here to stay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conomy :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+ harvest information on untapped emission reduction potential and inspire future policy desig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+ improve standardization and benchmark setting under existing trading scheme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&gt; 350 MtCO2e to be delivered in CP1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005ea7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ng challenges in the very near future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n national level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ata collection, additionnality, procedural problem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n global level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ple Track 1 approaches, lack of enough flexibility of Track 2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n continuation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ntinuation ensured for AI parties, but clarification decisions on crediting likely to be needed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n demand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ack of identified, market demand for ERUs for new, post-2012 registered project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82760" y="1106640"/>
            <a:ext cx="71881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55760" y="4572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76200" y="1198440"/>
            <a:ext cx="754380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line choice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ata collection and use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nality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fining and evaluating additionnality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al and organizational consideration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s the work distribution between each of the involved national entities for the approval of a project well defined (pedagogy effort often needed)?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re national rules on the mechanism reflecting each of the possible project implementation issues?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How national rules evolve when the mechanism evolves on international level?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e a clear place for the mechanism in the national climate policy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nsure the involvement of private sector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76200" y="584280"/>
            <a:ext cx="72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for a DFP on national level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82760" y="1106640"/>
            <a:ext cx="71881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572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117440"/>
            <a:ext cx="792504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concern for the DFP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rve its added value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 challenges for a DFP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 rules on proced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order to minimize challenges on national level, streamline approvals and incentivize financing and project development across AI parties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s to explore :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nilateral improvement without CMP guid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(BAU scenario)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till a credibility issue for the whole mechanism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nilateral improvement under CMP guid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n unrealistic solution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lateral improv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nder CMP supervision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aning no more Track 1 and revision of the mechanism 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76200" y="584280"/>
            <a:ext cx="72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for a DFP on global level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2760" y="1106640"/>
            <a:ext cx="71881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572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155600"/>
            <a:ext cx="7848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680" indent="-2476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rban provides for the commencement of the CP2 from the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January 2013, meaning continuation for existing flexibility mechanism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vertheless, even if post-2012 emission reductions are to be accounted for the CP2, it is still unclea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and wh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y will be credited, as they shall be backed by AAUs (unlikely that CP2 AAUs will be available in January 2013)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tions to explore (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eed for future legal experti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mpt start decisions issuing CP2 AAUs before entry into force of CP2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stpone the issuance of ERUs in respect of CP2 reductions until CP2 AAUs are issued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nvert CP1 AAUs into ERUs (for Parties with CP2 QELRO) and then deduct equivalent amount from CP1 AAUs to be carried-over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nvert CP1 AAUs into ERUs (for Parties with CP2 QELRO) and then deduct equivalent amount from CP2 AAU issuance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8000" y="593640"/>
            <a:ext cx="72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on continuation of JI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82760" y="1106640"/>
            <a:ext cx="71881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572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155600"/>
            <a:ext cx="7848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680" indent="-2476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current market most of the demand is provided by the EU-ETS. ERUs used for compliance of EU installation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TS Directive (2009/29) rules for the third phase (2013-2020)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cept only credits from existing (registered pre-2013) JI project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No new short-term demand perceived under current EU commitment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ore time it takes to credit ER taking place post-2012, the less credits may get accepted in the EU-ETS (the cap of 1,6 billions tCO2e of CER, ERUs is filling quickly)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 to search for demand for new ER in other market scheme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78000" y="593640"/>
            <a:ext cx="72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on demand for ERUs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82760" y="1106640"/>
            <a:ext cx="71881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5760" y="4572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1509840"/>
            <a:ext cx="705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066680"/>
            <a:ext cx="754380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investors; Domestic scheme (Track 1); 90% rule; Methodologies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methodologies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projects (+ 2 under approval in agriculture et another one in household emissions) with ER potential of 10 MtCO2e (9 M ERUs, over 4 Mt delivered so far) for 2008-2012.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ly industrial gases (benchmark approaches for nitric acid projects of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5 and 1,85 kgN2O/tHNO3), but small potential for replication (inclusion 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the EU ETS)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otential for agriculture where no specific public tools exist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methodologies and projects focus on PoA development : 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tabLst>
                <a:tab algn="l" pos="0"/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, transport, housing</a:t>
            </a:r>
            <a:endParaRPr b="1" lang="en-US" sz="16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from agriculture: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nergy (CO2) - reduce energy consumption for co-op farms drying alfalfa through biomass use rather than fuel and improve general drying practices) 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Livestock farming (CH4) – nutrition modification for dairy cows with natural omega-3 rich plants (alfalfa, extruded flaxseed, etc.)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Fertilization (N2O) – diminish fertilizers use through crop rotation modification based on legumes.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  <a:p>
            <a:pPr marL="192240" indent="-192240">
              <a:buClr>
                <a:srgbClr val="000000"/>
              </a:buClr>
              <a:buFont typeface="Wingdings" charset="2"/>
              <a:buChar char=""/>
              <a:tabLst>
                <a:tab algn="l" pos="19224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developpement-durable.gouv.fr/Liste-des-methodes-referencees-et.html</a:t>
            </a:r>
            <a:endParaRPr b="1" lang="en-US" sz="14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61740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 hosted in France : a quick snapshot</a:t>
            </a: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4572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5ea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755800"/>
            <a:ext cx="784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680" indent="-24768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5ea7"/>
              </a:solidFill>
              <a:latin typeface="Arial"/>
            </a:endParaRPr>
          </a:p>
          <a:p>
            <a:pPr marL="247680" indent="-24768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mitar.nikov@developpement-durable.gouv.fr</a:t>
            </a:r>
            <a:endParaRPr b="1" lang="en-US" sz="2400" spc="-1" strike="noStrike">
              <a:solidFill>
                <a:srgbClr val="005ea7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5ea7"/>
              </a:solidFill>
              <a:latin typeface="Arial"/>
            </a:endParaRPr>
          </a:p>
          <a:p>
            <a:pPr lvl="2" marL="1162080" indent="-2476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5ea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23:30Z</dcterms:created>
  <dc:creator>Ugo</dc:creator>
  <dc:description/>
  <dc:language>en-US</dc:language>
  <cp:lastModifiedBy>Dimitar</cp:lastModifiedBy>
  <cp:lastPrinted>2011-03-18T17:15:40Z</cp:lastPrinted>
  <dcterms:modified xsi:type="dcterms:W3CDTF">2012-03-23T17:46:40Z</dcterms:modified>
  <cp:revision>988</cp:revision>
  <dc:subject/>
  <dc:title>Diapositive 1</dc:title>
</cp:coreProperties>
</file>