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4a343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BDAA-E214-4D6B-A413-689D925847B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D168-B265-4D8C-96B9-4C195126628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18D8-695C-4A92-AC16-5C8259AAB37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D586-2B56-447E-AFD1-D752E4864F6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FAD8-6338-4DE9-B27B-E041AC74EC7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2F00-5CB6-49EB-9E92-03943870060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E80E-776B-4B6E-8B5E-AF77B44B0CD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8526-13B3-4284-B39E-DFD2ADE7116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AT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9246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3343680"/>
            <a:ext cx="79246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86712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08360" y="1981080"/>
            <a:ext cx="386712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3343680"/>
            <a:ext cx="386712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08360" y="3343680"/>
            <a:ext cx="386712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5516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7040" y="1981080"/>
            <a:ext cx="25516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06880" y="1981080"/>
            <a:ext cx="25516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3343680"/>
            <a:ext cx="25516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7040" y="3343680"/>
            <a:ext cx="25516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806880" y="3343680"/>
            <a:ext cx="25516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92468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9246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86712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08360" y="1981080"/>
            <a:ext cx="386712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93400" y="439560"/>
            <a:ext cx="76309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86712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08360" y="1981080"/>
            <a:ext cx="386712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3343680"/>
            <a:ext cx="386712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92468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86712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08360" y="1981080"/>
            <a:ext cx="386712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508360" y="3343680"/>
            <a:ext cx="386712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86712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08360" y="1981080"/>
            <a:ext cx="386712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343680"/>
            <a:ext cx="79246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9246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3343680"/>
            <a:ext cx="79246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86712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508360" y="1981080"/>
            <a:ext cx="386712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3343680"/>
            <a:ext cx="386712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08360" y="3343680"/>
            <a:ext cx="386712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5516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27040" y="1981080"/>
            <a:ext cx="25516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06880" y="1981080"/>
            <a:ext cx="25516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3343680"/>
            <a:ext cx="25516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27040" y="3343680"/>
            <a:ext cx="25516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806880" y="3343680"/>
            <a:ext cx="25516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9246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86712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08360" y="1981080"/>
            <a:ext cx="386712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93400" y="439560"/>
            <a:ext cx="76309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86712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08360" y="1981080"/>
            <a:ext cx="386712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3343680"/>
            <a:ext cx="386712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86712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08360" y="1981080"/>
            <a:ext cx="386712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08360" y="3343680"/>
            <a:ext cx="386712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86712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08360" y="1981080"/>
            <a:ext cx="386712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3343680"/>
            <a:ext cx="79246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4"/>
          <p:cNvSpPr/>
          <p:nvPr/>
        </p:nvSpPr>
        <p:spPr>
          <a:xfrm>
            <a:off x="0" y="6172200"/>
            <a:ext cx="9906120" cy="685800"/>
          </a:xfrm>
          <a:prstGeom prst="rect">
            <a:avLst/>
          </a:prstGeom>
          <a:solidFill>
            <a:srgbClr val="aec6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9246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6"/>
          <p:cNvSpPr/>
          <p:nvPr/>
        </p:nvSpPr>
        <p:spPr>
          <a:xfrm flipV="1">
            <a:off x="9983880" y="3809520"/>
            <a:ext cx="0" cy="3048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8"/>
          <p:cNvSpPr/>
          <p:nvPr/>
        </p:nvSpPr>
        <p:spPr>
          <a:xfrm>
            <a:off x="326880" y="6402240"/>
            <a:ext cx="974880" cy="4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1200" spc="-1" strike="noStrike">
                <a:solidFill>
                  <a:srgbClr val="74a343"/>
                </a:solidFill>
                <a:latin typeface="Times New Roman MT Extra Bold"/>
              </a:rPr>
              <a:t>Seite </a:t>
            </a:r>
            <a:fld id="{F7E59555-06A1-4E21-A4C5-2492655FCBEB}" type="slidenum">
              <a:rPr b="0" lang="de-DE" sz="1200" spc="-1" strike="noStrike">
                <a:solidFill>
                  <a:srgbClr val="74a343"/>
                </a:solidFill>
                <a:latin typeface="Times New Roman MT Extra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4a34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5" name="Rectangle 51"/>
          <p:cNvSpPr/>
          <p:nvPr/>
        </p:nvSpPr>
        <p:spPr>
          <a:xfrm>
            <a:off x="8799120" y="6400800"/>
            <a:ext cx="759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fld id="{095C180F-0980-4358-8920-52FAB46011FF}" type="datetime">
              <a:rPr b="0" lang="de-DE" sz="1200" spc="-1" strike="noStrike">
                <a:solidFill>
                  <a:srgbClr val="74a343"/>
                </a:solidFill>
                <a:latin typeface="Times New Roman MT Extra Bol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54" descr=""/>
          <p:cNvPicPr/>
          <p:nvPr/>
        </p:nvPicPr>
        <p:blipFill>
          <a:blip r:embed="rId2"/>
          <a:stretch/>
        </p:blipFill>
        <p:spPr>
          <a:xfrm>
            <a:off x="8207280" y="257040"/>
            <a:ext cx="1359000" cy="95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1"/>
          <p:cNvSpPr/>
          <p:nvPr/>
        </p:nvSpPr>
        <p:spPr>
          <a:xfrm>
            <a:off x="-136440" y="6527880"/>
            <a:ext cx="7459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B FR21 Book"/>
              </a:rPr>
              <a:t>Seite </a:t>
            </a:r>
            <a:fld id="{E74460AE-787E-4A62-8752-E2E946DC522D}" type="slidenum">
              <a:rPr b="0" lang="de-DE" sz="800" spc="-1" strike="noStrike">
                <a:solidFill>
                  <a:srgbClr val="000000"/>
                </a:solidFill>
                <a:latin typeface="B FR21 Boo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3"/>
          <p:cNvSpPr/>
          <p:nvPr/>
        </p:nvSpPr>
        <p:spPr>
          <a:xfrm>
            <a:off x="9148680" y="6527880"/>
            <a:ext cx="5587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fld id="{E238B48F-E122-4889-A9F2-24290BDA1885}" type="datetime">
              <a:rPr b="0" lang="de-DE" sz="800" spc="-1" strike="noStrike">
                <a:solidFill>
                  <a:srgbClr val="000000"/>
                </a:solidFill>
                <a:latin typeface="B FR21 Book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9" descr=""/>
          <p:cNvPicPr/>
          <p:nvPr/>
        </p:nvPicPr>
        <p:blipFill>
          <a:blip r:embed="rId2"/>
          <a:stretch/>
        </p:blipFill>
        <p:spPr>
          <a:xfrm>
            <a:off x="7845480" y="252360"/>
            <a:ext cx="1720800" cy="1214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4" descr=""/>
          <p:cNvPicPr/>
          <p:nvPr/>
        </p:nvPicPr>
        <p:blipFill>
          <a:blip r:embed="rId3"/>
          <a:stretch/>
        </p:blipFill>
        <p:spPr>
          <a:xfrm>
            <a:off x="-304920" y="3141720"/>
            <a:ext cx="10515600" cy="3716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9246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4a34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gertraud.wollansky@lebensministerium.a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7280" y="433080"/>
            <a:ext cx="7561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20880" y="1484280"/>
            <a:ext cx="807696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First Sustainable Development Joint Coordination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odule 4.3 Governance of 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Governance and revision of JI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raude Wollansky, JISC alternate 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7280" y="433080"/>
            <a:ext cx="75614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4a343"/>
                </a:solidFill>
                <a:latin typeface="Arial"/>
              </a:rPr>
              <a:t>Starting point</a:t>
            </a: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20880" y="1483920"/>
            <a:ext cx="8076960" cy="39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ban decis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est to the JISC to draft revised set of key attributes and transitional measures dealing with possible changes to JI guideline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MP will consider this draft at CMP8 with a view to develop revised JI guidelines for adoption at CMP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 from JISC already well developed (Experience report 2010, Recommendations 2011) – input for CMP could be completed in less time and more detail, JISC to aim for comprehensive input to CMP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4160" y="404640"/>
            <a:ext cx="75610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4a343"/>
                </a:solidFill>
                <a:latin typeface="Arial"/>
              </a:rPr>
              <a:t>Challenges ahead (1)</a:t>
            </a: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20880" y="1484280"/>
            <a:ext cx="8076960" cy="44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ow can JI find a place in a post-2012 carbon market with more mechanisms and changing condi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ternal fa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tential host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petition“ with other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rnal fa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ject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overn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4160" y="404640"/>
            <a:ext cx="75610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4a343"/>
                </a:solidFill>
                <a:latin typeface="Arial"/>
              </a:rPr>
              <a:t>Possible ways forward</a:t>
            </a: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20880" y="1484280"/>
            <a:ext cx="8076960" cy="348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ed to react to changing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edy revision of guidelines to give security to host Parties, investors,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eparatory work by JISC in cooperation with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mbitious approach (timing and cont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Up to CMP to decide – CMP.8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74a343"/>
                </a:solidFill>
                <a:latin typeface="Arial"/>
              </a:rPr>
              <a:t>Key issues</a:t>
            </a: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47560" y="1700280"/>
            <a:ext cx="7924680" cy="31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overnance structure needs to follow the requirements of a revised JI – need to define characteristics of the mechanism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y revision needs to ensure that the environmental integrity of the mechanism will not be dimin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duce transaction costs, ia by using synergies with CDM (and new mechanism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3400" y="439560"/>
            <a:ext cx="7630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74a343"/>
                </a:solidFill>
                <a:latin typeface="Arial"/>
              </a:rPr>
              <a:t>Key issues</a:t>
            </a:r>
            <a:endParaRPr b="1" lang="en-US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47560" y="1412640"/>
            <a:ext cx="7924680" cy="43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centralized mechanism which is implemented by the host Parties at the national level – 1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rucial importance of MRV and ac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rnational guidance and oversight of a new governing body under the autority of the CMP – functions need to be changed compared to current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hanced role of AIEs – requires high standards for accreditation and super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7280" y="433080"/>
            <a:ext cx="7561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74a34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20880" y="1483920"/>
            <a:ext cx="8076960" cy="50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Gertraud Wollan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+43 1 51522-17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gertraud.wollansky@lebensministerium.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11:00:40Z</dcterms:created>
  <dc:creator>Office</dc:creator>
  <dc:description/>
  <dc:language>en-US</dc:language>
  <cp:lastModifiedBy>Correia</cp:lastModifiedBy>
  <cp:lastPrinted>2004-01-13T16:33:46Z</cp:lastPrinted>
  <dcterms:modified xsi:type="dcterms:W3CDTF">2012-03-25T07:49:28Z</dcterms:modified>
  <cp:revision>75</cp:revision>
  <dc:subject/>
  <dc:title>Kein Folientitel</dc:title>
</cp:coreProperties>
</file>