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1265400"/>
            <a:ext cx="9144000" cy="432576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7120" y="2204640"/>
            <a:ext cx="7881840" cy="12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3273480" y="650556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2"/>
          </p:nvPr>
        </p:nvSpPr>
        <p:spPr>
          <a:xfrm>
            <a:off x="3273480" y="626112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77800" y="309600"/>
            <a:ext cx="7866000" cy="314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rcRect l="0" t="0" r="86366" b="44250"/>
          <a:stretch/>
        </p:blipFill>
        <p:spPr>
          <a:xfrm>
            <a:off x="619200" y="6105600"/>
            <a:ext cx="649080" cy="6490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114480" indent="0"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96720" indent="233640" algn="ctr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739800" indent="162000" algn="ctr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082520" indent="88920" algn="ctr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082520" indent="889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082520" indent="889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rcRect l="0" t="0" r="86366" b="44250"/>
          <a:stretch/>
        </p:blipFill>
        <p:spPr>
          <a:xfrm>
            <a:off x="619200" y="6105600"/>
            <a:ext cx="649080" cy="649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rcRect l="0" t="0" r="86366" b="44250"/>
          <a:stretch/>
        </p:blipFill>
        <p:spPr>
          <a:xfrm>
            <a:off x="619200" y="6105600"/>
            <a:ext cx="649080" cy="649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1262160"/>
            <a:ext cx="9144000" cy="432576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27120" y="2205000"/>
            <a:ext cx="788184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dt" idx="3"/>
          </p:nvPr>
        </p:nvSpPr>
        <p:spPr>
          <a:xfrm>
            <a:off x="3273480" y="650556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ftr" idx="4"/>
          </p:nvPr>
        </p:nvSpPr>
        <p:spPr>
          <a:xfrm>
            <a:off x="3273480" y="626112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77800" y="309600"/>
            <a:ext cx="7866000" cy="3142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rcRect l="0" t="0" r="86366" b="44250"/>
          <a:stretch/>
        </p:blipFill>
        <p:spPr>
          <a:xfrm>
            <a:off x="619200" y="6105600"/>
            <a:ext cx="649080" cy="649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27120" y="1341360"/>
            <a:ext cx="788184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Breakout session 4.2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ocedure on significant deficiencies</a:t>
            </a:r>
            <a:br>
              <a:rPr sz="2200"/>
            </a:br>
            <a:br>
              <a:rPr sz="2200"/>
            </a:br>
            <a:r>
              <a:rPr b="0" lang="de-DE" sz="3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000"/>
            </a:br>
            <a:br>
              <a:rPr sz="3000"/>
            </a:br>
            <a:br>
              <a:rPr sz="3000"/>
            </a:br>
            <a:r>
              <a:rPr b="0" lang="de-DE" sz="3000" spc="-1" strike="noStrike">
                <a:solidFill>
                  <a:srgbClr val="ffffff"/>
                </a:solidFill>
                <a:latin typeface="Arial"/>
              </a:rPr>
              <a:t>CMP &amp; EB Mandates and 2012 Proces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624960" y="3922560"/>
            <a:ext cx="788220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ffff"/>
                </a:solidFill>
                <a:latin typeface="Arial"/>
              </a:rPr>
              <a:t>1st Sustainable Development Mechanisms Joint Coordination Workshop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Bonn, Germany, 24 - 25 March, 2012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leur Newman, Programme Offic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UNFCCC secretariat, programm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rmAutofit/>
          </a:bodyPr>
          <a:p>
            <a:pPr marL="270000" indent="0" algn="ctr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b93dc"/>
                </a:solidFill>
                <a:latin typeface="Comic Sans MS"/>
              </a:rPr>
              <a:t>Any questions on proc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b93dc"/>
                </a:solidFill>
                <a:latin typeface="Arial"/>
              </a:rPr>
              <a:t>Outline</a:t>
            </a:r>
            <a:endParaRPr b="0" lang="en-US" sz="14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84360" y="1052640"/>
            <a:ext cx="7559640" cy="25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cap EB 65 and CMP 7 mand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t out the proposed action and timeline for this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2398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b93dc"/>
                </a:solidFill>
                <a:latin typeface="Arial"/>
              </a:rPr>
              <a:t>Background – EB 65, Meeting Report</a:t>
            </a:r>
            <a:endParaRPr b="0" lang="en-US" sz="14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94920" y="980640"/>
            <a:ext cx="828036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just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10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he Board requested the secretariat to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4b93dc"/>
                </a:solidFill>
                <a:latin typeface="Arial"/>
              </a:rPr>
              <a:t>conduct a study</a:t>
            </a:r>
            <a:br>
              <a:rPr sz="2000"/>
            </a:br>
            <a:r>
              <a:rPr b="1" lang="en-GB" sz="2000" spc="-1" strike="noStrike">
                <a:solidFill>
                  <a:srgbClr val="4b93dc"/>
                </a:solidFill>
                <a:latin typeface="Arial"/>
              </a:rPr>
              <a:t> involving expert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he relevant fields…the scope of the study should be 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view of th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4b93dc"/>
                </a:solidFill>
                <a:latin typeface="Arial"/>
              </a:rPr>
              <a:t>availability of insurance and related product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luding their cost, as well as any other means that are or may be available to DOEs, to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4b93dc"/>
                </a:solidFill>
                <a:latin typeface="Arial"/>
              </a:rPr>
              <a:t>address liability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he context of the draft procedure and the relevant rules applicable to DOEs under the CDM (including the CDM accreditation standard)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b93dc"/>
                </a:solidFill>
                <a:latin typeface="Arial"/>
              </a:rPr>
              <a:t>Background – EB 65, Meeting Report cont.</a:t>
            </a:r>
            <a:endParaRPr b="0" lang="en-US" sz="14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94920" y="980640"/>
            <a:ext cx="828036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just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11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Board requested the secretariat to report back….at a future meeting an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bsequently</a:t>
            </a:r>
            <a:r>
              <a:rPr b="0" lang="en-GB" sz="2000" spc="-1" strike="noStrike">
                <a:solidFill>
                  <a:srgbClr val="4b93dc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4b93dc"/>
                </a:solidFill>
                <a:latin typeface="Arial"/>
              </a:rPr>
              <a:t>organize a roundtable consultat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th DOEs. The Board agreed to decide on the </a:t>
            </a:r>
            <a:r>
              <a:rPr b="1" lang="en-GB" sz="2000" spc="-1" strike="noStrike">
                <a:solidFill>
                  <a:srgbClr val="4b93dc"/>
                </a:solidFill>
                <a:latin typeface="Arial"/>
              </a:rPr>
              <a:t>scope of the roundtabl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consultation at the meeting at which the Board considers the outcome of the study. The Board also decided to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4b93dc"/>
                </a:solidFill>
                <a:latin typeface="Arial"/>
              </a:rPr>
              <a:t>consider th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4b93dc"/>
                </a:solidFill>
                <a:latin typeface="Arial"/>
              </a:rPr>
              <a:t>outcom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th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4b93dc"/>
                </a:solidFill>
                <a:latin typeface="Arial"/>
              </a:rPr>
              <a:t>study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4b93dc"/>
                </a:solidFill>
                <a:latin typeface="Arial"/>
              </a:rPr>
              <a:t>roundtabl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ultation at the meeting at which it further considers the </a:t>
            </a:r>
            <a:r>
              <a:rPr b="1" lang="en-GB" sz="2000" spc="-1" strike="noStrike">
                <a:solidFill>
                  <a:srgbClr val="4b93dc"/>
                </a:solidFill>
                <a:latin typeface="Arial"/>
              </a:rPr>
              <a:t>draft procedur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1" lang="en-GB" sz="2000" spc="-1" strike="noStrike">
                <a:solidFill>
                  <a:srgbClr val="4b93dc"/>
                </a:solidFill>
                <a:latin typeface="Arial"/>
              </a:rPr>
              <a:t> adop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b93dc"/>
                </a:solidFill>
                <a:latin typeface="Arial"/>
              </a:rPr>
              <a:t>Background – Decision 8/CMP.7</a:t>
            </a:r>
            <a:endParaRPr b="0" lang="en-US" sz="14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285840" indent="0" algn="just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2.</a:t>
            </a:r>
            <a:r>
              <a:rPr b="1" lang="en-GB" sz="2000" spc="-1" strike="noStrike">
                <a:solidFill>
                  <a:srgbClr val="4b93dc"/>
                </a:solidFill>
                <a:latin typeface="Arial"/>
              </a:rPr>
              <a:t> Welcom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work undertaken by the Executive Board to address liability in the context of the draft procedure on significant  deficiencies in validation, verification and certification reports; 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just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just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Reques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he secretariat and the Executive Board to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4b93dc"/>
                </a:solidFill>
                <a:latin typeface="Arial"/>
              </a:rPr>
              <a:t>further investigate the impac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potential approaches to address significant deficiencies in validation, verification and certification reports and to </a:t>
            </a:r>
            <a:r>
              <a:rPr b="1" lang="en-GB" sz="2000" spc="-1" strike="noStrike">
                <a:solidFill>
                  <a:srgbClr val="4b93dc"/>
                </a:solidFill>
                <a:latin typeface="Arial"/>
              </a:rPr>
              <a:t>prepare a report on its finding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just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b93dc"/>
                </a:solidFill>
                <a:latin typeface="Arial"/>
              </a:rPr>
              <a:t>Background – Decision 8/CMP.7 cont.</a:t>
            </a:r>
            <a:endParaRPr b="0" lang="en-US" sz="14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285840" indent="0" algn="just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4. 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Also reques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he Executive Board,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4b93dc"/>
                </a:solidFill>
                <a:latin typeface="Arial"/>
              </a:rPr>
              <a:t>in consultation with stakeholder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to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4b93dc"/>
                </a:solidFill>
                <a:latin typeface="Arial"/>
              </a:rPr>
              <a:t>revis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 draft procedur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4b93dc"/>
                </a:solidFill>
                <a:latin typeface="Arial"/>
              </a:rPr>
              <a:t>based on its finding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taking into accoun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conclusions,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if an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on the appeals process under consideration of the Subsidiary Body for Implementation, with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the ai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avoiding duplication and promoting efficiency, </a:t>
            </a:r>
            <a:r>
              <a:rPr b="1" lang="en-GB" sz="2000" spc="-1" strike="noStrike">
                <a:solidFill>
                  <a:srgbClr val="4b93dc"/>
                </a:solidFill>
                <a:latin typeface="Arial"/>
              </a:rPr>
              <a:t>for adop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by the Conference of the Parties serving as the meeting of the Parties to the Kyoto Protocol at it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4b93dc"/>
                </a:solidFill>
                <a:latin typeface="Arial"/>
              </a:rPr>
              <a:t>eighth sess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just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just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b93dc"/>
                </a:solidFill>
                <a:latin typeface="Arial"/>
              </a:rPr>
              <a:t>Proposed actions</a:t>
            </a:r>
            <a:endParaRPr b="0" lang="en-US" sz="14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9280" y="980640"/>
            <a:ext cx="525636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lnSpc>
                <a:spcPts val="2900"/>
              </a:lnSpc>
              <a:buClr>
                <a:srgbClr val="1960a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uct study involving exper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nfidential to Board)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ts val="29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ts val="2900"/>
              </a:lnSpc>
              <a:buClr>
                <a:srgbClr val="1960a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ort back to Boar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nfidential to Board)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ts val="29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ts val="2900"/>
              </a:lnSpc>
              <a:buClr>
                <a:srgbClr val="1960a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ard considers report (confidential) &amp; sets terms of reference for DOE roundtable meeting (public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ts val="2900"/>
              </a:lnSpc>
              <a:buClr>
                <a:srgbClr val="1960a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itation &amp; provisional agenda sent to DOEs to attend roundtable meet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nfidential to invitees)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156360" y="1052280"/>
            <a:ext cx="244800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29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b93dc"/>
                </a:solidFill>
                <a:latin typeface="Arial"/>
              </a:rPr>
              <a:t>Commenced</a:t>
            </a:r>
            <a:r>
              <a:rPr b="0" lang="en-US" sz="1800" spc="-1" strike="noStrike">
                <a:solidFill>
                  <a:srgbClr val="1960ab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1960ab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9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b93dc"/>
                </a:solidFill>
                <a:latin typeface="Arial"/>
              </a:rPr>
              <a:t>EB 67</a:t>
            </a:r>
            <a:br>
              <a:rPr sz="2000"/>
            </a:br>
            <a:r>
              <a:rPr b="0" lang="en-US" sz="2000" spc="-1" strike="noStrike">
                <a:solidFill>
                  <a:srgbClr val="1960ab"/>
                </a:solidFill>
                <a:latin typeface="Arial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9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b93dc"/>
                </a:solidFill>
                <a:latin typeface="Arial"/>
              </a:rPr>
              <a:t>EB 67</a:t>
            </a:r>
            <a:br>
              <a:rPr sz="2000"/>
            </a:br>
            <a:r>
              <a:rPr b="1" lang="en-US" sz="2000" spc="-1" strike="noStrike">
                <a:solidFill>
                  <a:srgbClr val="1960ab"/>
                </a:solidFill>
                <a:latin typeface="Arial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9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9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b93dc"/>
                </a:solidFill>
                <a:latin typeface="Arial"/>
              </a:rPr>
              <a:t>After EB 67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b93dc"/>
                </a:solidFill>
                <a:latin typeface="Arial"/>
              </a:rPr>
              <a:t>Proposed actions cont.</a:t>
            </a:r>
            <a:endParaRPr b="0" lang="en-US" sz="14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9280" y="1125000"/>
            <a:ext cx="501660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80880" indent="-380880">
              <a:lnSpc>
                <a:spcPts val="2900"/>
              </a:lnSpc>
              <a:buClr>
                <a:srgbClr val="1960ab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 roundtable meeting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ts val="2900"/>
              </a:lnSpc>
              <a:buClr>
                <a:srgbClr val="1960ab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thesis report incorporating result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expert report and roundtable meet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amp; including public recommendatio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ts val="2900"/>
              </a:lnSpc>
              <a:buClr>
                <a:srgbClr val="1960ab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sed draft procedure based on recommendations, taking into account stakeholder inputs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ts val="29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ts val="2900"/>
              </a:lnSpc>
              <a:buClr>
                <a:srgbClr val="1960ab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ort for CMP and draft procedur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ts val="29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084360" y="1052280"/>
            <a:ext cx="277812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29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b93dc"/>
                </a:solidFill>
                <a:latin typeface="Arial"/>
              </a:rPr>
              <a:t>1st week June 2012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9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b93dc"/>
                </a:solidFill>
                <a:latin typeface="Arial"/>
              </a:rPr>
              <a:t>EB 68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9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b93dc"/>
                </a:solidFill>
                <a:latin typeface="Arial"/>
              </a:rPr>
              <a:t>EB 69</a:t>
            </a:r>
            <a:br>
              <a:rPr sz="2000"/>
            </a:br>
            <a:r>
              <a:rPr b="1" lang="en-US" sz="2000" spc="-1" strike="noStrike">
                <a:solidFill>
                  <a:srgbClr val="1960ab"/>
                </a:solidFill>
                <a:latin typeface="Arial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9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9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b93dc"/>
                </a:solidFill>
                <a:latin typeface="Arial"/>
              </a:rPr>
              <a:t>CMP 8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b93dc"/>
                </a:solidFill>
                <a:latin typeface="Arial"/>
              </a:rPr>
              <a:t>Proposed timeline</a:t>
            </a:r>
            <a:endParaRPr b="0" lang="en-US" sz="14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79280" y="3141720"/>
            <a:ext cx="1008000" cy="1008000"/>
          </a:xfrm>
          <a:prstGeom prst="diamond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5280" y="3573360"/>
            <a:ext cx="503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B 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885080" y="3213000"/>
            <a:ext cx="1079640" cy="792360"/>
          </a:xfrm>
          <a:prstGeom prst="roundRect">
            <a:avLst>
              <a:gd name="adj" fmla="val 16667"/>
            </a:avLst>
          </a:prstGeom>
          <a:solidFill>
            <a:srgbClr val="4b93dc"/>
          </a:solidFill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028000" y="3500280"/>
            <a:ext cx="720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P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116000" y="3645000"/>
            <a:ext cx="67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835280" y="3284640"/>
            <a:ext cx="936360" cy="7920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835280" y="3500280"/>
            <a:ext cx="933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DOE ROUNDT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780000" y="3645000"/>
            <a:ext cx="504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EB 6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3141720"/>
            <a:ext cx="1008360" cy="1008000"/>
          </a:xfrm>
          <a:prstGeom prst="diamond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292720" y="3141720"/>
            <a:ext cx="1008000" cy="1008000"/>
          </a:xfrm>
          <a:prstGeom prst="diamond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4360" y="2349360"/>
            <a:ext cx="0" cy="57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268360" y="2349360"/>
            <a:ext cx="0" cy="57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835280" y="1916280"/>
            <a:ext cx="1008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804000" y="3141720"/>
            <a:ext cx="1008000" cy="1008000"/>
          </a:xfrm>
          <a:prstGeom prst="diamond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708360" y="3573360"/>
            <a:ext cx="503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B 6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020000" y="3573360"/>
            <a:ext cx="576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B 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435640" y="3573360"/>
            <a:ext cx="647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B 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5640" y="2349360"/>
            <a:ext cx="0" cy="57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796000" y="2349360"/>
            <a:ext cx="0" cy="57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308720" y="2349360"/>
            <a:ext cx="0" cy="57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6920" y="4437000"/>
            <a:ext cx="10796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</a:rPr>
              <a:t>Invitation &amp; Agend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492360" y="4221000"/>
            <a:ext cx="0" cy="935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700360" y="5300640"/>
            <a:ext cx="16556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292720" y="4221000"/>
            <a:ext cx="0" cy="935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0" y="5300640"/>
            <a:ext cx="1655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raft procedu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84360" y="4292640"/>
            <a:ext cx="0" cy="93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79280" y="5300640"/>
            <a:ext cx="10080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oundtable To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332000" y="3789360"/>
            <a:ext cx="0" cy="576360"/>
          </a:xfrm>
          <a:prstGeom prst="line">
            <a:avLst/>
          </a:prstGeom>
          <a:ln w="1260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388360" y="4221000"/>
            <a:ext cx="0" cy="935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596360" y="5229360"/>
            <a:ext cx="1396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raft procedu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amp; CMP repor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324000" y="1628640"/>
          <a:ext cx="8496000" cy="609840"/>
        </p:xfrm>
        <a:graphic>
          <a:graphicData uri="http://schemas.openxmlformats.org/drawingml/2006/table">
            <a:tbl>
              <a:tblPr/>
              <a:tblGrid>
                <a:gridCol w="1511280"/>
                <a:gridCol w="1728720"/>
                <a:gridCol w="1728720"/>
                <a:gridCol w="1511280"/>
                <a:gridCol w="1224000"/>
                <a:gridCol w="792000"/>
              </a:tblGrid>
              <a:tr h="609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y 7 -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/e June 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ly 16 - 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pt 17 - 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v 19 - 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v 26 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c 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9" name=""/>
          <p:cNvSpPr/>
          <p:nvPr/>
        </p:nvSpPr>
        <p:spPr>
          <a:xfrm>
            <a:off x="8388360" y="2349360"/>
            <a:ext cx="0" cy="57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4T09:15:41Z</dcterms:created>
  <dc:creator>Newman</dc:creator>
  <dc:description/>
  <dc:language>en-US</dc:language>
  <cp:lastModifiedBy>Newman</cp:lastModifiedBy>
  <cp:lastPrinted>2004-03-02T21:24:15Z</cp:lastPrinted>
  <dcterms:modified xsi:type="dcterms:W3CDTF">2012-03-24T14:08:30Z</dcterms:modified>
  <cp:revision>14</cp:revision>
  <dc:subject/>
  <dc:title>Breakout session 4.2 Procedure on significant deficiencies      CMP &amp; EB Mandates and 2012 Process</dc:title>
</cp:coreProperties>
</file>