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1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2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Enhanced Interactions and Direct Communication – Policy ma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rst SDM Joint Coordination Worksho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3 - 24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805360"/>
            <a:ext cx="2952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tima-Zahra Taibi, OSD/SD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oharu Yamazaki, Programme Officer, Process Management Uni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93dc"/>
                </a:solidFill>
                <a:latin typeface="Arial"/>
              </a:rPr>
              <a:t>Background</a:t>
            </a:r>
            <a:endParaRPr b="0" lang="en-US" sz="1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5040" y="1049400"/>
            <a:ext cx="78692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00000"/>
              </a:lnSpc>
              <a:spcAft>
                <a:spcPts val="901"/>
              </a:spcAft>
              <a:buClr>
                <a:srgbClr val="4b93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Decision 2/CMP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ed the Board to enhance communication with PPs and stakeholders regarding individu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Decision 3/CMP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ed the Board to enhance direct communication with PPs and stakehold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571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that can be initiated by the secretariat on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571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 consultations on general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571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fied use of public calls on major regulatory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b93dc"/>
                </a:solidFill>
                <a:latin typeface="Arial"/>
              </a:rPr>
              <a:t>Decision 3/CMP.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quested the Board to ensure editorial errors do not lead to incomplet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b93dc"/>
                </a:solidFill>
                <a:latin typeface="Arial"/>
              </a:rPr>
              <a:t>Decision 3/CMP.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quested the secretariat to increase the transparency on the status of case-specifi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B 62 adopted the modalities and procedures for direct communication with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Objectives of interactions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197000"/>
            <a:ext cx="792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the Board and its support structure in identifying areas in the CDM regulatory framework for enhancing objectivity and clarity, and/or ensuring environmental 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the Board and its support structure to obtain relevant information at appropriate mo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e the stakeholders’ understanding of CDM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transpar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Existing mechanisms for interaction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5040" y="1341360"/>
            <a:ext cx="7869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ain a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Communication on policy mat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Communication on case-specific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Communication on policy matters</a:t>
            </a:r>
            <a:br>
              <a:rPr sz="1600"/>
            </a:b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5040" y="1341360"/>
            <a:ext cx="7869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Communication initiated by the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Communication initiated by stakehol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Communication initiated by the Board 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0800000">
            <a:off x="3563640" y="1555920"/>
            <a:ext cx="504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/regional DNA Forum meetings 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nb of meetings decided in 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with global DNA forum Chair at EB meetings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2/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8360" y="1630440"/>
            <a:ext cx="2806560" cy="1150920"/>
            <a:chOff x="468360" y="1630440"/>
            <a:chExt cx="2806560" cy="1150920"/>
          </a:xfrm>
        </p:grpSpPr>
        <p:sp>
          <p:nvSpPr>
            <p:cNvPr id="231" name=""/>
            <p:cNvSpPr/>
            <p:nvPr/>
          </p:nvSpPr>
          <p:spPr>
            <a:xfrm>
              <a:off x="468360" y="1630440"/>
              <a:ext cx="1944720" cy="792000"/>
            </a:xfrm>
            <a:prstGeom prst="roundRect">
              <a:avLst>
                <a:gd name="adj" fmla="val 16667"/>
              </a:avLst>
            </a:prstGeom>
            <a:solidFill>
              <a:srgbClr val="4b93dc"/>
            </a:solidFill>
            <a:ln w="12600">
              <a:solidFill>
                <a:srgbClr val="4b9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Board + </a:t>
              </a:r>
              <a:br>
                <a:rPr sz="2100"/>
              </a:b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ecretaria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1701720"/>
              <a:ext cx="1224000" cy="1079640"/>
            </a:xfrm>
            <a:prstGeom prst="ellipse">
              <a:avLst/>
            </a:prstGeom>
            <a:solidFill>
              <a:srgbClr val="fb927d"/>
            </a:solidFill>
            <a:ln w="12600">
              <a:solidFill>
                <a:srgbClr val="fb9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N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35280" y="1990800"/>
              <a:ext cx="4330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V="1" rot="10800000">
            <a:off x="3563640" y="3787920"/>
            <a:ext cx="504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t EB meetings 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every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t CDM-AP meetings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2/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onference ca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each EB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8360" y="3860640"/>
            <a:ext cx="2806560" cy="1150920"/>
            <a:chOff x="468360" y="3860640"/>
            <a:chExt cx="2806560" cy="1150920"/>
          </a:xfrm>
        </p:grpSpPr>
        <p:sp>
          <p:nvSpPr>
            <p:cNvPr id="236" name=""/>
            <p:cNvSpPr/>
            <p:nvPr/>
          </p:nvSpPr>
          <p:spPr>
            <a:xfrm>
              <a:off x="468360" y="3860640"/>
              <a:ext cx="1944720" cy="792000"/>
            </a:xfrm>
            <a:prstGeom prst="roundRect">
              <a:avLst>
                <a:gd name="adj" fmla="val 16667"/>
              </a:avLst>
            </a:prstGeom>
            <a:solidFill>
              <a:srgbClr val="4b93dc"/>
            </a:solidFill>
            <a:ln w="12600">
              <a:solidFill>
                <a:srgbClr val="4b9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oard/CDM AP </a:t>
              </a:r>
              <a:br>
                <a:rPr sz="19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ecretaria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0920" y="3931920"/>
              <a:ext cx="1224000" cy="1079640"/>
            </a:xfrm>
            <a:prstGeom prst="ellipse">
              <a:avLst/>
            </a:prstGeom>
            <a:solidFill>
              <a:srgbClr val="a8d6bc"/>
            </a:solidFill>
            <a:ln w="12600">
              <a:solidFill>
                <a:srgbClr val="a8d6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OEs/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35280" y="4322520"/>
              <a:ext cx="4330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Communication initiated by the Board 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629080" y="1268280"/>
            <a:ext cx="2806560" cy="1150920"/>
            <a:chOff x="2629080" y="1268280"/>
            <a:chExt cx="2806560" cy="1150920"/>
          </a:xfrm>
        </p:grpSpPr>
        <p:sp>
          <p:nvSpPr>
            <p:cNvPr id="241" name=""/>
            <p:cNvSpPr/>
            <p:nvPr/>
          </p:nvSpPr>
          <p:spPr>
            <a:xfrm>
              <a:off x="2629080" y="1268280"/>
              <a:ext cx="1944720" cy="792360"/>
            </a:xfrm>
            <a:prstGeom prst="roundRect">
              <a:avLst>
                <a:gd name="adj" fmla="val 16667"/>
              </a:avLst>
            </a:prstGeom>
            <a:solidFill>
              <a:srgbClr val="4b93dc"/>
            </a:solidFill>
            <a:ln w="12600">
              <a:solidFill>
                <a:srgbClr val="4b9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oard/ Support</a:t>
              </a:r>
              <a:br>
                <a:rPr sz="19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11640" y="1339920"/>
              <a:ext cx="1224000" cy="1079280"/>
            </a:xfrm>
            <a:prstGeom prst="ellipse">
              <a:avLst/>
            </a:prstGeom>
            <a:solidFill>
              <a:srgbClr val="cca674"/>
            </a:solidFill>
            <a:ln w="12600">
              <a:solidFill>
                <a:srgbClr val="cca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take-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hold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96000" y="1730160"/>
              <a:ext cx="4330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 rot="10800000">
            <a:off x="755280" y="2997360"/>
            <a:ext cx="777708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t EB meetings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every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or input, targeted workshop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during preparation of regulatory documents with significant impact on stakehol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-wide consultation workshops (round tables, Joint Coordination Workshop). 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Nb to be decided at the beginning of th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to the</a:t>
            </a: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 annotated agen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Board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b93dc"/>
                </a:solidFill>
                <a:latin typeface="Arial"/>
              </a:rPr>
              <a:t>Communication initiated by stakeholders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5040" y="907920"/>
            <a:ext cx="786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95280" y="2494080"/>
            <a:ext cx="3024360" cy="1294920"/>
            <a:chOff x="395280" y="2494080"/>
            <a:chExt cx="3024360" cy="1294920"/>
          </a:xfrm>
        </p:grpSpPr>
        <p:sp>
          <p:nvSpPr>
            <p:cNvPr id="248" name=""/>
            <p:cNvSpPr/>
            <p:nvPr/>
          </p:nvSpPr>
          <p:spPr>
            <a:xfrm>
              <a:off x="1474920" y="2997000"/>
              <a:ext cx="1944720" cy="792000"/>
            </a:xfrm>
            <a:prstGeom prst="roundRect">
              <a:avLst>
                <a:gd name="adj" fmla="val 16667"/>
              </a:avLst>
            </a:prstGeom>
            <a:solidFill>
              <a:srgbClr val="4b93dc"/>
            </a:solidFill>
            <a:ln w="12600">
              <a:solidFill>
                <a:srgbClr val="4b9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Board/Support</a:t>
              </a:r>
              <a:br>
                <a:rPr sz="1900"/>
              </a:b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5280" y="2494080"/>
              <a:ext cx="1224000" cy="1079280"/>
            </a:xfrm>
            <a:prstGeom prst="ellipse">
              <a:avLst/>
            </a:prstGeom>
            <a:solidFill>
              <a:srgbClr val="fb927d"/>
            </a:solidFill>
            <a:ln w="12600">
              <a:solidFill>
                <a:srgbClr val="fb92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N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8920" y="3286080"/>
              <a:ext cx="4334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24000" y="4365720"/>
            <a:ext cx="1223640" cy="1079280"/>
          </a:xfrm>
          <a:prstGeom prst="ellipse">
            <a:avLst/>
          </a:prstGeom>
          <a:solidFill>
            <a:srgbClr val="cca674"/>
          </a:solidFill>
          <a:ln w="12600">
            <a:solidFill>
              <a:srgbClr val="cca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Ps/Civil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24360" y="4076640"/>
            <a:ext cx="572436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181160" indent="-457200">
              <a:lnSpc>
                <a:spcPct val="100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or clarification/guidance or feedback through dedicated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responses available to all AEs/DOEs, DNAs, or public unless confidentiality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148428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4b93dc"/>
          </a:solidFill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 rot="1092600">
            <a:off x="2123640" y="1413000"/>
            <a:ext cx="366840" cy="792000"/>
          </a:xfrm>
          <a:prstGeom prst="rect">
            <a:avLst/>
          </a:prstGeom>
        </p:spPr>
        <p:txBody>
          <a:bodyPr wrap="none" lIns="0" rIns="0" tIns="0" bIns="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1574640"/>
            <a:ext cx="4724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secretariat direclty responds to queries whenever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40360" y="2494080"/>
            <a:ext cx="3023640" cy="1294920"/>
            <a:chOff x="4140360" y="2494080"/>
            <a:chExt cx="3023640" cy="1294920"/>
          </a:xfrm>
        </p:grpSpPr>
        <p:sp>
          <p:nvSpPr>
            <p:cNvPr id="257" name=""/>
            <p:cNvSpPr/>
            <p:nvPr/>
          </p:nvSpPr>
          <p:spPr>
            <a:xfrm>
              <a:off x="5219640" y="2997000"/>
              <a:ext cx="1944360" cy="792000"/>
            </a:xfrm>
            <a:prstGeom prst="roundRect">
              <a:avLst>
                <a:gd name="adj" fmla="val 16667"/>
              </a:avLst>
            </a:prstGeom>
            <a:solidFill>
              <a:srgbClr val="4b93dc"/>
            </a:solidFill>
            <a:ln w="12600">
              <a:solidFill>
                <a:srgbClr val="4b93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Board/Support</a:t>
              </a:r>
              <a:br>
                <a:rPr sz="1900"/>
              </a:b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40360" y="2494080"/>
              <a:ext cx="1223640" cy="1079280"/>
            </a:xfrm>
            <a:prstGeom prst="ellipse">
              <a:avLst/>
            </a:prstGeom>
            <a:solidFill>
              <a:srgbClr val="a8d6bc"/>
            </a:solidFill>
            <a:ln w="12600">
              <a:solidFill>
                <a:srgbClr val="a8d6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Es/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O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286080"/>
              <a:ext cx="43308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4920" y="4941720"/>
            <a:ext cx="1944720" cy="792360"/>
          </a:xfrm>
          <a:prstGeom prst="roundRect">
            <a:avLst>
              <a:gd name="adj" fmla="val 16667"/>
            </a:avLst>
          </a:prstGeom>
          <a:solidFill>
            <a:srgbClr val="4b93dc"/>
          </a:solidFill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oard/Support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stru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5230800"/>
            <a:ext cx="4334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b93dc"/>
                </a:solidFill>
                <a:latin typeface="Arial"/>
              </a:rPr>
              <a:t>Implementation challenges</a:t>
            </a:r>
            <a:endParaRPr b="0" lang="en-US" sz="1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125360"/>
            <a:ext cx="77756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mely response to letters from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e weeks for inputs to EB annotated agenda considered to be too sho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355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ed-back mechanism for repoting on how the submissions have been taken accoun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b93dc"/>
                </a:solidFill>
                <a:latin typeface="Arial"/>
              </a:rPr>
              <a:t>Recommendations for improvements?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8:33:53Z</dcterms:created>
  <dc:creator>Yamazaki</dc:creator>
  <dc:description/>
  <dc:language>en-US</dc:language>
  <cp:lastModifiedBy>taibi</cp:lastModifiedBy>
  <cp:lastPrinted>2004-03-02T21:24:15Z</cp:lastPrinted>
  <dcterms:modified xsi:type="dcterms:W3CDTF">2012-03-24T21:01:04Z</dcterms:modified>
  <cp:revision>38</cp:revision>
  <dc:subject/>
  <dc:title>REVISION OF TERMS OF REFERENCE OF PANELS AND WORKING GROUPS</dc:title>
</cp:coreProperties>
</file>