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 : MATERIALITY</a:t>
            </a:r>
            <a:br>
              <a:rPr sz="30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I: MATERIALITY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Module 2.4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a presentation of the details of the CMP7 decision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the envisioned action points of UNFCCC secretariat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an outline of the contents of the envisioned "materiality standard"</a:t>
            </a:r>
            <a:br>
              <a:rPr sz="2000"/>
            </a:b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explanations by DOEs of this auditing principle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reference to the need for consistency in application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in CC and IRC and review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in the treatment of immaterial deviation, data gaps etc. 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example for the application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application in JI and EU- ETS</a:t>
            </a:r>
            <a:br>
              <a:rPr sz="2000"/>
            </a:b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- calculation of aggregate level by an example provided by the 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I: MATERIALITY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Module 2.4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EB 67 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EB 68 draft of guideline/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EB 69 final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Update of V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DOEs promises own input for updating V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Appeal to DOEs to submit examples how the concept is applied in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RK</cp:lastModifiedBy>
  <cp:lastPrinted>2004-03-02T21:24:15Z</cp:lastPrinted>
  <dcterms:modified xsi:type="dcterms:W3CDTF">2012-03-25T05:39:20Z</dcterms:modified>
  <cp:revision>7</cp:revision>
  <dc:subject/>
  <dc:title>7th Joint Coordination Workshop</dc:title>
</cp:coreProperties>
</file>