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6720" y="652464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78818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Wrap-up session for Module 2.1 (Additionality)</a:t>
            </a:r>
            <a:br>
              <a:rPr sz="30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resenters: UNFCCC secretariat, MP member, PD Forum, and TÜV SÜ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itim Hot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 Germany, 24-25 March 201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name Lastname, Job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FCCC secretariat, program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</a:t>
            </a:r>
            <a:r>
              <a:rPr b="1" i="1" lang="en-US" sz="1200" spc="-1" strike="noStrike">
                <a:solidFill>
                  <a:srgbClr val="4b93dc"/>
                </a:solidFill>
                <a:latin typeface="Arial"/>
              </a:rPr>
              <a:t>[Module 2.1, Additionality]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Main issues discus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93dc"/>
                </a:solidFill>
                <a:latin typeface="Arial"/>
              </a:rPr>
              <a:t>+ UNFCCC Secretariat - presented the key requirements of the FOIK &amp; CP Guildlines, concerns riser by stakeholders, and  the working plans of revising the Tools and the Guidelines with improved concepts by EB 7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93dc"/>
                </a:solidFill>
                <a:latin typeface="Arial"/>
              </a:rPr>
              <a:t>+ Meth Panel member - shared basic concepts and how the new Investment Analysis Guideline, including the WACC Tool and final benchmark indicators were developed, lesson learned and future challen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93dc"/>
                </a:solidFill>
                <a:latin typeface="Arial"/>
              </a:rPr>
              <a:t>+ PD Forum -  presented the notes taken from the PD Forum and DoE Forum meeting in Feb 2012, regarding the FOIK &amp; CP guidelines and the AT &amp; CT with detailed questions/concerns and suggestions for improv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93dc"/>
                </a:solidFill>
                <a:latin typeface="Arial"/>
              </a:rPr>
              <a:t>+ TUV SUD, presented what are the challenges faced by the DoEs while using these new Tools and Guidelines for valid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</a:t>
            </a:r>
            <a:r>
              <a:rPr b="1" i="1" lang="en-US" sz="1200" spc="-1" strike="noStrike">
                <a:solidFill>
                  <a:srgbClr val="4b93dc"/>
                </a:solidFill>
                <a:latin typeface="Arial"/>
              </a:rPr>
              <a:t>[Module 2.1, Additionality]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1280" y="509760"/>
            <a:ext cx="7867440" cy="43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22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Action points /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+ Revision to the Tools and the 2 Guidelines is planned to be adopted by EB 70 (prepared information for discussions/review in EB 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+ Suggestions for the improving areas should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ts val="2398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clarification on key terms in the Guidelines, such as 'first', 'measure', 'different technologies', 'accept geographical area', 'PLF &amp; Capacity (net or gross)'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ts val="2398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clarification on the application timeline of the Tools and the  2 Guidelines for new PD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ts val="2398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consideration/reconsideration on the availability of data, exclusion of CDM projects for CP analysis, crediting period of 10 years, inclusion of project typ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ts val="2398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reviewing the consistency of terminologies/definitions used these new Tools and Guidelines with existing methodologies, tools, guidelines, etc., (e.g. some methodologies have it's own CP analysis requirement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ts val="2398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adopting the different/specific conditions in all countries into the standard approach of the new Investment Analysis Guide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ts val="2398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assurance of the constancy of the default/input data by having a long term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ts val="2398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NAMAs should be developed in parallel with financial info of the countries related to the carbon mark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+ Calling for inputs / consultation to key stakeholders before revising the Tools and Guidel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+ ensuring the consistency of understanding / interpretations to the new tools and guidelines for Additionality by different stakeholders in the CDM cycle including PP, DOE, DNA, secretariat, reviewer, EB memb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7:29:01Z</dcterms:created>
  <dc:creator>lenz</dc:creator>
  <dc:description/>
  <dc:language>en-US</dc:language>
  <cp:lastModifiedBy>Pasha</cp:lastModifiedBy>
  <cp:lastPrinted>2004-03-02T21:24:15Z</cp:lastPrinted>
  <dcterms:modified xsi:type="dcterms:W3CDTF">2012-03-25T07:39:34Z</dcterms:modified>
  <cp:revision>18</cp:revision>
  <dc:subject/>
  <dc:title>7th Joint Coordination Workshop</dc:title>
</cp:coreProperties>
</file>