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move the slide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9"/>
          <p:cNvSpPr/>
          <p:nvPr/>
        </p:nvSpPr>
        <p:spPr>
          <a:xfrm>
            <a:off x="496800" y="401760"/>
            <a:ext cx="6105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0"/>
          <p:cNvSpPr/>
          <p:nvPr/>
        </p:nvSpPr>
        <p:spPr>
          <a:xfrm>
            <a:off x="496800" y="9529920"/>
            <a:ext cx="6105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hdr"/>
          </p:nvPr>
        </p:nvSpPr>
        <p:spPr>
          <a:xfrm>
            <a:off x="49032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22" descr="unfccc_logos+text"/>
          <p:cNvPicPr/>
          <p:nvPr/>
        </p:nvPicPr>
        <p:blipFill>
          <a:blip r:embed="rId2"/>
          <a:stretch/>
        </p:blipFill>
        <p:spPr>
          <a:xfrm>
            <a:off x="496800" y="9642600"/>
            <a:ext cx="6104160" cy="59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1"/>
          <p:cNvSpPr/>
          <p:nvPr/>
        </p:nvSpPr>
        <p:spPr>
          <a:xfrm>
            <a:off x="49068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6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7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33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47" descr="unfccc_logos_big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3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unfccc_logos_big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unfccc_logos_big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4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8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9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0" descr="unfccc_schriftzug_big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1" descr="unfccc_logos_big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"/>
          </p:nvPr>
        </p:nvSpPr>
        <p:spPr>
          <a:xfrm>
            <a:off x="3276720" y="652464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2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126216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0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1" descr="unfccc_schriftzug_big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unfccc_logos_big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3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UNFCCC secretariat, program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4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irstname Lastname, Job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24960" y="4757760"/>
            <a:ext cx="78822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aritim Hot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Bonn Germany, 24-25 March 20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627120" y="337608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ffffff"/>
                </a:solidFill>
                <a:latin typeface="Arial"/>
              </a:rPr>
              <a:t>Wrap-up session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I</a:t>
            </a:r>
            <a:br>
              <a:rPr sz="34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dule 1.3 - Regional Distribution/Nairobi Framework</a:t>
            </a:r>
            <a:br>
              <a:rPr sz="3000"/>
            </a:br>
            <a:br>
              <a:rPr sz="3000"/>
            </a:b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Mr. Giza Martins, Co-Chair of the DNA Forum</a:t>
            </a:r>
            <a:br>
              <a:rPr sz="2200"/>
            </a:br>
            <a:br>
              <a:rPr sz="30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de-DE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Sustainable Development Mechanisms Joint Coordination Workshop</a:t>
            </a:r>
            <a:endParaRPr b="0" lang="en-US" sz="18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b93dc"/>
                </a:solidFill>
                <a:latin typeface="Arial"/>
              </a:rPr>
              <a:t>Break-out session I, Module 1.3, Regional Distribution/Nairobi Framework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000" y="1045800"/>
            <a:ext cx="828036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ts val="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Main issues discus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irobi Framework partners presented thei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 programme for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FCCC secretariat facilitating coordination worldwide to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uce duplication / gain syner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apacity building events, supported by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onal initi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rect suppor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ill also be provided, to complement capacity building: grid emission factors, PoAs, help desk for projects in countries with less than 10 registered pro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andum of Understanding fo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DM Loan Scheme has been sign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UNFCCC-UNO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eme will be launched i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ril in Addis Ababa, Ethiopi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uring Africa Carbon Forum, including cooperation of UNEP Risoe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EP Risoe Centre has completed 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onal grid emission factor for SAPP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DP will continue activities for capacity building and project developmen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 a regional ba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support the process, DNAs should include 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parent approval procedur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cluding Po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s should make use of public calls for input, to ensure their view is taking into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1332000" y="5291280"/>
            <a:ext cx="67690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airobi Framework partnership includes UNEP Risoe Centre, UNEP, UNDP, World Bank, African Development Bank and UNFCCC secretariat, collaborating with IETA, Asian Development Bank, Inter-American Development Bank, African Climate Policy Center and Institute for Global Environmental Strateg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35040" y="98100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Action points /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s may want to establish simplified approval procedures for new projects and for standardized baselines, to help improve their participation in C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ners should address CDM project distribution at a sub-regional level, addressing the particular realities of sub-groups of countries. For example, Caribbean SIDS within Latin America and Caribbe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tern Europe countries require additional tailor-made support as we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ailability of information and support through the internet is a limitation for countries with electricity/internet access.  Additional ways of communication should be provided (i.e. through embassies, local UNDP offic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ently established, small DNAs still require further capacity building, support to develop a strategy (including PoA), and to promote CDM pro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ort for modifications to some methodologies, or new ones, may be considered, to reflect the specific characteristics of the underrepresen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b93dc"/>
                </a:solidFill>
                <a:latin typeface="Arial"/>
              </a:rPr>
              <a:t>Break-out session I, Module 1.3, Regional Distribution/Nairobi Framework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07:29:01Z</dcterms:created>
  <dc:creator>lenz</dc:creator>
  <dc:description/>
  <dc:language>en-US</dc:language>
  <cp:lastModifiedBy>Giza Gaspar Martins</cp:lastModifiedBy>
  <cp:lastPrinted>2004-03-02T21:24:15Z</cp:lastPrinted>
  <dcterms:modified xsi:type="dcterms:W3CDTF">2012-03-24T15:34:04Z</dcterms:modified>
  <cp:revision>36</cp:revision>
  <dc:subject/>
  <dc:title>7th Joint Coordination Workshop</dc:title>
</cp:coreProperties>
</file>