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EB25-A605-4C85-8CC0-0E44FFE91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5180-6F4F-4385-9FF2-F778C1E6F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490E-C8D9-4B74-8027-4DB7CBB8E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F4AD-60F2-4F06-BA78-AE0F75004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4358-9E67-4E4F-AAD6-6DCA73610D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183F-F6EE-4218-91CC-757DE6143C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7191-747C-47F9-93A6-A34C0D5982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01FE8-9CA7-4EAD-B516-018E642592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CCFB-27C7-4E74-85A7-A1AE077AF3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D8D2-2461-4F14-9970-89B616BBF2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0E42-9ADC-4263-AD71-24AE23582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BAA6-4BDA-4EC7-94BE-FBBEF5260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8CCC-9A3F-4E76-A2F5-3D548D0ED8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41F3-CFEE-4766-93F6-3F3F2571FA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E418-814F-4B09-8C64-2417BE642C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FFA2-2DCD-4300-BB3A-11E9F56C37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4BC8-CF44-42B2-9A89-8698460F0E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9038-7580-40E6-B407-48AFAB270F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13735-D558-4AC3-AC3C-1E572AFDF2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259E3-3460-4DDD-BBBD-CC0BF5AE89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49692-B0B0-4027-B207-3F8D18BE4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1C1E-D5E5-4461-9F97-B55390D981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15634-7A4F-4797-94B3-DC4F7FE374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E410C-C32A-4A21-89C9-E87CC3B955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C15AE-9B41-459A-B421-C55BE9DC6F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E8117-2754-4CB3-A27C-A77208F526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9CB6D-DDBC-4E88-AD4F-40350FE6C0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BE5CE-47E5-47F6-B837-64CB87639C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A1EF2-2A88-4863-B33F-9505861222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D21B1-5E60-4034-8B96-4621D42CEE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71F49-A4FA-4CA7-9005-8E46CEEC9D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5970-999D-4A63-B15F-F9EBEFC9BE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C79F-1863-4C8F-8A31-25AA11B5D8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4108D-9285-4325-86E3-50C5256BAE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80942-3EFD-47BA-B499-FF234BAED96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31988-FEE4-4DFD-997C-1E5FC51CFF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23965-80E6-4BBF-9FB8-11F5AB1CF3F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6E3F8-690A-4B0E-BD2B-FFA34761F0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FD4C1-E489-4627-B1B4-B3150DB7F6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64A3A-6D60-4EA2-BD3A-995A1E15D6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A1936-0F81-4DE9-826C-E5BF9015A3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F951D-C5EA-4361-A47B-AE1F91405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9051-79AD-478A-B839-BFA33DA006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AF698-91F7-4901-A737-1E9E0881DF3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66A1A-0462-4296-84A7-9B9017CF9D8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010B9-4732-4AA7-B91E-D0BF4360B6D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B930-892B-4237-8D15-C737CEC7B9A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11C4F-C313-436F-A8B1-D140173451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201E-96CD-4761-A2BF-29783686175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F7D2-C629-4E49-9A48-5F53FD59AE4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F2C3-8243-4CA3-A99A-512CA2A1A8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3A75-B19D-4B25-BAEB-64D8FF0A5AA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82BC-226B-444C-8FA4-78CF7171D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1816-2BF3-4F8B-BB8D-576C031B45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31AC9-7BF6-4951-84F8-40B439B8B48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9CBE-8BA5-4772-BC90-DF34BF78F7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9EAF-D58F-4A36-A85C-0447BB195D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293A-B3D4-45F2-9B4F-E3649CB4EC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9C05F-8989-4034-ADAB-04AC024FB10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82DD-1DB2-4A98-B52C-33BB58B90D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C908-1B3F-4FB7-B8A8-CAE0AEFD9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152360"/>
            <a:ext cx="133200" cy="458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007560" y="1168560"/>
            <a:ext cx="136440" cy="45655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26964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70000" indent="-2682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4D8B-3E89-412C-81E1-11076EEC9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2268360" y="6517800"/>
            <a:ext cx="6235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2268360" y="6248520"/>
            <a:ext cx="6235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EDDE-56C1-49B7-A86B-64DBD10DB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6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DB3E-BEAD-4CBB-8E5A-4614E41704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7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B208-115D-4EEB-9C3D-E0274909A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5BC-923B-4AFC-9F9E-BF90F7F6D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EA35-07FC-40D3-A186-F43BD99D9C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UIDELINES ON:</a:t>
            </a:r>
            <a:br>
              <a:rPr sz="30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(A) COMMON PRACTICE</a:t>
            </a:r>
            <a:br>
              <a:rPr sz="30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(B) ADDITIONALITY OF FIRST-OF-ITS KI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0880" y="1413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DM JOINT COORDINATION WORKSHO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DAEC-68F8-458C-867B-A92F1747820D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1280" y="106632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CMP requested the Board to develop guidance on “First of its kind” and “Common practic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ft guidelines were developed and, following a call for public inputs, adopted by EB63 in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B65 revised the “Additionality tool” and the “Combined tool” to incorporate the provisions contained in the guideli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MP7 requested the Board further improve the guidelines on the use of “first-of-its-kind” and the assessment of common practice, on the basis of the application of those guidelines to project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8860-706F-427D-8E35-DB254D77D826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Guidelines on common practice” (EB 63, Annex 12)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1280" y="106632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e the terms “Applicable geographical area”, “Measure”, “Output”, and “Different technologies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ntify all plants in the applicable geographical area which have a capacity in the range defined by the project plant capacit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0%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ut of these plants, identify the plants that apply “different technologies” from the project technology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DIF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lculate the share of “similar technologies”: F = 1 –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DIF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/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project activity is common practice i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) F &gt; 0.2,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i)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DIF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&gt;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>
              <a:lnSpc>
                <a:spcPts val="2398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5F0C-1E7D-4B86-9D5B-90FB102609E3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35040" y="266760"/>
            <a:ext cx="811368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Guidelines First-of-its-kind project activities” (EB 63, Annex 11)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1280" y="106632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ine the terms “Applicable geographical area”, “Measure”, “Output”, and “Different technologies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project activity is “First-of-its-kind” if: (i) it is the first in the applicable geographical area; (ii) applies a “different technologies” from other activities that deliver the same “output” and that had started commercial operation before the start date of the project; and (iii) opts for a crediting period of “a maximum of 10 years with no option of renewa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proposed project activity that is “First-of-its-kind” is additional (i.e. it does not require barrier analysis, financial analysis or common practice analys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>
              <a:lnSpc>
                <a:spcPts val="2398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BC05-EB83-44ED-B853-2325612B4B1E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35040" y="266760"/>
            <a:ext cx="811368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oncerns raised by stakeholders (1)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86744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new guidelines on common practice, instead of clarifying the steps of existing common practice analysis, introduce a completely new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ata to apply the concept is not always publicly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gistered CDM projects may in the future be included for the purpose of defining the common practice thresh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strict criterion of “first” does not recognise barriers faced by the early adopters of new technologies; if there is more than one plant using a technology, it does not mean that the barriers are not t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concept of first of its kind should not be linked to a 10 year crediting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>
              <a:lnSpc>
                <a:spcPts val="2398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E68C-DB55-4F4C-9AC5-C5AB02A0D8CB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35040" y="266760"/>
            <a:ext cx="811368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oncerns raised by stakeholders (2)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8674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term “measures” is used in two different ways in the revised combined tool and additionality tool which allows for two interpre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efinition of “different technologies” fails to encourage development of new technologies. For example, a switch from biomass combustion to biomass gasification would require the adoption of a new technology but according to the definition it would not be different since the fuel remains the s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efinition of “applicable geographical area” is less clear than bef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>
              <a:lnSpc>
                <a:spcPts val="2398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>
              <a:lnSpc>
                <a:spcPts val="2398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1502-7A63-4A6D-9F67-A0C2E11255F4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35040" y="266760"/>
            <a:ext cx="811368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867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Board and the UNFCCC secretariat will evaluate the comments from stakeholders and the practical application of the concept in project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information is planned to be prepared for EB6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sed tools, improving the concept, are planned to be adopted at EB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>
              <a:lnSpc>
                <a:spcPts val="2398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>
              <a:lnSpc>
                <a:spcPts val="2398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1:08:21Z</dcterms:created>
  <dc:creator>Howard</dc:creator>
  <dc:description/>
  <dc:language>en-US</dc:language>
  <cp:lastModifiedBy>LSchneider</cp:lastModifiedBy>
  <cp:lastPrinted>2004-03-02T21:24:15Z</cp:lastPrinted>
  <dcterms:modified xsi:type="dcterms:W3CDTF">2012-03-22T11:06:14Z</dcterms:modified>
  <cp:revision>166</cp:revision>
  <dc:subject/>
  <dc:title>TITLE HEADER</dc:title>
</cp:coreProperties>
</file>