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FCCC secretariat, Sustainable Development Mechanisms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Conor BA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Update on the Nairobi Framework Partnersh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5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SDM Coordination Workshop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, Germany, 24 March 201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name Lastname, Job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FCCC secretariat, program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ts val="29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Global Coordin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NA capacity build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irect project suppor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Global Coordination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78678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62800" indent="-262800">
              <a:lnSpc>
                <a:spcPts val="29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FCCC secretariat plays a coordinating role in Inter-Agency coop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8160" indent="-328320">
              <a:lnSpc>
                <a:spcPts val="29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ed staff resources within secretaria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8160" indent="-328320">
              <a:lnSpc>
                <a:spcPts val="29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ed collaborating partners, IGES, ACPC, IDB, AD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9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coordination of capacity building initiatives, global and regional events and information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9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collaboration in online support systems and information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9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availability of regulatory documents in all U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DNA capacity building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ts val="29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training on new PoA standards (just comple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9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e used to update WBI-led online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9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e used to catalyze POA promotion by DNAs, including through Communicator of the Year Show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al training sessions on standardized baselines, suppressed demand and microscale addi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9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support to DNA through dedicated communication channels in the UNFCCC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Direct support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ts val="29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of grid emission factors (Southern Africa Power Pool, Uganda, Kenya, Sri Lanka, Mali/Senegal, Dominican Republ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ral energy access in Africa, workshop with DNAs and rural energy agencies in Addis Ababa (UNEP/WBI/UNFC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of PoA templates for Pacific Region (IGES/UNFC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and training for African CMEs (UNDP/UNFC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-desk for project activities in target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09:05:47Z</dcterms:created>
  <dc:creator>barry</dc:creator>
  <dc:description/>
  <dc:language>en-US</dc:language>
  <cp:lastModifiedBy>barry</cp:lastModifiedBy>
  <cp:lastPrinted>2004-03-02T21:24:15Z</cp:lastPrinted>
  <dcterms:modified xsi:type="dcterms:W3CDTF">2012-03-23T22:27:49Z</dcterms:modified>
  <cp:revision>5</cp:revision>
  <dc:subject/>
  <dc:title>TITLE HEADER</dc:title>
</cp:coreProperties>
</file>