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5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Autofit/>
          </a:bodyPr>
          <a:lstStyle>
            <a:lvl1pPr marL="216000" indent="0" algn="r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fld id="{7C84EE00-F244-4BA3-9670-08C9EDB60A6B}" type="datetime5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258560" y="720720"/>
            <a:ext cx="4802040" cy="360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US" sz="3300" spc="-1" strike="noStrike">
                <a:solidFill>
                  <a:srgbClr val="339966"/>
                </a:solidFill>
                <a:latin typeface="Book Antiqua"/>
              </a:rPr>
              <a:t>Click to move the slide</a:t>
            </a: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6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7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b">
            <a:noAutofit/>
          </a:bodyPr>
          <a:lstStyle>
            <a:lvl1pPr marL="216000" indent="0" algn="r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fld id="{B6F17526-2F16-4FC4-8221-E0CE9DF71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b">
            <a:noAutofit/>
          </a:bodyPr>
          <a:p>
            <a:pPr algn="r"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fld id="{32F5B21F-AD68-4E56-A962-38CC4ECE8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4760" cy="3587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3320" y="455904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E9E19-FB6F-4A93-8044-CB74E9E43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344240"/>
            <a:ext cx="814068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908160"/>
            <a:ext cx="814068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F4ED-3369-4205-8959-3ADBBAEE5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34424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7120" y="134424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0816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7120" y="390816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4BC82-7607-4CDF-9664-FB9B7167F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344240"/>
            <a:ext cx="262116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8000" y="1344240"/>
            <a:ext cx="262116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90560" y="1344240"/>
            <a:ext cx="262116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908160"/>
            <a:ext cx="262116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8000" y="3908160"/>
            <a:ext cx="262116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90560" y="3908160"/>
            <a:ext cx="262116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64A00-2877-4248-B63B-0714DF587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359C9-BA9D-4C58-9F05-D1BC1615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344240"/>
            <a:ext cx="81406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6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0C3F1-1F07-4F46-87ED-BDEE5529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344240"/>
            <a:ext cx="8140680" cy="4908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F8FF2-8378-4D91-AD5C-6C83D9F3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344240"/>
            <a:ext cx="3972600" cy="4908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57120" y="1344240"/>
            <a:ext cx="3972600" cy="4908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09F12-033C-4CE3-878A-AA213FD3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1D3A1-DDA5-48EA-9D2D-39F5689F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0"/>
            <a:ext cx="84582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213D1-5D55-4E75-A582-FA031956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34424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7120" y="1344240"/>
            <a:ext cx="3972600" cy="4908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90816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50DEF-64F6-4F06-B4AC-9654715D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344240"/>
            <a:ext cx="81406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6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358FB-8120-41B7-99A0-B2EEC7303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344240"/>
            <a:ext cx="3972600" cy="4908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7120" y="134424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57120" y="390816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E00A1-C9E4-41AB-9661-EE650409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34424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57120" y="134424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908160"/>
            <a:ext cx="814068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85A98-B5F5-4FA0-94E8-F8F588D1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344240"/>
            <a:ext cx="814068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908160"/>
            <a:ext cx="814068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BE808-798E-4D69-85DD-B9AD2D4A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34424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57120" y="134424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90816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57120" y="390816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ADE09-D3EC-437F-96C2-01D2470F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344240"/>
            <a:ext cx="262116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38000" y="1344240"/>
            <a:ext cx="262116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0560" y="1344240"/>
            <a:ext cx="262116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908160"/>
            <a:ext cx="262116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38000" y="3908160"/>
            <a:ext cx="262116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0560" y="3908160"/>
            <a:ext cx="262116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59C11-02A8-4797-9EA0-8D23E399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440" y="1344240"/>
            <a:ext cx="81406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6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344240"/>
            <a:ext cx="8140680" cy="4908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344240"/>
            <a:ext cx="3972600" cy="4908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57120" y="1344240"/>
            <a:ext cx="3972600" cy="4908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344240"/>
            <a:ext cx="8140680" cy="4908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9FFF-63BB-4FF1-9C39-EF35A51DF3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440" y="0"/>
            <a:ext cx="84582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34424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57120" y="1344240"/>
            <a:ext cx="3972600" cy="4908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440" y="390816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344240"/>
            <a:ext cx="3972600" cy="4908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57120" y="134424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857120" y="390816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34424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7120" y="134424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440" y="3908160"/>
            <a:ext cx="814068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344240"/>
            <a:ext cx="814068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440" y="3908160"/>
            <a:ext cx="814068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34424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57120" y="134424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440" y="390816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857120" y="390816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344240"/>
            <a:ext cx="262116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38000" y="1344240"/>
            <a:ext cx="262116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90560" y="1344240"/>
            <a:ext cx="262116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440" y="3908160"/>
            <a:ext cx="262116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38000" y="3908160"/>
            <a:ext cx="262116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90560" y="3908160"/>
            <a:ext cx="262116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344240"/>
            <a:ext cx="3972600" cy="4908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7120" y="1344240"/>
            <a:ext cx="3972600" cy="4908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350EB-D486-4929-8006-CC25E6F15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9BCD-38D2-496B-8194-E761146A7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0"/>
            <a:ext cx="84582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D53B8-CF61-462B-B637-B92E887E6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34424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7120" y="1344240"/>
            <a:ext cx="3972600" cy="4908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90816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86586-9DD6-45E8-9609-437C4B9DB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344240"/>
            <a:ext cx="3972600" cy="4908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7120" y="134424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7120" y="390816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3DCA0-3CF9-40DE-A14C-6252226AE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34424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7120" y="1344240"/>
            <a:ext cx="397260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908160"/>
            <a:ext cx="8140680" cy="234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125000"/>
              </a:lnSpc>
              <a:spcBef>
                <a:spcPts val="56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B19E0-9C30-4F65-AA8A-083447CF9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US" sz="3300" spc="-1" strike="noStrike">
                <a:solidFill>
                  <a:srgbClr val="339966"/>
                </a:solidFill>
                <a:latin typeface="Book Antiqua"/>
              </a:rPr>
              <a:t>Click to edit the title text format</a:t>
            </a: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344240"/>
            <a:ext cx="8140680" cy="4908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lnSpc>
                <a:spcPct val="125000"/>
              </a:lnSpc>
              <a:spcBef>
                <a:spcPts val="561"/>
              </a:spcBef>
              <a:buClr>
                <a:srgbClr val="ff9900"/>
              </a:buClr>
              <a:buSzPct val="1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lnSpc>
                <a:spcPct val="125000"/>
              </a:lnSpc>
              <a:spcBef>
                <a:spcPts val="561"/>
              </a:spcBef>
              <a:buClr>
                <a:srgbClr val="ff0000"/>
              </a:buClr>
              <a:buSzPct val="1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lnSpc>
                <a:spcPct val="125000"/>
              </a:lnSpc>
              <a:spcBef>
                <a:spcPts val="561"/>
              </a:spcBef>
              <a:buClr>
                <a:srgbClr val="3333cc"/>
              </a:buClr>
              <a:buSzPct val="1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lnSpc>
                <a:spcPct val="12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lnSpc>
                <a:spcPct val="12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lnSpc>
                <a:spcPct val="12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lnSpc>
                <a:spcPct val="12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a9c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716040" y="6649920"/>
            <a:ext cx="2016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303680" y="6388200"/>
            <a:ext cx="1731960" cy="403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1" lang="en-US" sz="13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A885F3D8-9028-4DF8-9C7E-95AEB4A48854}" type="slidenum">
              <a:rPr b="1" lang="en-US" sz="13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649680" y="319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1721-252B-416A-A372-39699CB6D55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26"/>
          <p:cNvSpPr/>
          <p:nvPr/>
        </p:nvSpPr>
        <p:spPr>
          <a:xfrm>
            <a:off x="0" y="0"/>
            <a:ext cx="693720" cy="6858000"/>
          </a:xfrm>
          <a:prstGeom prst="rect">
            <a:avLst/>
          </a:prstGeom>
          <a:solidFill>
            <a:srgbClr val="a9c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028" descr="CVS"/>
          <p:cNvPicPr/>
          <p:nvPr/>
        </p:nvPicPr>
        <p:blipFill>
          <a:blip r:embed="rId2"/>
          <a:stretch/>
        </p:blipFill>
        <p:spPr>
          <a:xfrm>
            <a:off x="6958080" y="6118200"/>
            <a:ext cx="1492200" cy="469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29"/>
          <p:cNvSpPr/>
          <p:nvPr/>
        </p:nvSpPr>
        <p:spPr>
          <a:xfrm>
            <a:off x="0" y="1076400"/>
            <a:ext cx="693720" cy="16794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31"/>
          <p:cNvSpPr/>
          <p:nvPr/>
        </p:nvSpPr>
        <p:spPr>
          <a:xfrm>
            <a:off x="693720" y="6656400"/>
            <a:ext cx="2016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32"/>
          <p:cNvSpPr/>
          <p:nvPr/>
        </p:nvSpPr>
        <p:spPr>
          <a:xfrm>
            <a:off x="3649680" y="319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US" sz="3300" spc="-1" strike="noStrike">
                <a:solidFill>
                  <a:srgbClr val="339966"/>
                </a:solidFill>
                <a:latin typeface="Book Antiqua"/>
              </a:rPr>
              <a:t>Click to edit the title text format</a:t>
            </a: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440" y="1344240"/>
            <a:ext cx="8140680" cy="4908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lnSpc>
                <a:spcPct val="125000"/>
              </a:lnSpc>
              <a:spcBef>
                <a:spcPts val="561"/>
              </a:spcBef>
              <a:buClr>
                <a:srgbClr val="ff9900"/>
              </a:buClr>
              <a:buSzPct val="1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lnSpc>
                <a:spcPct val="125000"/>
              </a:lnSpc>
              <a:spcBef>
                <a:spcPts val="561"/>
              </a:spcBef>
              <a:buClr>
                <a:srgbClr val="ff0000"/>
              </a:buClr>
              <a:buSzPct val="1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lnSpc>
                <a:spcPct val="125000"/>
              </a:lnSpc>
              <a:spcBef>
                <a:spcPts val="561"/>
              </a:spcBef>
              <a:buClr>
                <a:srgbClr val="3333cc"/>
              </a:buClr>
              <a:buSzPct val="1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lnSpc>
                <a:spcPct val="12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lnSpc>
                <a:spcPct val="12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lnSpc>
                <a:spcPct val="12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lnSpc>
                <a:spcPct val="12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93720" y="1076040"/>
            <a:ext cx="7756560" cy="1679400"/>
          </a:xfrm>
          <a:prstGeom prst="rect">
            <a:avLst/>
          </a:prstGeom>
          <a:solidFill>
            <a:srgbClr val="b6d1c7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Book Antiqua"/>
              </a:rPr>
              <a:t>CDM Project Cycle Calibration                                      </a:t>
            </a:r>
            <a:endParaRPr b="1" i="1" lang="en-US" sz="40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3720" y="2890800"/>
            <a:ext cx="7756560" cy="3160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214920" bIns="214920" anchor="t">
            <a:noAutofit/>
          </a:bodyPr>
          <a:p>
            <a:pPr indent="0" algn="ctr">
              <a:lnSpc>
                <a:spcPct val="105000"/>
              </a:lnSpc>
              <a:spcBef>
                <a:spcPts val="462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5000"/>
              </a:lnSpc>
              <a:spcBef>
                <a:spcPts val="462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lanie Edd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5000"/>
              </a:lnSpc>
              <a:spcBef>
                <a:spcPts val="462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RM Certification and Verification Services (ERM CV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5000"/>
              </a:lnSpc>
              <a:spcBef>
                <a:spcPts val="462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5000"/>
              </a:lnSpc>
              <a:spcBef>
                <a:spcPts val="462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DM Coordination Meeting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NFCCC, Bon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5000"/>
              </a:lnSpc>
              <a:spcBef>
                <a:spcPts val="462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5000"/>
              </a:lnSpc>
              <a:spcBef>
                <a:spcPts val="462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4-25 March 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5000"/>
              </a:lnSpc>
              <a:spcBef>
                <a:spcPts val="312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5000"/>
              </a:lnSpc>
              <a:spcBef>
                <a:spcPts val="312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GB" sz="3300" spc="-1" strike="noStrike">
                <a:solidFill>
                  <a:srgbClr val="339966"/>
                </a:solidFill>
                <a:latin typeface="Book Antiqua"/>
              </a:rPr>
              <a:t>Aim of this session</a:t>
            </a: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440" y="1344240"/>
            <a:ext cx="8140680" cy="4776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lnSpc>
                <a:spcPct val="125000"/>
              </a:lnSpc>
              <a:spcBef>
                <a:spcPts val="561"/>
              </a:spcBef>
              <a:buClr>
                <a:srgbClr val="ff9900"/>
              </a:buClr>
              <a:buSzPct val="1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o  calibrate the understanding of the new requirements under the  new  package  of  documents,  i.e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ost registration changes and other  cross-cutting  issues;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o  discuss  the  role of each stakeholder  during their implemen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lnSpc>
                <a:spcPct val="125000"/>
              </a:lnSpc>
              <a:spcBef>
                <a:spcPts val="499"/>
              </a:spcBef>
              <a:buClr>
                <a:srgbClr val="3333cc"/>
              </a:buClr>
              <a:buSzPct val="125000"/>
              <a:buFont typeface="Arial"/>
              <a:buChar char="•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lnSpc>
                <a:spcPct val="125000"/>
              </a:lnSpc>
              <a:spcBef>
                <a:spcPts val="499"/>
              </a:spcBef>
              <a:buClr>
                <a:srgbClr val="3333cc"/>
              </a:buClr>
              <a:buSzPct val="125000"/>
              <a:buFont typeface="Arial"/>
              <a:buChar char="•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D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lnSpc>
                <a:spcPct val="125000"/>
              </a:lnSpc>
              <a:spcBef>
                <a:spcPts val="499"/>
              </a:spcBef>
              <a:buClr>
                <a:srgbClr val="3333cc"/>
              </a:buClr>
              <a:buSzPct val="125000"/>
              <a:buFont typeface="Arial"/>
              <a:buChar char="•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T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lnSpc>
                <a:spcPct val="125000"/>
              </a:lnSpc>
              <a:spcBef>
                <a:spcPts val="499"/>
              </a:spcBef>
              <a:buClr>
                <a:srgbClr val="3333cc"/>
              </a:buClr>
              <a:buSzPct val="125000"/>
              <a:buFont typeface="Arial"/>
              <a:buChar char="•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ecretariat       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25000"/>
              </a:lnSpc>
              <a:spcBef>
                <a:spcPts val="561"/>
              </a:spcBef>
              <a:buClr>
                <a:srgbClr val="ff9900"/>
              </a:buClr>
              <a:buSzPct val="1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GB" sz="3300" spc="-1" strike="noStrike">
                <a:solidFill>
                  <a:srgbClr val="339966"/>
                </a:solidFill>
                <a:latin typeface="Book Antiqua"/>
              </a:rPr>
              <a:t>DOE perspective</a:t>
            </a: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440" y="1344240"/>
            <a:ext cx="8140680" cy="4776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lnSpc>
                <a:spcPct val="125000"/>
              </a:lnSpc>
              <a:spcBef>
                <a:spcPts val="561"/>
              </a:spcBef>
              <a:buClr>
                <a:srgbClr val="ff9900"/>
              </a:buClr>
              <a:buSzPct val="1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the project cycle procedure will only come into effect 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May 201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DOEs are going through the process of developing new processes and templates and have as yet little experience of practical implem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25000"/>
              </a:lnSpc>
              <a:spcBef>
                <a:spcPts val="561"/>
              </a:spcBef>
              <a:buClr>
                <a:srgbClr val="ff9900"/>
              </a:buClr>
              <a:buSzPct val="1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25000"/>
              </a:lnSpc>
              <a:spcBef>
                <a:spcPts val="561"/>
              </a:spcBef>
              <a:buClr>
                <a:srgbClr val="ff9900"/>
              </a:buClr>
              <a:buSzPct val="1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mments that follow are based on experiences of interpreting the texts of the new procedures and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25000"/>
              </a:lnSpc>
              <a:spcBef>
                <a:spcPts val="561"/>
              </a:spcBef>
              <a:buClr>
                <a:srgbClr val="ff9900"/>
              </a:buClr>
              <a:buSzPct val="1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25000"/>
              </a:lnSpc>
              <a:spcBef>
                <a:spcPts val="561"/>
              </a:spcBef>
              <a:buClr>
                <a:srgbClr val="ff9900"/>
              </a:buClr>
              <a:buSzPct val="1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GB" sz="3300" spc="-1" strike="noStrike">
                <a:solidFill>
                  <a:srgbClr val="339966"/>
                </a:solidFill>
                <a:latin typeface="Book Antiqua"/>
              </a:rPr>
              <a:t>We welcome many aspects of the new framework</a:t>
            </a: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440" y="1344240"/>
            <a:ext cx="8140680" cy="4776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lnSpc>
                <a:spcPct val="125000"/>
              </a:lnSpc>
              <a:spcBef>
                <a:spcPts val="561"/>
              </a:spcBef>
              <a:buClr>
                <a:srgbClr val="ff9900"/>
              </a:buClr>
              <a:buSzPct val="1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part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vised monitoring report form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d guidance help demonstrate accountability on Project Participant’s declaration of correct information/status of project 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opportunity to have a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ference call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arding issues raised during the secretariat’s review of document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ossibility to hav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st registration change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ich do not require prior approval by the E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ossibility to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rect minor editorial error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thout the project being returned to th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25000"/>
              </a:lnSpc>
              <a:spcBef>
                <a:spcPts val="561"/>
              </a:spcBef>
              <a:buClr>
                <a:srgbClr val="ff9900"/>
              </a:buClr>
              <a:buSzPct val="1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GB" sz="3300" spc="-1" strike="noStrike">
                <a:solidFill>
                  <a:srgbClr val="339966"/>
                </a:solidFill>
                <a:latin typeface="Book Antiqua"/>
              </a:rPr>
              <a:t>We have found some lack of clarity during implementation  eg:</a:t>
            </a: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440" y="1344240"/>
            <a:ext cx="8140680" cy="4776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lnSpc>
                <a:spcPct val="115000"/>
              </a:lnSpc>
              <a:spcBef>
                <a:spcPts val="561"/>
              </a:spcBef>
              <a:buClr>
                <a:srgbClr val="ff9900"/>
              </a:buClr>
              <a:buSzPct val="1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Standard Appendix 1: (Changes that do not require prior approval by the bo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e ask that the list of changes presented in Appendix 1 of the CDM Project Standard will be further developed over ti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: “any corrections to project information……that do not affect the design of the project activity” in appendix I of Project Standar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lnSpc>
                <a:spcPct val="115000"/>
              </a:lnSpc>
              <a:spcBef>
                <a:spcPts val="499"/>
              </a:spcBef>
              <a:buClr>
                <a:srgbClr val="3333cc"/>
              </a:buClr>
              <a:buSzPct val="125000"/>
              <a:buFont typeface="Arial"/>
              <a:buChar char="•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is a footnote saying that ‘such corrections may include typographical errors, location, names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s of compone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etc’. whilst ‘Changes to the project design of a registered project activity’ are elsewhere defined to include ‘addition of component’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15000"/>
              </a:lnSpc>
              <a:spcBef>
                <a:spcPts val="561"/>
              </a:spcBef>
              <a:buClr>
                <a:srgbClr val="ff9900"/>
              </a:buClr>
              <a:buSzPct val="1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nor editorial erro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would be useful to have guidance on what constitutes editorial errors. This is to ensure equal treatment of all projects by different members of the UNFCCC Secretari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lnSpc>
                <a:spcPct val="115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15000"/>
              </a:lnSpc>
              <a:spcBef>
                <a:spcPts val="561"/>
              </a:spcBef>
              <a:buClr>
                <a:srgbClr val="ff9900"/>
              </a:buClr>
              <a:buSzPct val="1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GB" sz="3300" spc="-1" strike="noStrike">
                <a:solidFill>
                  <a:srgbClr val="339966"/>
                </a:solidFill>
                <a:latin typeface="Book Antiqua"/>
              </a:rPr>
              <a:t>We have found some lack of clarity during implementation  (cont)</a:t>
            </a: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440" y="1344240"/>
            <a:ext cx="8140680" cy="4776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lnSpc>
                <a:spcPct val="115000"/>
              </a:lnSpc>
              <a:spcBef>
                <a:spcPts val="524"/>
              </a:spcBef>
              <a:buClr>
                <a:srgbClr val="ff9900"/>
              </a:buClr>
              <a:buSzPct val="1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Definitions of chang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lnSpc>
                <a:spcPct val="115000"/>
              </a:lnSpc>
              <a:spcBef>
                <a:spcPts val="462"/>
              </a:spcBef>
              <a:buClr>
                <a:srgbClr val="ff0000"/>
              </a:buClr>
              <a:buSzPct val="1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67. Where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ermanent changes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re identified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uring verification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the DOE shall indicate in the verification report how the revised PDD reflects the application of the approved guidance from the Board regarding the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ermanent changes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rom the provisions of the registered monitoring plan and/or methodolog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lnSpc>
                <a:spcPct val="115000"/>
              </a:lnSpc>
              <a:spcBef>
                <a:spcPts val="462"/>
              </a:spcBef>
              <a:buClr>
                <a:srgbClr val="ff0000"/>
              </a:buClr>
              <a:buSzPct val="1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68. Where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ermanent changes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re identified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ior to verification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the DOE shall state its opinion on whether the permanent changes reflect the application of the approved guidance from the Board regarding the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viation from the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ovisions of the registered monitoring plan and/or methodolog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15000"/>
              </a:lnSpc>
              <a:spcBef>
                <a:spcPts val="524"/>
              </a:spcBef>
              <a:buClr>
                <a:srgbClr val="ff9900"/>
              </a:buClr>
              <a:buSzPct val="1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lnSpc>
                <a:spcPct val="115000"/>
              </a:lnSpc>
              <a:spcBef>
                <a:spcPts val="462"/>
              </a:spcBef>
              <a:buClr>
                <a:srgbClr val="ff0000"/>
              </a:buClr>
              <a:buSzPct val="1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s the EB31 clarification on definitions of revision and deviation applicable under the new standards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15000"/>
              </a:lnSpc>
              <a:spcBef>
                <a:spcPts val="524"/>
              </a:spcBef>
              <a:buClr>
                <a:srgbClr val="ff9900"/>
              </a:buClr>
              <a:buSzPct val="1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Submission and treatment of public comments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(Para 20, PCP)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lnSpc>
                <a:spcPct val="115000"/>
              </a:lnSpc>
              <a:spcBef>
                <a:spcPts val="462"/>
              </a:spcBef>
              <a:buClr>
                <a:srgbClr val="ff0000"/>
              </a:buClr>
              <a:buSzPct val="1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metimes stakeholder’s comments are not related to the PA/erroneous comments/defamatory for DOE or CDM Mechanism – the procedure to deal with such cases is not cle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15000"/>
              </a:lnSpc>
              <a:spcBef>
                <a:spcPts val="524"/>
              </a:spcBef>
              <a:buClr>
                <a:srgbClr val="ff9900"/>
              </a:buClr>
              <a:buSzPct val="1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15000"/>
              </a:lnSpc>
              <a:spcBef>
                <a:spcPts val="524"/>
              </a:spcBef>
              <a:buClr>
                <a:srgbClr val="ff9900"/>
              </a:buClr>
              <a:buSzPct val="1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15000"/>
              </a:lnSpc>
              <a:spcBef>
                <a:spcPts val="524"/>
              </a:spcBef>
              <a:buClr>
                <a:srgbClr val="ff9900"/>
              </a:buClr>
              <a:buSzPct val="1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15000"/>
              </a:lnSpc>
              <a:spcBef>
                <a:spcPts val="524"/>
              </a:spcBef>
              <a:buClr>
                <a:srgbClr val="ff9900"/>
              </a:buClr>
              <a:buSzPct val="1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GB" sz="3300" spc="-1" strike="noStrike">
                <a:solidFill>
                  <a:srgbClr val="339966"/>
                </a:solidFill>
                <a:latin typeface="Book Antiqua"/>
              </a:rPr>
              <a:t>Recommendation</a:t>
            </a:r>
            <a:r>
              <a:rPr b="1" i="1" lang="en-GB" sz="3300" spc="-1" strike="noStrike">
                <a:solidFill>
                  <a:srgbClr val="339966"/>
                </a:solidFill>
                <a:latin typeface="Book Antiqua"/>
              </a:rPr>
              <a:t>	</a:t>
            </a:r>
            <a:endParaRPr b="1" i="1" lang="en-US" sz="3300" spc="-1" strike="noStrike">
              <a:solidFill>
                <a:srgbClr val="339966"/>
              </a:solidFill>
              <a:latin typeface="Book Antiqu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440" y="1344240"/>
            <a:ext cx="8140680" cy="4776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lnSpc>
                <a:spcPct val="125000"/>
              </a:lnSpc>
              <a:spcBef>
                <a:spcPts val="561"/>
              </a:spcBef>
              <a:buClr>
                <a:srgbClr val="ff9900"/>
              </a:buClr>
              <a:buSzPct val="1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ask that the secretariat is available to clarify uncertainties raised by DOEs during implementation of the new procedures to avoid unnecessary problems for projects during the 2012 ‘busy period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25000"/>
              </a:lnSpc>
              <a:spcBef>
                <a:spcPts val="561"/>
              </a:spcBef>
              <a:buClr>
                <a:srgbClr val="ff9900"/>
              </a:buClr>
              <a:buSzPct val="1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25000"/>
              </a:lnSpc>
              <a:spcBef>
                <a:spcPts val="561"/>
              </a:spcBef>
              <a:buClr>
                <a:srgbClr val="ff9900"/>
              </a:buClr>
              <a:buSzPct val="1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recomm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ablishing a ‘new standards’ focal point within the secretariat to which questions from PPs or DOEs can be directed by email/tele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shing ‘frequently asked questions’ and guidance available to PPs and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itting to an update of documents later in the year with the benefit of lessons learned during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21:42:40Z</dcterms:created>
  <dc:creator>Roberto Jiménez</dc:creator>
  <dc:description/>
  <dc:language>en-US</dc:language>
  <cp:lastModifiedBy>Melanie Eddis</cp:lastModifiedBy>
  <dcterms:modified xsi:type="dcterms:W3CDTF">2012-03-21T18:41:18Z</dcterms:modified>
  <cp:revision>414</cp:revision>
  <dc:subject>Report Verification Activities</dc:subject>
  <dc:title>Presentation to Roundtable's SMSIG</dc:title>
</cp:coreProperties>
</file>