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26540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7120" y="220464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126216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3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4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Dhirendra Ku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96720" indent="23364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739800" indent="16200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082520" indent="8892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7840" y="2565360"/>
            <a:ext cx="828180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CDM Project Cycle calibration</a:t>
            </a:r>
            <a:br>
              <a:rPr sz="40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Sustainable Development Mechanisms Joint Coordination Workshop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nn, Germany, 24-25 March 2012</a:t>
            </a:r>
            <a:br>
              <a:rPr sz="5800"/>
            </a:b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Ariesta Ningr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UN Climate Change Secretari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34680" y="260280"/>
            <a:ext cx="78692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93dc"/>
                </a:solidFill>
                <a:latin typeface="Arial"/>
                <a:ea typeface="宋体"/>
              </a:rPr>
              <a:t>Principles of implementation – post registration changes</a:t>
            </a:r>
            <a:endParaRPr b="0" lang="en-US" sz="18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1280" y="907920"/>
            <a:ext cx="80121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30 April 2012 : last day to submit any requests for Revision of Monitoring Plan, Changes from PDD, Deviation under old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Any requests made under old rules continue to be processed by the Board/secretariat under old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If changes are only identified only after 1 May, the new rules shall be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66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Changes within Appendix 1 – shall be submitted with request for issu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66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Changes requiring prior approval shall be submitted before submitting request for issu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66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re-publication of PDDs/MRs with new form is NOT needed, b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66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modified PDDs/MRs have to be attached to validation/verification re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34680" y="260280"/>
            <a:ext cx="78692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93dc"/>
                </a:solidFill>
                <a:latin typeface="Arial"/>
                <a:ea typeface="宋体"/>
              </a:rPr>
              <a:t>Practical tips</a:t>
            </a:r>
            <a:endParaRPr b="0" lang="en-US" sz="18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1280" y="907920"/>
            <a:ext cx="80121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For PP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66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Identify changes early in the process and determine if they can be addressed by approaches in PS (Appendix 1 &amp; para 213 for start-date of 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66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Consider timing of submission and appropriate process track – selecting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For DO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66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Ensure types of changes are fully described in the form (both in Issuance track as well as in Prior Approval trac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66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vide assessment opinion on each type of ch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66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Ensure supporting documentation relevant to each type of changes is provi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86924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93dc"/>
                </a:solidFill>
                <a:latin typeface="Arial"/>
              </a:rPr>
              <a:t>More information ..</a:t>
            </a:r>
            <a:endParaRPr b="0" lang="en-US" sz="18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3348000" y="3284640"/>
            <a:ext cx="2449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rcRect l="0" t="0" r="992" b="7246"/>
          <a:stretch/>
        </p:blipFill>
        <p:spPr>
          <a:xfrm>
            <a:off x="826920" y="836640"/>
            <a:ext cx="741708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786924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93dc"/>
                </a:solidFill>
                <a:latin typeface="Arial"/>
              </a:rPr>
              <a:t>Thank you for your attention!</a:t>
            </a:r>
            <a:endParaRPr b="0" lang="en-US" sz="18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348000" y="3284640"/>
            <a:ext cx="2449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34680" y="260280"/>
            <a:ext cx="78692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93dc"/>
                </a:solidFill>
                <a:latin typeface="Arial"/>
                <a:ea typeface="宋体"/>
              </a:rPr>
              <a:t>Scope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352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ts val="19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Excludes direct communication aspects – a dedicated session on Da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Main focus on post-registration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Implementation timeline – what happens between now, 1 May, and 1 Octob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Practical t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34680" y="260280"/>
            <a:ext cx="78692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b93dc"/>
                </a:solidFill>
                <a:latin typeface="Arial"/>
                <a:ea typeface="宋体"/>
              </a:rPr>
              <a:t>Post-registration changes: structure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351640" cy="51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emporary deviation from monitoring plan or monitoring 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Permanent chan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3621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3621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Start date of crediting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3621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Monitoring plan or monitoring 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3621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Project/programm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34680" y="33300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b93dc"/>
                </a:solidFill>
                <a:latin typeface="Arial"/>
                <a:ea typeface="宋体"/>
              </a:rPr>
              <a:t>Post-registration changes: </a:t>
            </a:r>
            <a:r>
              <a:rPr b="1" lang="en-US" sz="2000" spc="-1" strike="noStrike">
                <a:solidFill>
                  <a:srgbClr val="4b93dc"/>
                </a:solidFill>
                <a:latin typeface="Arial"/>
                <a:ea typeface="宋体"/>
              </a:rPr>
              <a:t>process - two tracks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908000" y="942840"/>
          <a:ext cx="5185080" cy="49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942840"/>
                    <a:ext cx="5185080" cy="49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34680" y="260280"/>
            <a:ext cx="78692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b93dc"/>
                </a:solidFill>
                <a:latin typeface="Arial"/>
                <a:ea typeface="宋体"/>
              </a:rPr>
              <a:t>Post-registration changes</a:t>
            </a:r>
            <a:r>
              <a:rPr b="1" lang="en-US" sz="2000" spc="-1" strike="noStrike">
                <a:solidFill>
                  <a:srgbClr val="4b93dc"/>
                </a:solidFill>
                <a:latin typeface="Arial"/>
                <a:ea typeface="宋体"/>
              </a:rPr>
              <a:t>: criteria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351640" cy="51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71424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b93dc"/>
                </a:solidFill>
                <a:latin typeface="Arial"/>
                <a:ea typeface="宋体"/>
              </a:rPr>
              <a:t>Changes that do NOT require prior approval by the Board (PS, Appendix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7040" indent="-348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71424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Corrections (e.g. typo, location, 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7040" indent="-348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71424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emporary deviations from monitoring plan or applied methodolog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23800" indent="-357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‒"/>
              <a:tabLst>
                <a:tab algn="l" pos="71424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PPs have not temporarily monitored parameters for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baseline emission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, or are unable to produce evidence of such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23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71424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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Report the parameters as ze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23800" indent="-357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‒"/>
              <a:tabLst>
                <a:tab algn="l" pos="71424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PPs have not temporarily monitored parameters for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project emission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 or are unable to produce evidence of such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23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71424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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Assume the source of emissions operated at maximum capacity for the full period of the missing data. (for consumption of electricity, add 10% to the estimate to account for transmission and distribution losse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7040" indent="-348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71424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Permanent changes from monitoring plan or applied methodology limiting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23800" indent="-357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‒"/>
              <a:tabLst>
                <a:tab algn="l" pos="71424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Monitoring equipment installed has a lower accuracy level than stipulated in the methodology but the equipment is under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23800" indent="-357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‒"/>
              <a:tabLst>
                <a:tab algn="l" pos="71424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Calibration frequency, accuracy/type/model of meter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23800" indent="-357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‒"/>
              <a:tabLst>
                <a:tab algn="l" pos="71424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Location of meter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34680" y="260280"/>
            <a:ext cx="78692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93dc"/>
                </a:solidFill>
                <a:latin typeface="Arial"/>
                <a:ea typeface="宋体"/>
              </a:rPr>
              <a:t>Post-registration change process: criteria (cont.)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35164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25416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71424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b93dc"/>
                </a:solidFill>
                <a:latin typeface="Arial"/>
                <a:ea typeface="宋体"/>
              </a:rPr>
              <a:t>Changes that do NOT require prior approval by the Board (PS, Appendix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400" indent="-313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71424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Permanent changes from monitoring plan or applied methodology limiting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7980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Monitoring equipment installed has a lower accuracy level than stipulated in the methodology but the equipment is under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7980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Calibration frequency, accuracy/type/model of meter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7980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Location of meter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5400" indent="-313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71424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Changes to project design that do not adversely impac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7980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additionalit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7980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applicability/application methodology under which project was registere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79800" indent="-32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project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5400" indent="-313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71424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Changes specific to A/R projects (listed in the “Guidelines on accounting of specified types of changes in A/R CDM project activities from the description in registered project design doc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71424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b93dc"/>
                </a:solidFill>
                <a:latin typeface="Arial"/>
                <a:ea typeface="宋体"/>
              </a:rPr>
              <a:t>Changes to start-date of CP less than 1 year (2 yrs for LDCs) do NOT require prior approval (PS, para 2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4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71424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b93dc"/>
                </a:solidFill>
                <a:latin typeface="Arial"/>
                <a:ea typeface="宋体"/>
              </a:rPr>
              <a:t>	</a:t>
            </a:r>
            <a:r>
              <a:rPr b="0" lang="en-GB" sz="1800" spc="-1" strike="noStrike">
                <a:solidFill>
                  <a:srgbClr val="4b93dc"/>
                </a:solidFill>
                <a:latin typeface="Arial"/>
                <a:ea typeface="宋体"/>
              </a:rPr>
              <a:t>	</a:t>
            </a:r>
            <a:r>
              <a:rPr b="0" lang="en-GB" sz="1800" spc="-1" strike="noStrike">
                <a:solidFill>
                  <a:srgbClr val="4b93dc"/>
                </a:solidFill>
                <a:latin typeface="Arial"/>
                <a:ea typeface="宋体"/>
              </a:rPr>
              <a:t> </a:t>
            </a:r>
            <a:r>
              <a:rPr b="0" lang="en-GB" sz="2400" spc="-1" strike="noStrike">
                <a:solidFill>
                  <a:srgbClr val="4b93dc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4b93dc"/>
                </a:solidFill>
                <a:latin typeface="Arial"/>
                <a:ea typeface="宋体"/>
              </a:rPr>
              <a:t> </a:t>
            </a:r>
            <a:r>
              <a:rPr b="1" lang="en-GB" sz="1800" spc="-1" strike="noStrike">
                <a:solidFill>
                  <a:srgbClr val="4b93dc"/>
                </a:solidFill>
                <a:latin typeface="Arial"/>
                <a:ea typeface="宋体"/>
              </a:rPr>
              <a:t>All other changes require prior approval by the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93dc"/>
                </a:solidFill>
                <a:latin typeface="Arial"/>
              </a:rPr>
              <a:t>Implementation Timeline</a:t>
            </a:r>
            <a:endParaRPr b="0" lang="en-US" sz="1800" spc="-1" strike="noStrike">
              <a:solidFill>
                <a:srgbClr val="4b93dc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70000" y="1025640"/>
            <a:ext cx="86230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34680" y="260280"/>
            <a:ext cx="78692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93dc"/>
                </a:solidFill>
                <a:latin typeface="Arial"/>
                <a:ea typeface="宋体"/>
              </a:rPr>
              <a:t>Principles of Implementation</a:t>
            </a:r>
            <a:endParaRPr b="0" lang="en-US" sz="18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1280" y="907920"/>
            <a:ext cx="80121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Consistency in applying old/new ru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66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PDDs/MRs submitted under old rules shall be validated/verified and requests for registration/issuance shall be made under old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66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PDDs/MRs submitted under new rules shall be validated/verified and requests for registration/issuance shall be made under new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If requests with PDDs/MRs published under old rules cannot be submitted by 30 Sep 2012, they have to be modified to comply with new ru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66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re-publication of PDDs/MRs is NOT needed, b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66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modified PDDs/MRs have to be attached to validation/verification repor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PPs/DOEs may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voluntarily shif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 to new rules for PDDs/MRs published under the old rules, even before 1 October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66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re-publication of PDDs/MRs is NOT needed, b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66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modified PDDs/MRs have to be attached to validation/verification re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34680" y="260280"/>
            <a:ext cx="78692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93dc"/>
                </a:solidFill>
                <a:latin typeface="Arial"/>
                <a:ea typeface="宋体"/>
              </a:rPr>
              <a:t>Principles of Implementation – cont’d</a:t>
            </a:r>
            <a:endParaRPr b="0" lang="en-US" sz="18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1280" y="907920"/>
            <a:ext cx="80121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Any requests made under old rules continue to be processed by the Board/secretariat under old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Any requests submitted before 1 Oct 2012 but “kicked-out” from the process resulting from completeness check or information &amp; reporting check, would have to be modified to comply with new rules, if the re-submission is made after 30 Sep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07:19:22Z</dcterms:created>
  <dc:creator>akumar</dc:creator>
  <dc:description/>
  <dc:language>en-US</dc:language>
  <cp:lastModifiedBy>ningrum</cp:lastModifiedBy>
  <cp:lastPrinted>2004-03-02T21:24:15Z</cp:lastPrinted>
  <dcterms:modified xsi:type="dcterms:W3CDTF">2012-03-23T09:46:22Z</dcterms:modified>
  <cp:revision>65</cp:revision>
  <dc:subject/>
  <dc:title>EB 60 - REGISTRATION REVIEW CASES Following new review procedures adopted at EB55</dc:title>
</cp:coreProperties>
</file>