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6B5-BA02-4850-8F1D-A426D1E9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16C-C76F-4691-8959-29780739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2EF-ED24-43C5-9DAD-108A78AD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CD9-78E8-4630-A130-F1C8E68A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3899-72E9-4F4D-82B2-553519E4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F95E-17D9-4549-994B-19A2001A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5972-93AC-40A6-8264-191B623B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D856-4E24-4AF3-9F51-D59D1BBE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A4F0-237C-45BE-A10C-43389C30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8718-100A-4FA1-AE08-0A7EB6B9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BA3A-40CA-4E45-8AAC-DB320886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7FF-D89E-4AAA-812F-976CCB44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B8DF-7073-432A-B962-C723BD0F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C562-BD46-43D1-A232-648226F5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B77B-81E0-4677-BC6A-B9303FD3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E103-6B31-457A-97B0-36AEB148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2866-5677-41ED-8535-566BEA39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295-D2DA-4B80-8A9B-8C095BA3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9B0-52F3-4BBD-81DD-6EE48AC5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581-D611-4057-AC5B-E0F7E30C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79D-5724-499B-A076-0609EDF3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649-C940-4D70-8B69-507F06F1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887-F17B-48BE-BB3D-DAFC7F9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8CB-396E-423E-A9C8-A79C971D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9900ff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33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DB80-0703-4E5E-898D-0FDF6037608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4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53A4-54D9-4E53-A312-96971912C9A4}" type="slidenum">
              <a:rPr b="0" lang="fr-FR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96560" cy="491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ffffcc"/>
                </a:solidFill>
                <a:latin typeface="Tahoma"/>
              </a:rPr>
              <a:t>JISC-Executive Board View :</a:t>
            </a:r>
            <a:br>
              <a:rPr sz="4400"/>
            </a:br>
            <a:r>
              <a:rPr b="0" lang="fr-FR" sz="4400" spc="-1" strike="noStrike">
                <a:solidFill>
                  <a:srgbClr val="ffffcc"/>
                </a:solidFill>
                <a:latin typeface="Tahoma"/>
              </a:rPr>
              <a:t>Clean Development Mechanism</a:t>
            </a:r>
            <a:br>
              <a:rPr sz="4400"/>
            </a:br>
            <a:r>
              <a:rPr b="0" lang="fr-FR" sz="4400" spc="-1" strike="noStrike">
                <a:solidFill>
                  <a:srgbClr val="ffffcc"/>
                </a:solidFill>
                <a:latin typeface="Tahoma"/>
              </a:rPr>
              <a:t>EB busness plan 2012-2013 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6021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By Mr Idy NIANG from Senegalese DNA offi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4296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cc"/>
                </a:solidFill>
                <a:latin typeface="Tahoma"/>
              </a:rPr>
              <a:t>View of the present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Request of the Dna fo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B decesion on the EB Busness Plan 2012-20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Focus on clarity and obje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View from the DNA fo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536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cc"/>
                </a:solidFill>
                <a:latin typeface="Tahoma"/>
              </a:rPr>
              <a:t>Request of the DNA forum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2017440"/>
            <a:ext cx="8496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New statut of the Kyoto Protocol after Durban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ue to quantity of projects in the pipeline under valid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any request from the DNA and project developers inviting the EB to more tranparency in developping methodology and the processus of validation of CDM projects submit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13840"/>
            <a:ext cx="84042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ahoma"/>
              </a:rPr>
              <a:t>Request of the DNA forum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As resquest by the DNA forum the EB give also more clarity on the SBL, suppressed demand standard and improved POAs standard frame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evelopment of guidelines on standardized baselines , Of the assessment of investment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evelopment of additionnality related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Of common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Of objective demonstration of barri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cc"/>
                </a:solidFill>
                <a:latin typeface="Tahoma"/>
              </a:rPr>
              <a:t>EB busness plan 2012-201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hall strenghen the objectivity and clarity established for the CDM in a manner which ensures the environment integrity of the mechanismand helps delivers on its promises for sustainable develo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nhance the efficiency of many processes under the CDM by, amongst other things, increasing the clarity of guidance and removing unnecessarily complex r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Permit an equitable regional and subregional distribution of CDM project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All these action should permit the development of the mecha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Tahoma"/>
              </a:rPr>
              <a:t>Clarity and objectivit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fining and consolidating the CDM’s general requirements into three new cornerstone documents: a project standard for project participants, a validation and verification standard for designated operational entities and a project cycle procedure. Priority is now being given to their implement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spect to PoA-related standards, the assessment of the cross-effects when applying multiple methodologies and the collection of feedback on implementation will continue to be the main activit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894384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cc"/>
                </a:solidFill>
                <a:latin typeface="Tahoma"/>
              </a:rPr>
              <a:t>Clarity and objectivit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785600"/>
            <a:ext cx="8955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Need of development de methodologies, standards and procedures which are the keys elements of CDM improv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upport DNA for elaboration of the national grid factor emission in each se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trenghen DNA capacity and skills in understanding these methodologies and standar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cc"/>
                </a:solidFill>
                <a:latin typeface="Tahoma"/>
              </a:rPr>
              <a:t>View from the DNA forum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pprouve this decision from the EB of this BP which gives visibility and permit us to have a clear view of the previous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Suggest the top-down approach for determinig guidelines of Standardised baselines, suppressed demand, and POA with possiblity of the DNA to exchange view for valid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sk also for capacity buld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4:39:36Z</dcterms:created>
  <dc:creator>Ambassade de France</dc:creator>
  <dc:description/>
  <dc:language>en-US</dc:language>
  <cp:lastModifiedBy>Pape Idy Niang</cp:lastModifiedBy>
  <dcterms:modified xsi:type="dcterms:W3CDTF">2012-03-23T09:21:53Z</dcterms:modified>
  <cp:revision>152</cp:revision>
  <dc:subject/>
  <dc:title>Diapositive 1</dc:title>
</cp:coreProperties>
</file>