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3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4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93dc"/>
                </a:solidFill>
                <a:latin typeface="Arial"/>
              </a:rPr>
              <a:t>Some questions for consideration</a:t>
            </a:r>
            <a:endParaRPr b="0" lang="en-US" sz="24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786780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hat measures are DOEs, DNAs and project developers taking to lobby national govern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w are DOEs, DNAs and PPs ensuring that CDM doesn‘t negatively impact local stakehold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hat specific policy measures do you favour to achieve a net decrease in emiss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 project participants consider UNFCCC rules as minimum require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596360" y="4653000"/>
            <a:ext cx="125856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15:30:53Z</dcterms:created>
  <dc:creator>Tollmann</dc:creator>
  <dc:description/>
  <dc:language>en-US</dc:language>
  <cp:lastModifiedBy>kilani</cp:lastModifiedBy>
  <cp:lastPrinted>2004-03-02T21:24:15Z</cp:lastPrinted>
  <dcterms:modified xsi:type="dcterms:W3CDTF">2012-03-23T19:05:03Z</dcterms:modified>
  <cp:revision>7</cp:revision>
  <dc:subject/>
  <dc:title>TITLE HEADER</dc:title>
</cp:coreProperties>
</file>