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6F36C-3B51-4745-BE74-82F296A3AE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66505-3070-4169-87BB-90CD78AA7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5538B-FEA4-448B-92A4-1B7E0D5FDFC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6720" y="4414320"/>
            <a:ext cx="513720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015-CAC5-4D35-B39C-6656600F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8A9-CD7A-4A1E-BA1A-D74BE966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E98-CBE7-4B48-B5F6-C917F366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789-AC05-47A6-843E-DAF031A4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FB2-35E9-4E64-A437-59FC5BC4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87A4-6FC2-439D-837E-54FC143E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8904-63CA-4F95-8585-B602AE8B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EC52-DF7F-475F-966C-C284AD4C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770A-ED4D-4844-B309-B0048539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6B93-4ED8-4D66-8557-257D1847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791-749F-4256-9650-C3D2BB33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B0FD-0072-4F99-A6BE-610A33FA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D012-8C60-4C3C-A434-9A3E239D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A402-4224-4A34-B2A4-ABBD7D84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4DD7-48BF-4929-928D-2F9D61FA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48D2-6111-4981-9ABE-073D3DA2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8893-6A65-4295-9C15-9C2B7558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FC0D-8A54-43BF-BB80-16DB652C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62D-64A1-405A-B38F-719D96C9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4ADB-BEBD-4657-B2FA-20F2FCDD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416-382B-4B03-8B67-69221C63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129-BAFC-4548-A20A-B2CBE7C3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BDE6-CD59-405B-A368-BCEDD446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286-5E62-4B7C-B537-478CF468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636EB-A4DC-438B-813F-33A6418462F1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B4B39-038F-4230-BEC0-AEEFDA548B5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Senza titolo-1.jpg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0"/>
            <a:ext cx="9144000" cy="68659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274680"/>
            <a:ext cx="9144000" cy="411120"/>
          </a:xfrm>
          <a:prstGeom prst="rect">
            <a:avLst/>
          </a:prstGeom>
          <a:gradFill rotWithShape="0">
            <a:gsLst>
              <a:gs pos="0">
                <a:srgbClr val="004966"/>
              </a:gs>
              <a:gs pos="100000">
                <a:srgbClr val="ffffff">
                  <a:alpha val="1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Straight Connector 9" descr=""/>
          <p:cNvPicPr/>
          <p:nvPr/>
        </p:nvPicPr>
        <p:blipFill>
          <a:blip r:embed="rId3"/>
          <a:stretch/>
        </p:blipFill>
        <p:spPr>
          <a:xfrm>
            <a:off x="-42840" y="1712880"/>
            <a:ext cx="4584600" cy="1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Senza titolo-1.jpg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0" y="0"/>
            <a:ext cx="9144000" cy="68659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274680"/>
            <a:ext cx="9144000" cy="411120"/>
          </a:xfrm>
          <a:prstGeom prst="rect">
            <a:avLst/>
          </a:prstGeom>
          <a:gradFill rotWithShape="0">
            <a:gsLst>
              <a:gs pos="0">
                <a:srgbClr val="004966"/>
              </a:gs>
              <a:gs pos="100000">
                <a:srgbClr val="ffffff">
                  <a:alpha val="1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Straight Connector 9" descr=""/>
          <p:cNvPicPr/>
          <p:nvPr/>
        </p:nvPicPr>
        <p:blipFill>
          <a:blip r:embed="rId3"/>
          <a:stretch/>
        </p:blipFill>
        <p:spPr>
          <a:xfrm>
            <a:off x="-42840" y="1712880"/>
            <a:ext cx="4584600" cy="115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Senza titolo-1.jpg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0" y="0"/>
            <a:ext cx="9144000" cy="68659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274680"/>
            <a:ext cx="9144000" cy="411120"/>
          </a:xfrm>
          <a:prstGeom prst="rect">
            <a:avLst/>
          </a:prstGeom>
          <a:gradFill rotWithShape="0">
            <a:gsLst>
              <a:gs pos="0">
                <a:srgbClr val="004966"/>
              </a:gs>
              <a:gs pos="100000">
                <a:srgbClr val="ffffff">
                  <a:alpha val="1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Straight Connector 9" descr=""/>
          <p:cNvPicPr/>
          <p:nvPr/>
        </p:nvPicPr>
        <p:blipFill>
          <a:blip r:embed="rId3"/>
          <a:stretch/>
        </p:blipFill>
        <p:spPr>
          <a:xfrm>
            <a:off x="-42840" y="1712880"/>
            <a:ext cx="4584600" cy="115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17D8A-F55D-442D-9D02-ECF4BDC7672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0" y="274680"/>
            <a:ext cx="9144000" cy="411120"/>
          </a:xfrm>
          <a:prstGeom prst="rect">
            <a:avLst/>
          </a:prstGeom>
          <a:gradFill rotWithShape="0">
            <a:gsLst>
              <a:gs pos="0">
                <a:srgbClr val="004966"/>
              </a:gs>
              <a:gs pos="100000">
                <a:srgbClr val="ffffff">
                  <a:alpha val="1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traight Connector 6" descr=""/>
          <p:cNvPicPr/>
          <p:nvPr/>
        </p:nvPicPr>
        <p:blipFill>
          <a:blip r:embed="rId1"/>
          <a:stretch/>
        </p:blipFill>
        <p:spPr>
          <a:xfrm>
            <a:off x="-42840" y="1712880"/>
            <a:ext cx="4584600" cy="1159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900000" y="2066760"/>
            <a:ext cx="78850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DM ACCREDITATION PROCEDUR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REAS OF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st Sustainable Development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echanism Joint Coordination Work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4-25 March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Laura Severi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9"/>
          <p:cNvSpPr/>
          <p:nvPr/>
        </p:nvSpPr>
        <p:spPr>
          <a:xfrm>
            <a:off x="5796000" y="5877000"/>
            <a:ext cx="24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619280" y="1989000"/>
            <a:ext cx="6337440" cy="2076120"/>
          </a:xfrm>
          <a:prstGeom prst="rect">
            <a:avLst/>
          </a:prstGeom>
          <a:solidFill>
            <a:srgbClr val="00618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t is a procedure by which an authoritative body gives formal recognition that a body or person (DOE) is competent to carry out specific task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ccreditation is an international recognition that provides assurance to the publ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250920" y="950760"/>
            <a:ext cx="75247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CCRED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346040" y="1844640"/>
            <a:ext cx="1351080" cy="557280"/>
          </a:xfrm>
          <a:prstGeom prst="rect">
            <a:avLst/>
          </a:prstGeom>
          <a:solidFill>
            <a:srgbClr val="4f81bd">
              <a:alpha val="50000"/>
            </a:srgbClr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317600" y="1916280"/>
            <a:ext cx="1443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The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ccred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041560" y="2604960"/>
            <a:ext cx="1584360" cy="554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438360" y="3238560"/>
            <a:ext cx="1467000" cy="557280"/>
          </a:xfrm>
          <a:prstGeom prst="rect">
            <a:avLst/>
          </a:prstGeom>
          <a:solidFill>
            <a:srgbClr val="4f81bd">
              <a:alpha val="50000"/>
            </a:srgbClr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677400" y="3284640"/>
            <a:ext cx="1078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The regul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on-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995640" y="3873600"/>
            <a:ext cx="1944720" cy="555480"/>
          </a:xfrm>
          <a:prstGeom prst="rect">
            <a:avLst/>
          </a:prstGeom>
          <a:solidFill>
            <a:srgbClr val="4f81bd">
              <a:alpha val="50000"/>
            </a:srgbClr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041000" y="4017960"/>
            <a:ext cx="180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The re-accred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5002200" y="4519440"/>
            <a:ext cx="1801800" cy="5479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287680" y="4667400"/>
            <a:ext cx="133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Century Gothic"/>
                <a:ea typeface="Times New Roman"/>
              </a:rPr>
              <a:t>The spot-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83280" y="5168880"/>
            <a:ext cx="1584360" cy="5554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343200" y="5230800"/>
            <a:ext cx="992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The poli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2081520" y="2771640"/>
            <a:ext cx="1527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Th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6"/>
          <p:cNvGrpSpPr/>
          <p:nvPr/>
        </p:nvGrpSpPr>
        <p:grpSpPr>
          <a:xfrm>
            <a:off x="2701800" y="2273400"/>
            <a:ext cx="220680" cy="357120"/>
            <a:chOff x="2701800" y="2273400"/>
            <a:chExt cx="220680" cy="357120"/>
          </a:xfrm>
        </p:grpSpPr>
        <p:sp>
          <p:nvSpPr>
            <p:cNvPr id="158" name="Freeform 17"/>
            <p:cNvSpPr/>
            <p:nvPr/>
          </p:nvSpPr>
          <p:spPr>
            <a:xfrm>
              <a:off x="2701800" y="2273400"/>
              <a:ext cx="135000" cy="1843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71" h="231">
                  <a:moveTo>
                    <a:pt x="0" y="0"/>
                  </a:moveTo>
                  <a:lnTo>
                    <a:pt x="171" y="0"/>
                  </a:lnTo>
                  <a:lnTo>
                    <a:pt x="171" y="23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>
              <a:off x="2751120" y="2454480"/>
              <a:ext cx="171360" cy="1760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15" h="222">
                  <a:moveTo>
                    <a:pt x="0" y="0"/>
                  </a:moveTo>
                  <a:lnTo>
                    <a:pt x="108" y="222"/>
                  </a:lnTo>
                  <a:lnTo>
                    <a:pt x="2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9"/>
          <p:cNvGrpSpPr/>
          <p:nvPr/>
        </p:nvGrpSpPr>
        <p:grpSpPr>
          <a:xfrm>
            <a:off x="3625920" y="2867040"/>
            <a:ext cx="220680" cy="357120"/>
            <a:chOff x="3625920" y="2867040"/>
            <a:chExt cx="220680" cy="357120"/>
          </a:xfrm>
        </p:grpSpPr>
        <p:sp>
          <p:nvSpPr>
            <p:cNvPr id="161" name="Freeform 20"/>
            <p:cNvSpPr/>
            <p:nvPr/>
          </p:nvSpPr>
          <p:spPr>
            <a:xfrm>
              <a:off x="3625920" y="2867040"/>
              <a:ext cx="135000" cy="1843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71" h="231">
                  <a:moveTo>
                    <a:pt x="0" y="0"/>
                  </a:moveTo>
                  <a:lnTo>
                    <a:pt x="171" y="0"/>
                  </a:lnTo>
                  <a:lnTo>
                    <a:pt x="171" y="23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3675240" y="3048120"/>
              <a:ext cx="171360" cy="1760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15" h="222">
                  <a:moveTo>
                    <a:pt x="0" y="0"/>
                  </a:moveTo>
                  <a:lnTo>
                    <a:pt x="108" y="222"/>
                  </a:lnTo>
                  <a:lnTo>
                    <a:pt x="2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4903920" y="3551400"/>
            <a:ext cx="220680" cy="357120"/>
            <a:chOff x="4903920" y="3551400"/>
            <a:chExt cx="220680" cy="357120"/>
          </a:xfrm>
        </p:grpSpPr>
        <p:sp>
          <p:nvSpPr>
            <p:cNvPr id="164" name="Freeform 23"/>
            <p:cNvSpPr/>
            <p:nvPr/>
          </p:nvSpPr>
          <p:spPr>
            <a:xfrm>
              <a:off x="4903920" y="3551400"/>
              <a:ext cx="135000" cy="1843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71" h="231">
                  <a:moveTo>
                    <a:pt x="0" y="0"/>
                  </a:moveTo>
                  <a:lnTo>
                    <a:pt x="171" y="0"/>
                  </a:lnTo>
                  <a:lnTo>
                    <a:pt x="171" y="23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4"/>
            <p:cNvSpPr/>
            <p:nvPr/>
          </p:nvSpPr>
          <p:spPr>
            <a:xfrm>
              <a:off x="4953240" y="3732480"/>
              <a:ext cx="171360" cy="1760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15" h="222">
                  <a:moveTo>
                    <a:pt x="0" y="0"/>
                  </a:moveTo>
                  <a:lnTo>
                    <a:pt x="108" y="222"/>
                  </a:lnTo>
                  <a:lnTo>
                    <a:pt x="2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25"/>
          <p:cNvGrpSpPr/>
          <p:nvPr/>
        </p:nvGrpSpPr>
        <p:grpSpPr>
          <a:xfrm>
            <a:off x="5940360" y="4170240"/>
            <a:ext cx="220680" cy="357120"/>
            <a:chOff x="5940360" y="4170240"/>
            <a:chExt cx="220680" cy="357120"/>
          </a:xfrm>
        </p:grpSpPr>
        <p:sp>
          <p:nvSpPr>
            <p:cNvPr id="167" name="Freeform 26"/>
            <p:cNvSpPr/>
            <p:nvPr/>
          </p:nvSpPr>
          <p:spPr>
            <a:xfrm>
              <a:off x="5940360" y="4170240"/>
              <a:ext cx="135000" cy="1843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71" h="231">
                  <a:moveTo>
                    <a:pt x="0" y="0"/>
                  </a:moveTo>
                  <a:lnTo>
                    <a:pt x="171" y="0"/>
                  </a:lnTo>
                  <a:lnTo>
                    <a:pt x="171" y="23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7"/>
            <p:cNvSpPr/>
            <p:nvPr/>
          </p:nvSpPr>
          <p:spPr>
            <a:xfrm>
              <a:off x="5989680" y="4351320"/>
              <a:ext cx="171360" cy="1760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15" h="222">
                  <a:moveTo>
                    <a:pt x="0" y="0"/>
                  </a:moveTo>
                  <a:lnTo>
                    <a:pt x="108" y="222"/>
                  </a:lnTo>
                  <a:lnTo>
                    <a:pt x="2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8"/>
          <p:cNvGrpSpPr/>
          <p:nvPr/>
        </p:nvGrpSpPr>
        <p:grpSpPr>
          <a:xfrm>
            <a:off x="6804000" y="4799160"/>
            <a:ext cx="334440" cy="369360"/>
            <a:chOff x="6804000" y="4799160"/>
            <a:chExt cx="334440" cy="369360"/>
          </a:xfrm>
        </p:grpSpPr>
        <p:sp>
          <p:nvSpPr>
            <p:cNvPr id="170" name="Freeform 29"/>
            <p:cNvSpPr/>
            <p:nvPr/>
          </p:nvSpPr>
          <p:spPr>
            <a:xfrm>
              <a:off x="6804000" y="4799160"/>
              <a:ext cx="204840" cy="1908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71" h="231">
                  <a:moveTo>
                    <a:pt x="0" y="0"/>
                  </a:moveTo>
                  <a:lnTo>
                    <a:pt x="171" y="0"/>
                  </a:lnTo>
                  <a:lnTo>
                    <a:pt x="171" y="231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0"/>
            <p:cNvSpPr/>
            <p:nvPr/>
          </p:nvSpPr>
          <p:spPr>
            <a:xfrm>
              <a:off x="6878520" y="4986360"/>
              <a:ext cx="259920" cy="1821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215" h="222">
                  <a:moveTo>
                    <a:pt x="0" y="0"/>
                  </a:moveTo>
                  <a:lnTo>
                    <a:pt x="108" y="222"/>
                  </a:lnTo>
                  <a:lnTo>
                    <a:pt x="2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37"/>
          <p:cNvSpPr/>
          <p:nvPr/>
        </p:nvSpPr>
        <p:spPr>
          <a:xfrm>
            <a:off x="128520" y="4313160"/>
            <a:ext cx="3322800" cy="2556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Century Gothic"/>
                <a:ea typeface="Times New Roman"/>
              </a:rPr>
              <a:t>C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8"/>
          <p:cNvSpPr/>
          <p:nvPr/>
        </p:nvSpPr>
        <p:spPr>
          <a:xfrm>
            <a:off x="128520" y="5284800"/>
            <a:ext cx="3313080" cy="2134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Century Gothic"/>
                <a:ea typeface="Times New Roman"/>
              </a:rPr>
              <a:t>CDM-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9"/>
          <p:cNvSpPr/>
          <p:nvPr/>
        </p:nvSpPr>
        <p:spPr>
          <a:xfrm>
            <a:off x="128520" y="5767560"/>
            <a:ext cx="3324240" cy="2134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DM-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0"/>
          <p:cNvSpPr/>
          <p:nvPr/>
        </p:nvSpPr>
        <p:spPr>
          <a:xfrm>
            <a:off x="1279440" y="396072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1"/>
          <p:cNvSpPr/>
          <p:nvPr/>
        </p:nvSpPr>
        <p:spPr>
          <a:xfrm>
            <a:off x="1566720" y="467352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2"/>
          <p:cNvSpPr/>
          <p:nvPr/>
        </p:nvSpPr>
        <p:spPr>
          <a:xfrm>
            <a:off x="34920" y="3933720"/>
            <a:ext cx="3705120" cy="2819520"/>
          </a:xfrm>
          <a:prstGeom prst="rect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9"/>
          <p:cNvSpPr/>
          <p:nvPr/>
        </p:nvSpPr>
        <p:spPr>
          <a:xfrm>
            <a:off x="128520" y="4800600"/>
            <a:ext cx="3318120" cy="2134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Century Gothic"/>
                <a:ea typeface="Times New Roman"/>
              </a:rPr>
              <a:t>CDM-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747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ACCREDITATION</a:t>
            </a: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39"/>
          <p:cNvSpPr/>
          <p:nvPr/>
        </p:nvSpPr>
        <p:spPr>
          <a:xfrm>
            <a:off x="128520" y="6176880"/>
            <a:ext cx="3324240" cy="2134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CRETARI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6161040" y="1844640"/>
            <a:ext cx="2011320" cy="3682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Elbow Connector 3"/>
          <p:cNvCxnSpPr/>
          <p:nvPr/>
        </p:nvCxnSpPr>
        <p:spPr>
          <a:xfrm rot="5400000">
            <a:off x="5536440" y="2606760"/>
            <a:ext cx="1634400" cy="900720"/>
          </a:xfrm>
          <a:prstGeom prst="bentConnector3">
            <a:avLst>
              <a:gd name="adj1" fmla="val 49988"/>
            </a:avLst>
          </a:prstGeom>
          <a:ln w="6480">
            <a:solidFill>
              <a:srgbClr val="4f81bd"/>
            </a:solidFill>
            <a:prstDash val="sysDash"/>
            <a:miter/>
            <a:tailEnd len="med" type="arrow" w="med"/>
          </a:ln>
        </p:spPr>
      </p:cxnSp>
      <p:cxnSp>
        <p:nvCxnSpPr>
          <p:cNvPr id="183" name="Elbow Connector 64"/>
          <p:cNvCxnSpPr/>
          <p:nvPr/>
        </p:nvCxnSpPr>
        <p:spPr>
          <a:xfrm flipV="1" rot="10800000">
            <a:off x="4942800" y="2132640"/>
            <a:ext cx="1218240" cy="1151640"/>
          </a:xfrm>
          <a:prstGeom prst="bentConnector3">
            <a:avLst>
              <a:gd name="adj1" fmla="val 49985"/>
            </a:avLst>
          </a:prstGeom>
          <a:ln w="6480">
            <a:solidFill>
              <a:srgbClr val="4f81bd"/>
            </a:solidFill>
            <a:prstDash val="sysDash"/>
            <a:miter/>
            <a:tailEnd len="med" type="arrow" w="med"/>
          </a:ln>
        </p:spPr>
      </p:cxnSp>
      <p:cxnSp>
        <p:nvCxnSpPr>
          <p:cNvPr id="184" name="Elbow Connector 66"/>
          <p:cNvCxnSpPr/>
          <p:nvPr/>
        </p:nvCxnSpPr>
        <p:spPr>
          <a:xfrm rot="10800000">
            <a:off x="2696400" y="1988280"/>
            <a:ext cx="3464640" cy="1080"/>
          </a:xfrm>
          <a:prstGeom prst="bentConnector3">
            <a:avLst>
              <a:gd name="adj1" fmla="val 49994"/>
            </a:avLst>
          </a:prstGeom>
          <a:ln w="6480">
            <a:solidFill>
              <a:srgbClr val="4f81bd"/>
            </a:solidFill>
            <a:prstDash val="sysDash"/>
            <a:miter/>
            <a:tailEnd len="med" type="arrow" w="med"/>
          </a:ln>
        </p:spPr>
      </p:cxnSp>
      <p:cxnSp>
        <p:nvCxnSpPr>
          <p:cNvPr id="185" name="Elbow Connector 75"/>
          <p:cNvCxnSpPr/>
          <p:nvPr/>
        </p:nvCxnSpPr>
        <p:spPr>
          <a:xfrm flipV="1" rot="10800000">
            <a:off x="3625200" y="2060280"/>
            <a:ext cx="2535840" cy="759600"/>
          </a:xfrm>
          <a:prstGeom prst="bentConnector3">
            <a:avLst>
              <a:gd name="adj1" fmla="val 49992"/>
            </a:avLst>
          </a:prstGeom>
          <a:ln w="6480">
            <a:solidFill>
              <a:srgbClr val="4f81bd"/>
            </a:solidFill>
            <a:prstDash val="sysDash"/>
            <a:miter/>
            <a:tailEnd len="med" type="arrow" w="med"/>
          </a:ln>
        </p:spPr>
      </p:cxnSp>
      <p:cxnSp>
        <p:nvCxnSpPr>
          <p:cNvPr id="186" name="Elbow Connector 79"/>
          <p:cNvCxnSpPr/>
          <p:nvPr/>
        </p:nvCxnSpPr>
        <p:spPr>
          <a:xfrm rot="5400000">
            <a:off x="6284880" y="2732760"/>
            <a:ext cx="2305440" cy="1269000"/>
          </a:xfrm>
          <a:prstGeom prst="bentConnector3">
            <a:avLst>
              <a:gd name="adj1" fmla="val 49992"/>
            </a:avLst>
          </a:prstGeom>
          <a:ln w="6480">
            <a:solidFill>
              <a:srgbClr val="4f81bd"/>
            </a:solidFill>
            <a:prstDash val="sysDash"/>
            <a:miter/>
            <a:tailEnd len="med" type="arrow" w="med"/>
          </a:ln>
        </p:spPr>
      </p:cxnSp>
      <p:cxnSp>
        <p:nvCxnSpPr>
          <p:cNvPr id="187" name="Elbow Connector 84"/>
          <p:cNvCxnSpPr>
            <a:stCxn id="181" idx="3"/>
            <a:endCxn id="154" idx="3"/>
          </p:cNvCxnSpPr>
          <p:nvPr/>
        </p:nvCxnSpPr>
        <p:spPr>
          <a:xfrm flipH="1">
            <a:off x="7667280" y="2028960"/>
            <a:ext cx="505440" cy="3418560"/>
          </a:xfrm>
          <a:prstGeom prst="bentConnector3">
            <a:avLst>
              <a:gd name="adj1" fmla="val -45331"/>
            </a:avLst>
          </a:prstGeom>
          <a:ln w="6480">
            <a:solidFill>
              <a:srgbClr val="4f81bd"/>
            </a:solidFill>
            <a:prstDash val="sysDash"/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3"/>
          <p:cNvSpPr/>
          <p:nvPr/>
        </p:nvSpPr>
        <p:spPr>
          <a:xfrm>
            <a:off x="185760" y="907920"/>
            <a:ext cx="62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LEMENTS OF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796000" y="5877000"/>
            <a:ext cx="24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403280" y="2265480"/>
            <a:ext cx="6985080" cy="390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Document/Desk review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by a CDM-AT of the adequacy of the documented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On-site assessment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by a CDM-AT to evaluate the implementation of the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Observation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of the verification assessment carried out by the DOE’s team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at the project sit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nd evaluating conformity of the DOE’s draft report that is based only on the documentary evide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Continuous monitoring of the performance of the DO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n conducting validation and verification activi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"/>
          <p:cNvSpPr/>
          <p:nvPr/>
        </p:nvSpPr>
        <p:spPr>
          <a:xfrm>
            <a:off x="1547640" y="2637000"/>
            <a:ext cx="6913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79280" y="981000"/>
            <a:ext cx="7980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 Gothic"/>
              </a:rPr>
              <a:t>STREN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258920" y="1844640"/>
            <a:ext cx="7130880" cy="4464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he accreditation process contributes significantly to support DOE in improving the quality and perform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he thresholds can be seen as scores which indicated the performance and the extent of compliance with a standar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ccreditation provides an opportunity and incentive for self-impro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he system is very transpar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he output of the DOE performance monitoring can provide appropriate inputs into future revisions of the CDM requirements, standards, and method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1547640" y="2637000"/>
            <a:ext cx="6913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50920" y="907920"/>
            <a:ext cx="842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EAKNESS, AREAS OF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042920" y="2216160"/>
            <a:ext cx="7274160" cy="509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he system is complex and time consum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nstead the recent improvements of the accreditation procedure, projects are checked at 100%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till focused on control rather than quality enhanc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metimes the DOE have experienced difficulties in implementing Corrective actions for the Non Conformities identified by the CDM-A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any checks from different bodies/entity on the same project can generate inhomogeneity of judgment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 Gothic"/>
              </a:rPr>
              <a:t>THANK YOU FOR YOUR TIME AND YOUR AT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Century Gothic"/>
              </a:rPr>
              <a:t>Laura SEVERI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RINA Services S.p.A.</a:t>
            </a:r>
            <a:br>
              <a:rPr sz="1400"/>
            </a:b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Climate Change &amp; Environment</a:t>
            </a:r>
            <a:br>
              <a:rPr sz="1400"/>
            </a:b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Via Corsica, 12 - 16128 Genova - ITALY</a:t>
            </a:r>
            <a:br>
              <a:rPr sz="1400"/>
            </a:b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Phone: +39 010 5385509</a:t>
            </a:r>
            <a:br>
              <a:rPr sz="1400"/>
            </a:b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Mobile: +39 335 7520223</a:t>
            </a:r>
            <a:br>
              <a:rPr sz="1400"/>
            </a:b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Fax: +39 010 5351895</a:t>
            </a:r>
            <a:br>
              <a:rPr sz="1400"/>
            </a:b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http://www.rina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C:\Users\lse\AppData\Local\Microsoft\Windows\Temporary Internet Files\Content.IE5\UFMU8M7B\logo_rina[1].jpg"/>
          <p:cNvPicPr/>
          <p:nvPr/>
        </p:nvPicPr>
        <p:blipFill>
          <a:blip r:embed="rId1"/>
          <a:stretch/>
        </p:blipFill>
        <p:spPr>
          <a:xfrm>
            <a:off x="539640" y="5445000"/>
            <a:ext cx="2448000" cy="76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0:36:26Z</dcterms:created>
  <dc:creator>Marco Roberti</dc:creator>
  <dc:description/>
  <dc:language>en-US</dc:language>
  <cp:lastModifiedBy>Correia</cp:lastModifiedBy>
  <cp:lastPrinted>2010-07-14T10:27:01Z</cp:lastPrinted>
  <dcterms:modified xsi:type="dcterms:W3CDTF">2012-03-23T10:29:54Z</dcterms:modified>
  <cp:revision>245</cp:revision>
  <dc:subject/>
  <dc:title>Slide 1</dc:title>
</cp:coreProperties>
</file>