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9110-5B4E-4C66-8B2E-2C0627B55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AFC1-7C29-4043-BA60-D551FE25C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2F2C-AF5C-46D9-B8E3-A9AF9D1E5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200B-1431-4A58-8923-1485EB504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5DE99-22B0-4232-BA87-B65DD1422B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2D8C2-427F-414B-94A1-72F04CBB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7A218-8555-4E0A-B163-30EB0A65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137A7-9672-4297-91CF-84A42A6A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5ED82-CE94-4240-BBD1-FCCF0B04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2CA6E-652E-4B6E-9CF3-95B90A26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79D46-CA4A-4096-A5FE-F19FA376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A389-4FC9-4B9B-9D57-A04807A88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15D26-253D-4D59-AC50-CCCAA703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0F881-FFA1-41AA-93A3-56CDC262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FADBE-A318-4AE7-97AF-BDB81102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F4135-ADB1-45C7-AD0F-015E232F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A987B-8473-40F0-ACD2-2D05EC8AA4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3CE19-A1F1-4BB1-AFD8-ABB8EE9431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BB1BC-C3DA-463C-B969-B094792A1F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14084-7B90-42E3-A008-251C721DAF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6A1C9-47B4-4EAD-953E-856685D944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0B1E0-7114-485C-8B9F-28E8B131AC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98F7-CB24-4606-98CC-041EF587C0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AE787-8496-48FD-85B8-F1583422BE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3F208-CC61-4B1C-B25E-2D67E67A63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D09CA-76D1-410B-BE02-4D4788BF46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DD3E3-EDE5-4CE4-894D-F619657AB7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30C49-C302-46B9-B07F-6202914D7C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3501B-7EC2-4EE1-A349-F02E25761A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AD7EB-1730-4AA1-8A1A-F01B80D9F1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D1D9-084B-4915-BE6F-4811BB8933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FE380-A10C-431D-A3F9-1E8A1A241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7846-DD0F-4FA7-B5C8-08C5F0FC14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862D9-C8AA-4833-945A-5572F93E350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4F42A-884A-4677-BEB2-D81CF572EB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7ADF9-F962-44B9-B03A-43C92A351F5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193B5-605F-4961-BF3E-497EF2FE39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5942F-9DE9-4B03-910A-6067B03A14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A9E24-EF65-484D-8C39-3A3B384E949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B18CA-877C-4FFF-99AB-876494A52E0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68B1A-7B11-46C5-B3E8-A4DEEF3573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B4A4B-DC8B-45FF-8C4C-917FA362507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A803F-4038-40BF-AEF2-B87CE1446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918F-E466-4ABA-8EF9-5180197C43C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9BFDD-DCC2-4E8D-9093-F8E3C89B523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A3E4-5E68-4921-8C23-35AC5C3121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55D9-05E7-4CED-B7BD-ABE32FB9BA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4C2F-78D1-4786-A1F5-A2FFFE835E7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ED9C-50E3-4ED0-8D76-0504DE701DC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21F33-F7CE-45E7-8113-C937EC4D1F1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4ED7C-E7DA-4C5C-AF21-F128EF30F80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09F2-5675-4D3A-929D-D6D1384EB5F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B7C3-BD83-44D0-B182-85316D3D8CE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4046-ECEF-4670-AA90-2421E9C78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36F1-B221-41BF-9704-66D164FA13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94F5-CF47-4530-9EBB-F6DD3D743D3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1849-6DF2-494F-87D9-D10C4B662AA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EF94-87C8-4558-8ADC-557BF6ADDC6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B1883-F933-42BF-8E05-B557209577F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CEFF-7EEB-4C0F-A024-9E6BFC6F4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4405-4F29-4A70-B566-85BC4DF27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273480" y="63914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E72F-4B82-420A-B3C2-4B07E0B7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92560" y="6165720"/>
            <a:ext cx="424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UNFCCC 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8B75-7F86-4A58-B415-7394162F3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6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7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92560" y="6165720"/>
            <a:ext cx="424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UNFCCC 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6FF8-09CD-45D4-BD51-2C525B24E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4A60-8FB8-44D1-8FD0-8EE8EDDED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0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1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50880" y="141300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mplementation of new procedures, standards, tools and guide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0360" y="422100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de-DE" sz="15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de-DE" sz="15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, Germany, 24-25 March 20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3360" y="274644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ndardised base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UNFCCC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>SDM program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agreement on usefulness of standardised bas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y to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vailability/ data quality (QA/Q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 thresholds (level of harmonisation across countries and sec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ng standardised baselines in the face of 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ory and administrative capacity at DNA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ot help underrepresented countries to access C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s of cherry-pi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N set thresholds or is this infringing on DNA pow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E564-6821-4399-86EC-E958424A15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5128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points/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2960" indent="-3139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2960" indent="-3139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concrete proposal (charc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2960" indent="-3139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-dow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5680" indent="-250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 thresholds for additionality and baseline (cookstoves, power, cement/aluminium/ste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5680" indent="-250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of costs of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5680" indent="-250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guidelines for DNAs on how to set thres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5680" indent="-250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 procedures for submission of standardised bas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2960" indent="-3139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keholder proposal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5680" indent="-250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track registration of standardised bas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5680" indent="-250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track registration of PoA for micro-scal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5680" indent="-250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se MRV, mainly for non-energy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2960" indent="-3139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the framework to non-energy (transport, agricul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2960" indent="-3139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veness of thresholds vs. data qu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2960" indent="-3139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29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12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87E6-81A3-413C-A89E-CD2FA6854F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5:39:14Z</dcterms:created>
  <dc:creator>malnaric</dc:creator>
  <dc:description/>
  <dc:language>en-US</dc:language>
  <cp:lastModifiedBy>BERNHEIM Thomas (CLIMA)</cp:lastModifiedBy>
  <cp:lastPrinted>2004-03-02T21:24:15Z</cp:lastPrinted>
  <dcterms:modified xsi:type="dcterms:W3CDTF">2012-03-24T16:21:58Z</dcterms:modified>
  <cp:revision>177</cp:revision>
  <dc:subject/>
  <dc:title>TITLE HEADER</dc:title>
</cp:coreProperties>
</file>