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9192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736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919320" y="0"/>
            <a:ext cx="299700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A107-93DF-4456-BB24-03D609EB5F3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47880" y="754200"/>
            <a:ext cx="5022720" cy="37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6d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92280" y="4773240"/>
            <a:ext cx="5533920" cy="4521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0" y="9543960"/>
            <a:ext cx="299736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919320" y="9543960"/>
            <a:ext cx="299700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C50-6C58-4DD6-8572-6EC20026D7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4788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2280" y="4773240"/>
            <a:ext cx="5533920" cy="4521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ntex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t of detailed work – need to start by reminder of the political and market realities that are creating pes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19680" y="9543960"/>
            <a:ext cx="2997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B3B4-2556-4ADB-969E-65F13EC311C3}" type="slidenum">
              <a:rPr b="0" lang="en-US" sz="1300" spc="-1" strike="noStrike">
                <a:solidFill>
                  <a:srgbClr val="00506d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4788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2280" y="4773240"/>
            <a:ext cx="5533920" cy="4521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 let’s look very briefly at the the way greenhouse gas  trading schemes around the world were supposed to emerge and work under the Kyoto Protocol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919680" y="9543960"/>
            <a:ext cx="2997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8FF4-1314-4A35-87A7-12AC430911E7}" type="slidenum">
              <a:rPr b="0" lang="en-US" sz="1300" spc="-1" strike="noStrike">
                <a:solidFill>
                  <a:srgbClr val="00506d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4788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2280" y="4773240"/>
            <a:ext cx="5533920" cy="4521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ot least because the whole Kyoto structure on which it is based is falling to pieces before our eyes.  We are moving towards a fragmented world: isolated pockets of trading, not a harmonious global scheme.  It now looks like th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 was in Canada: where was the CD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Where’s JI? At moment, no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ven with KP 2, the Kmex have 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results of that competition in accounting and goodwill terms could be g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CDM has got to be seen to be the only game in town, or n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ot directly the fault of the CDM – but the reality of the landscape we are now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919680" y="9543960"/>
            <a:ext cx="2997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2785-960D-4C3B-8D48-CDEA1BBBDD10}" type="slidenum">
              <a:rPr b="0" lang="en-US" sz="1300" spc="-1" strike="noStrike">
                <a:solidFill>
                  <a:srgbClr val="00506d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2280" y="4773240"/>
            <a:ext cx="5533920" cy="4521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he system we created – by unanim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 ask the average M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eet the benefici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919680" y="9543960"/>
            <a:ext cx="2997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2B09-0FB1-44CA-AFF9-1C967EA7D3FA}" type="slidenum">
              <a:rPr b="0" lang="en-US" sz="1300" spc="-1" strike="noStrike">
                <a:solidFill>
                  <a:srgbClr val="00506d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21120" y="9545760"/>
            <a:ext cx="2997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212160-95A0-45EE-BBB1-2350A9DF6908}" type="slidenum">
              <a:rPr b="0" lang="fr-FR" sz="1200" spc="-1" strike="noStrike">
                <a:solidFill>
                  <a:srgbClr val="0050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50760" y="757080"/>
            <a:ext cx="5016600" cy="37641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2320" y="4771800"/>
            <a:ext cx="50738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47880" y="754200"/>
            <a:ext cx="5022720" cy="3768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2280" y="4773240"/>
            <a:ext cx="5533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19680" y="9543960"/>
            <a:ext cx="2997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343D-9FD5-4308-B1D9-16B7CD7EB83A}" type="slidenum">
              <a:rPr b="0" lang="en-US" sz="1300" spc="-1" strike="noStrike">
                <a:solidFill>
                  <a:srgbClr val="00506d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D71-630B-4249-8EA3-6F2C7A25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483-D67B-4A60-BDC7-17E43B10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64F-B761-40AB-8001-A94D4124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7E5-D70D-46B4-AF08-84CA9A88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B115-C15D-435F-A432-15A33CC7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3EA-E104-4EC7-ACE1-6AE7102B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4D1-6D40-4D2D-8ABA-333CE7B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93AD-71AB-4289-A9DD-7BAD531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0C54-75E9-4D49-B1C2-6A1C9181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CDB6-CA87-4371-AC22-6608F66A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D36-BAB9-497C-A377-F430B3D3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D8C-BF8A-4E1C-ACA7-F82CFA0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305-E69F-4BAC-AA07-1043AF7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679C-6BAF-45AE-B807-B0E3DD8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C14E-B5A5-48E2-A53B-03557678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2888-ACDB-41E4-A773-0BB1AA1B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0422-43C0-4316-BA46-7D26B805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F1CEC-52A7-41F9-8FEE-2BE2E5C8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0D6F0-A8F8-4478-9B98-B50DD69E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1DE57-9BDE-4F6C-943D-55ECCCAD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62E79-2695-47EA-99B5-4577E65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B0E8A-C9A7-4A31-A73D-A9442CEF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5FF-6B11-49D6-BDAE-5D270FD3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80BAB-8D9A-44EA-A7D5-02C3A24B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3B404-D5BB-4D9F-A788-7B04389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CC5FA-52BF-4D9D-AB18-4B015D9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872F3-1540-4689-B587-A6D6F09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444D8-C122-42AC-BBD7-F6B7BD5C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484D2-15E6-4524-8728-46BDC836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F1606-A426-4170-BC02-C326DACD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2F3-ABA6-45E3-85BD-7EF844FE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B60-28BC-44AF-877E-A449A6F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D0C-1608-4196-B06D-CB2B58F5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57D-A92E-4806-87D6-03C93AC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A09-AD5A-4690-8B36-BB474E70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0C6-C6BD-45FD-A006-4D991C49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6d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50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50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34B-8692-4A6D-903F-DF389F75BE39}" type="datetime">
              <a:rPr b="0" lang="en-US" sz="1200" spc="-1" strike="noStrike">
                <a:solidFill>
                  <a:srgbClr val="8997a3"/>
                </a:solidFill>
                <a:latin typeface="Lucida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0FBB-B650-4DC5-BDC6-DF58FF28581E}" type="slidenum">
              <a:rPr b="0" lang="en-US" sz="1200" spc="-1" strike="noStrike">
                <a:solidFill>
                  <a:srgbClr val="8997a3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44520" y="369720"/>
            <a:ext cx="8429760" cy="6143760"/>
          </a:xfrm>
          <a:prstGeom prst="rect">
            <a:avLst/>
          </a:prstGeom>
          <a:noFill/>
          <a:ln w="19080">
            <a:solidFill>
              <a:srgbClr val="63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pic>
        <p:nvPicPr>
          <p:cNvPr id="6" name="Picture 6" descr="IETA_globe_RGB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8264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344520" y="369720"/>
            <a:ext cx="8429760" cy="6143760"/>
          </a:xfrm>
          <a:prstGeom prst="rect">
            <a:avLst/>
          </a:prstGeom>
          <a:noFill/>
          <a:ln w="19080">
            <a:solidFill>
              <a:srgbClr val="63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pic>
        <p:nvPicPr>
          <p:cNvPr id="44" name="Picture 6" descr="IETA_globe_RGB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82640" cy="785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9" descr=""/>
          <p:cNvPicPr/>
          <p:nvPr/>
        </p:nvPicPr>
        <p:blipFill>
          <a:blip r:embed="rId5"/>
          <a:stretch/>
        </p:blipFill>
        <p:spPr>
          <a:xfrm>
            <a:off x="5694480" y="6540480"/>
            <a:ext cx="3089160" cy="31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IETA_logo_RGB.jpg"/>
          <p:cNvPicPr/>
          <p:nvPr/>
        </p:nvPicPr>
        <p:blipFill>
          <a:blip r:embed="rId6"/>
          <a:srcRect l="0" t="0" r="0" b="6398"/>
          <a:stretch/>
        </p:blipFill>
        <p:spPr>
          <a:xfrm>
            <a:off x="5587920" y="4722840"/>
            <a:ext cx="3353040" cy="128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6d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50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50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31280" y="603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F3F5-C3E8-4895-80BC-8AA3A8E40926}" type="datetime">
              <a:rPr b="0" lang="en-US" sz="1200" spc="-1" strike="noStrike">
                <a:solidFill>
                  <a:srgbClr val="8997a3"/>
                </a:solidFill>
                <a:latin typeface="Lucida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9000" y="6019560"/>
            <a:ext cx="20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27880" y="6039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4CB7-AD72-426D-8DFE-697395CF60BE}" type="slidenum">
              <a:rPr b="0" lang="en-US" sz="1200" spc="-1" strike="noStrike">
                <a:solidFill>
                  <a:srgbClr val="8997a3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44520" y="369720"/>
            <a:ext cx="8429760" cy="6143760"/>
          </a:xfrm>
          <a:prstGeom prst="rect">
            <a:avLst/>
          </a:prstGeom>
          <a:noFill/>
          <a:ln w="19080">
            <a:solidFill>
              <a:srgbClr val="63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pic>
        <p:nvPicPr>
          <p:cNvPr id="89" name="Picture 6" descr="IETA_globe_RGB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8264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thomas.glusac\Desktop\Barclays_Capital_RGB.png"/>
          <p:cNvPicPr/>
          <p:nvPr/>
        </p:nvPicPr>
        <p:blipFill>
          <a:blip r:embed="rId5"/>
          <a:stretch/>
        </p:blipFill>
        <p:spPr>
          <a:xfrm>
            <a:off x="235080" y="6321600"/>
            <a:ext cx="1171440" cy="3571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8"/>
          <p:cNvSpPr/>
          <p:nvPr/>
        </p:nvSpPr>
        <p:spPr>
          <a:xfrm>
            <a:off x="473040" y="6184800"/>
            <a:ext cx="8194680" cy="0"/>
          </a:xfrm>
          <a:prstGeom prst="line">
            <a:avLst/>
          </a:prstGeom>
          <a:ln w="12600">
            <a:solidFill>
              <a:srgbClr val="71c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474840" y="806400"/>
            <a:ext cx="8194320" cy="0"/>
          </a:xfrm>
          <a:prstGeom prst="line">
            <a:avLst/>
          </a:prstGeom>
          <a:ln w="12600">
            <a:solidFill>
              <a:srgbClr val="71c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06d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50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50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50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6d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5521-0084-4688-9E85-BE4A29D78A2B}" type="datetime3">
              <a:rPr b="0" lang="en-US" sz="1200" spc="-1" strike="noStrike">
                <a:solidFill>
                  <a:srgbClr val="8997a3"/>
                </a:solidFill>
                <a:latin typeface="Lucida San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DB3-8A49-4DFC-8B1D-05F20997EA06}" type="slidenum">
              <a:rPr b="0" lang="en-US" sz="1200" spc="-1" strike="noStrike">
                <a:solidFill>
                  <a:srgbClr val="8997a3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7a3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7a3"/>
                </a:solidFill>
                <a:latin typeface="Lucida Sans"/>
              </a:rPr>
              <a:t>Footer can be adde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8640" y="1774440"/>
            <a:ext cx="7772400" cy="26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400"/>
            </a:br>
            <a:r>
              <a:rPr b="1" lang="fr-CH" sz="3200" spc="-1" strike="noStrike">
                <a:solidFill>
                  <a:srgbClr val="000000"/>
                </a:solidFill>
                <a:latin typeface="Lucida Sans"/>
              </a:rPr>
              <a:t>First SDM Joint Coordination Workshop</a:t>
            </a:r>
            <a:br>
              <a:rPr sz="3200"/>
            </a:br>
            <a:br>
              <a:rPr sz="3600"/>
            </a:br>
            <a:r>
              <a:rPr b="1" lang="fr-CH" sz="3600" spc="-1" strike="noStrike">
                <a:solidFill>
                  <a:srgbClr val="0000ff"/>
                </a:solidFill>
                <a:latin typeface="Lucida Sans"/>
              </a:rPr>
              <a:t>Initial Plenary: </a:t>
            </a:r>
            <a:br>
              <a:rPr sz="3600"/>
            </a:br>
            <a:r>
              <a:rPr b="1" lang="fr-CH" sz="3600" spc="-1" strike="noStrike">
                <a:solidFill>
                  <a:srgbClr val="0000ff"/>
                </a:solidFill>
                <a:latin typeface="Lucida Sans"/>
              </a:rPr>
              <a:t>Durban Outcomes</a:t>
            </a:r>
            <a:br>
              <a:rPr sz="1300"/>
            </a:br>
            <a:br>
              <a:rPr sz="1000"/>
            </a:br>
            <a:endParaRPr b="0" lang="en-US" sz="36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096920" y="511668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"/>
              </a:rPr>
              <a:t>Henry Derwent</a:t>
            </a:r>
            <a:endParaRPr b="0" lang="en-US" sz="20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292400" y="576360"/>
            <a:ext cx="63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onn, 24February 2012</a:t>
            </a: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06d"/>
                </a:solidFill>
                <a:latin typeface="Lucida Sans"/>
              </a:rPr>
              <a:t>A reminder of how the international  carbon market was supposed to work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1241280" y="1971720"/>
            <a:ext cx="1400400" cy="2174760"/>
          </a:xfrm>
          <a:custGeom>
            <a:avLst/>
            <a:gdLst>
              <a:gd name="textAreaLeft" fmla="*/ 68040 w 1400400"/>
              <a:gd name="textAreaRight" fmla="*/ 1332360 w 1400400"/>
              <a:gd name="textAreaTop" fmla="*/ 68040 h 2174760"/>
              <a:gd name="textAreaBottom" fmla="*/ 2106720 h 2174760"/>
            </a:gdLst>
            <a:ahLst/>
            <a:rect l="textAreaLeft" t="textAreaTop" r="textAreaRight" b="textAreaBottom"/>
            <a:pathLst>
              <a:path w="21600" h="33541">
                <a:moveTo>
                  <a:pt x="3600" y="0"/>
                </a:moveTo>
                <a:arcTo wR="3600" hR="3600" stAng="16200000" swAng="-5400000"/>
                <a:lnTo>
                  <a:pt x="0" y="29941"/>
                </a:lnTo>
                <a:arcTo wR="3600" hR="3600" stAng="10800000" swAng="-5400000"/>
                <a:lnTo>
                  <a:pt x="18000" y="33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47" name="Rounded Rectangle 5"/>
          <p:cNvSpPr/>
          <p:nvPr/>
        </p:nvSpPr>
        <p:spPr>
          <a:xfrm>
            <a:off x="2633760" y="4444920"/>
            <a:ext cx="1401840" cy="2175120"/>
          </a:xfrm>
          <a:custGeom>
            <a:avLst/>
            <a:gdLst>
              <a:gd name="textAreaLeft" fmla="*/ 68400 w 1401840"/>
              <a:gd name="textAreaRight" fmla="*/ 1333440 w 1401840"/>
              <a:gd name="textAreaTop" fmla="*/ 68400 h 2175120"/>
              <a:gd name="textAreaBottom" fmla="*/ 2106720 h 217512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3749760" y="2013120"/>
            <a:ext cx="1401840" cy="2174760"/>
          </a:xfrm>
          <a:custGeom>
            <a:avLst/>
            <a:gdLst>
              <a:gd name="textAreaLeft" fmla="*/ 68400 w 1401840"/>
              <a:gd name="textAreaRight" fmla="*/ 1333440 w 1401840"/>
              <a:gd name="textAreaTop" fmla="*/ 68400 h 2174760"/>
              <a:gd name="textAreaBottom" fmla="*/ 2106360 h 2174760"/>
            </a:gdLst>
            <a:ahLst/>
            <a:rect l="textAreaLeft" t="textAreaTop" r="textAreaRight" b="textAreaBottom"/>
            <a:pathLst>
              <a:path w="21600" h="33506">
                <a:moveTo>
                  <a:pt x="3600" y="0"/>
                </a:moveTo>
                <a:arcTo wR="3600" hR="3600" stAng="16200000" swAng="-5400000"/>
                <a:lnTo>
                  <a:pt x="0" y="29906"/>
                </a:lnTo>
                <a:arcTo wR="3600" hR="3600" stAng="10800000" swAng="-5400000"/>
                <a:lnTo>
                  <a:pt x="18000" y="33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7099200" y="2881440"/>
            <a:ext cx="1401840" cy="2174760"/>
          </a:xfrm>
          <a:custGeom>
            <a:avLst/>
            <a:gdLst>
              <a:gd name="textAreaLeft" fmla="*/ 68400 w 1401840"/>
              <a:gd name="textAreaRight" fmla="*/ 1333440 w 1401840"/>
              <a:gd name="textAreaTop" fmla="*/ 68400 h 2174760"/>
              <a:gd name="textAreaBottom" fmla="*/ 2106360 h 2174760"/>
            </a:gdLst>
            <a:ahLst/>
            <a:rect l="textAreaLeft" t="textAreaTop" r="textAreaRight" b="textAreaBottom"/>
            <a:pathLst>
              <a:path w="21600" h="33506">
                <a:moveTo>
                  <a:pt x="3600" y="0"/>
                </a:moveTo>
                <a:arcTo wR="3600" hR="3600" stAng="16200000" swAng="-5400000"/>
                <a:lnTo>
                  <a:pt x="0" y="29906"/>
                </a:lnTo>
                <a:arcTo wR="3600" hR="3600" stAng="10800000" swAng="-5400000"/>
                <a:lnTo>
                  <a:pt x="18000" y="33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aad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992160" y="1736640"/>
            <a:ext cx="4599000" cy="512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1430280" y="3138480"/>
            <a:ext cx="29232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079720" y="3203640"/>
            <a:ext cx="29196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1793880" y="3706920"/>
            <a:ext cx="291960" cy="26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4194000" y="3800520"/>
            <a:ext cx="29232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4551480" y="3252960"/>
            <a:ext cx="291960" cy="26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3857760" y="3141720"/>
            <a:ext cx="29052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7640640" y="4532400"/>
            <a:ext cx="291960" cy="2617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7997760" y="4071960"/>
            <a:ext cx="292320" cy="26208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7273800" y="3960720"/>
            <a:ext cx="292320" cy="2635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1371600" y="3022560"/>
            <a:ext cx="3722760" cy="1182600"/>
          </a:xfrm>
          <a:prstGeom prst="rect">
            <a:avLst/>
          </a:prstGeom>
          <a:noFill/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1" name="Left-Right Arrow 22"/>
          <p:cNvSpPr/>
          <p:nvPr/>
        </p:nvSpPr>
        <p:spPr>
          <a:xfrm>
            <a:off x="2714760" y="2278080"/>
            <a:ext cx="1008000" cy="61272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366ff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2" name="Left-Right Arrow 23"/>
          <p:cNvSpPr/>
          <p:nvPr/>
        </p:nvSpPr>
        <p:spPr>
          <a:xfrm rot="18604800">
            <a:off x="4064400" y="4474080"/>
            <a:ext cx="1008000" cy="61272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366ff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3" name="Left-Right Arrow 24"/>
          <p:cNvSpPr/>
          <p:nvPr/>
        </p:nvSpPr>
        <p:spPr>
          <a:xfrm rot="2745600">
            <a:off x="1515600" y="4435200"/>
            <a:ext cx="1008000" cy="61452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3366ff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934920" y="1576440"/>
            <a:ext cx="7766280" cy="52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5" name="Left-Right Arrow 26"/>
          <p:cNvSpPr/>
          <p:nvPr/>
        </p:nvSpPr>
        <p:spPr>
          <a:xfrm>
            <a:off x="5905440" y="3036960"/>
            <a:ext cx="1008000" cy="61416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3366ff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6" name="Left Arrow 27"/>
          <p:cNvSpPr/>
          <p:nvPr/>
        </p:nvSpPr>
        <p:spPr>
          <a:xfrm>
            <a:off x="5708520" y="4394160"/>
            <a:ext cx="1065240" cy="263520"/>
          </a:xfrm>
          <a:prstGeom prst="lef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5400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7" name="Left Arrow 28"/>
          <p:cNvSpPr/>
          <p:nvPr/>
        </p:nvSpPr>
        <p:spPr>
          <a:xfrm rot="1044000">
            <a:off x="5772240" y="4006800"/>
            <a:ext cx="1066680" cy="262080"/>
          </a:xfrm>
          <a:prstGeom prst="leftArrow">
            <a:avLst>
              <a:gd name="adj1" fmla="val 50000"/>
              <a:gd name="adj2" fmla="val 49971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4356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8" name="Left Arrow 29"/>
          <p:cNvSpPr/>
          <p:nvPr/>
        </p:nvSpPr>
        <p:spPr>
          <a:xfrm rot="20595000">
            <a:off x="5866920" y="4800600"/>
            <a:ext cx="1065240" cy="263520"/>
          </a:xfrm>
          <a:prstGeom prst="lef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6408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3011040" y="4568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K3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214160" y="2093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1592640" y="2100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468920" y="3041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NA1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3" name="Left-Right Arrow 34"/>
          <p:cNvSpPr/>
          <p:nvPr/>
        </p:nvSpPr>
        <p:spPr>
          <a:xfrm>
            <a:off x="2685960" y="3343320"/>
            <a:ext cx="876240" cy="218880"/>
          </a:xfrm>
          <a:prstGeom prst="leftRightArrow">
            <a:avLst>
              <a:gd name="adj1" fmla="val 50000"/>
              <a:gd name="adj2" fmla="val 50041"/>
            </a:avLst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4" name="Left-Right Arrow 35"/>
          <p:cNvSpPr/>
          <p:nvPr/>
        </p:nvSpPr>
        <p:spPr>
          <a:xfrm>
            <a:off x="2793960" y="3656160"/>
            <a:ext cx="876240" cy="218880"/>
          </a:xfrm>
          <a:prstGeom prst="leftRightArrow">
            <a:avLst>
              <a:gd name="adj1" fmla="val 50000"/>
              <a:gd name="adj2" fmla="val 50041"/>
            </a:avLst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5" name="Left-Right Arrow 38"/>
          <p:cNvSpPr/>
          <p:nvPr/>
        </p:nvSpPr>
        <p:spPr>
          <a:xfrm>
            <a:off x="1722600" y="3430440"/>
            <a:ext cx="423720" cy="247680"/>
          </a:xfrm>
          <a:prstGeom prst="leftRight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6" name="Left-Right Arrow 40"/>
          <p:cNvSpPr/>
          <p:nvPr/>
        </p:nvSpPr>
        <p:spPr>
          <a:xfrm>
            <a:off x="4086360" y="3457440"/>
            <a:ext cx="422280" cy="24948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7" name="TextBox 41"/>
          <p:cNvSpPr/>
          <p:nvPr/>
        </p:nvSpPr>
        <p:spPr>
          <a:xfrm>
            <a:off x="2436120" y="1682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Kyoto Land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8" name="TextBox 42"/>
          <p:cNvSpPr/>
          <p:nvPr/>
        </p:nvSpPr>
        <p:spPr>
          <a:xfrm>
            <a:off x="5694840" y="17496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Non-Annex1 (Dev</a:t>
            </a:r>
            <a:r>
              <a:rPr b="0" lang="ja-JP" sz="1800" spc="-1" strike="noStrike">
                <a:solidFill>
                  <a:srgbClr val="00506d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g Countries)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79" name="TextBox 43"/>
          <p:cNvSpPr/>
          <p:nvPr/>
        </p:nvSpPr>
        <p:spPr>
          <a:xfrm>
            <a:off x="7103160" y="52545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CDM Projects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0" name="TextBox 44"/>
          <p:cNvSpPr/>
          <p:nvPr/>
        </p:nvSpPr>
        <p:spPr>
          <a:xfrm>
            <a:off x="280800" y="3203640"/>
            <a:ext cx="138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Trading 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between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Installations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1" name="Rounded Rectangle 5"/>
          <p:cNvSpPr/>
          <p:nvPr/>
        </p:nvSpPr>
        <p:spPr>
          <a:xfrm>
            <a:off x="4368960" y="5351400"/>
            <a:ext cx="1071360" cy="135432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354320"/>
              <a:gd name="textAreaBottom" fmla="*/ 1302120 h 1354320"/>
            </a:gdLst>
            <a:ahLst/>
            <a:rect l="textAreaLeft" t="textAreaTop" r="textAreaRight" b="textAreaBottom"/>
            <a:pathLst>
              <a:path w="21600" h="27303">
                <a:moveTo>
                  <a:pt x="3600" y="0"/>
                </a:moveTo>
                <a:arcTo wR="3600" hR="3600" stAng="16200000" swAng="-5400000"/>
                <a:lnTo>
                  <a:pt x="0" y="23703"/>
                </a:lnTo>
                <a:arcTo wR="3600" hR="3600" stAng="10800000" swAng="-5400000"/>
                <a:lnTo>
                  <a:pt x="18000" y="27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fdff"/>
                </a:solidFill>
                <a:latin typeface="Lucida Sans"/>
              </a:rPr>
              <a:t>Airland</a:t>
            </a:r>
            <a:endParaRPr b="0" lang="en-US" sz="16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4467240" y="6172200"/>
            <a:ext cx="290520" cy="263520"/>
          </a:xfrm>
          <a:prstGeom prst="ellipse">
            <a:avLst/>
          </a:prstGeom>
          <a:solidFill>
            <a:srgbClr val="63e6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5076720" y="6189840"/>
            <a:ext cx="290520" cy="263520"/>
          </a:xfrm>
          <a:prstGeom prst="ellipse">
            <a:avLst/>
          </a:prstGeom>
          <a:solidFill>
            <a:srgbClr val="63e6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4" name="Left-Right Arrow 40"/>
          <p:cNvSpPr/>
          <p:nvPr/>
        </p:nvSpPr>
        <p:spPr>
          <a:xfrm>
            <a:off x="4729320" y="6386400"/>
            <a:ext cx="422280" cy="24948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63e6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3244680" y="5654520"/>
            <a:ext cx="290520" cy="26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3298680" y="5270400"/>
            <a:ext cx="290520" cy="26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2784600" y="5487840"/>
            <a:ext cx="290520" cy="26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88" name="ZoneTexte 1"/>
          <p:cNvSpPr/>
          <p:nvPr/>
        </p:nvSpPr>
        <p:spPr>
          <a:xfrm>
            <a:off x="2547000" y="594216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bfdff"/>
                </a:solidFill>
                <a:latin typeface="Arial"/>
              </a:rPr>
              <a:t>JI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bfdff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06d"/>
                </a:solidFill>
                <a:latin typeface="Lucida Sans"/>
              </a:rPr>
              <a:t>The way the global carbon </a:t>
            </a:r>
            <a:br>
              <a:rPr sz="3600"/>
            </a:br>
            <a:r>
              <a:rPr b="1" lang="en-US" sz="3600" spc="-1" strike="noStrike">
                <a:solidFill>
                  <a:srgbClr val="00506d"/>
                </a:solidFill>
                <a:latin typeface="Lucida Sans"/>
              </a:rPr>
              <a:t>market is going</a:t>
            </a:r>
            <a:endParaRPr b="0" lang="en-US" sz="36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190" name="Rounded Rectangle 4"/>
          <p:cNvSpPr/>
          <p:nvPr/>
        </p:nvSpPr>
        <p:spPr>
          <a:xfrm>
            <a:off x="1241280" y="1971720"/>
            <a:ext cx="1400400" cy="2174760"/>
          </a:xfrm>
          <a:custGeom>
            <a:avLst/>
            <a:gdLst>
              <a:gd name="textAreaLeft" fmla="*/ 68040 w 1400400"/>
              <a:gd name="textAreaRight" fmla="*/ 1332360 w 1400400"/>
              <a:gd name="textAreaTop" fmla="*/ 68040 h 2174760"/>
              <a:gd name="textAreaBottom" fmla="*/ 2106720 h 2174760"/>
            </a:gdLst>
            <a:ahLst/>
            <a:rect l="textAreaLeft" t="textAreaTop" r="textAreaRight" b="textAreaBottom"/>
            <a:pathLst>
              <a:path w="21600" h="33541">
                <a:moveTo>
                  <a:pt x="3600" y="0"/>
                </a:moveTo>
                <a:arcTo wR="3600" hR="3600" stAng="16200000" swAng="-5400000"/>
                <a:lnTo>
                  <a:pt x="0" y="29941"/>
                </a:lnTo>
                <a:arcTo wR="3600" hR="3600" stAng="10800000" swAng="-5400000"/>
                <a:lnTo>
                  <a:pt x="18000" y="33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1" name="Rounded Rectangle 5"/>
          <p:cNvSpPr/>
          <p:nvPr/>
        </p:nvSpPr>
        <p:spPr>
          <a:xfrm>
            <a:off x="1598760" y="4762440"/>
            <a:ext cx="1401480" cy="1492200"/>
          </a:xfrm>
          <a:custGeom>
            <a:avLst/>
            <a:gdLst>
              <a:gd name="textAreaLeft" fmla="*/ 68400 w 1401480"/>
              <a:gd name="textAreaRight" fmla="*/ 1333080 w 1401480"/>
              <a:gd name="textAreaTop" fmla="*/ 68400 h 1492200"/>
              <a:gd name="textAreaBottom" fmla="*/ 1423800 h 1492200"/>
            </a:gdLst>
            <a:ahLst/>
            <a:rect l="textAreaLeft" t="textAreaTop" r="textAreaRight" b="textAreaBottom"/>
            <a:pathLst>
              <a:path w="21600" h="22998">
                <a:moveTo>
                  <a:pt x="3600" y="0"/>
                </a:moveTo>
                <a:arcTo wR="3600" hR="3600" stAng="16200000" swAng="-5400000"/>
                <a:lnTo>
                  <a:pt x="0" y="19398"/>
                </a:lnTo>
                <a:arcTo wR="3600" hR="3600" stAng="10800000" swAng="-5400000"/>
                <a:lnTo>
                  <a:pt x="18000" y="22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2" name="Rounded Rectangle 6"/>
          <p:cNvSpPr/>
          <p:nvPr/>
        </p:nvSpPr>
        <p:spPr>
          <a:xfrm>
            <a:off x="7215120" y="2001960"/>
            <a:ext cx="1401840" cy="2158920"/>
          </a:xfrm>
          <a:custGeom>
            <a:avLst/>
            <a:gdLst>
              <a:gd name="textAreaLeft" fmla="*/ 68400 w 1401840"/>
              <a:gd name="textAreaRight" fmla="*/ 1333440 w 1401840"/>
              <a:gd name="textAreaTop" fmla="*/ 68400 h 2158920"/>
              <a:gd name="textAreaBottom" fmla="*/ 2090520 h 2158920"/>
            </a:gdLst>
            <a:ahLst/>
            <a:rect l="textAreaLeft" t="textAreaTop" r="textAreaRight" b="textAreaBottom"/>
            <a:pathLst>
              <a:path w="21600" h="33262">
                <a:moveTo>
                  <a:pt x="3600" y="0"/>
                </a:moveTo>
                <a:arcTo wR="3600" hR="3600" stAng="16200000" swAng="-5400000"/>
                <a:lnTo>
                  <a:pt x="0" y="29662"/>
                </a:lnTo>
                <a:arcTo wR="3600" hR="3600" stAng="10800000" swAng="-5400000"/>
                <a:lnTo>
                  <a:pt x="18000" y="332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3" name="Rounded Rectangle 7"/>
          <p:cNvSpPr/>
          <p:nvPr/>
        </p:nvSpPr>
        <p:spPr>
          <a:xfrm>
            <a:off x="4044960" y="2886120"/>
            <a:ext cx="1515960" cy="1297080"/>
          </a:xfrm>
          <a:prstGeom prst="roundRect">
            <a:avLst>
              <a:gd name="adj" fmla="val 16667"/>
            </a:avLst>
          </a:prstGeom>
          <a:solidFill>
            <a:srgbClr val="4aad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dff"/>
                </a:solidFill>
                <a:latin typeface="Lucida Sans"/>
              </a:rPr>
              <a:t>CDM System and developments</a:t>
            </a:r>
            <a:endParaRPr b="0" lang="en-US" sz="1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1430280" y="3138480"/>
            <a:ext cx="29232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2079720" y="3203640"/>
            <a:ext cx="29196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1793880" y="3706920"/>
            <a:ext cx="291960" cy="26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7" name="Oval 19"/>
          <p:cNvSpPr/>
          <p:nvPr/>
        </p:nvSpPr>
        <p:spPr>
          <a:xfrm>
            <a:off x="5278320" y="3422520"/>
            <a:ext cx="292320" cy="26208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8" name="Oval 20"/>
          <p:cNvSpPr/>
          <p:nvPr/>
        </p:nvSpPr>
        <p:spPr>
          <a:xfrm>
            <a:off x="5148360" y="3878280"/>
            <a:ext cx="291960" cy="2635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199" name="Left Arrow 27"/>
          <p:cNvSpPr/>
          <p:nvPr/>
        </p:nvSpPr>
        <p:spPr>
          <a:xfrm rot="9851400">
            <a:off x="5763960" y="3109680"/>
            <a:ext cx="1065240" cy="263520"/>
          </a:xfrm>
          <a:prstGeom prst="lef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17148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0" name="Left Arrow 28"/>
          <p:cNvSpPr/>
          <p:nvPr/>
        </p:nvSpPr>
        <p:spPr>
          <a:xfrm rot="2025000">
            <a:off x="2887560" y="2833560"/>
            <a:ext cx="1067040" cy="262080"/>
          </a:xfrm>
          <a:prstGeom prst="lef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3378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1" name="Left Arrow 29"/>
          <p:cNvSpPr/>
          <p:nvPr/>
        </p:nvSpPr>
        <p:spPr>
          <a:xfrm rot="20595000">
            <a:off x="3077640" y="5532480"/>
            <a:ext cx="1065240" cy="263520"/>
          </a:xfrm>
          <a:prstGeom prst="lef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6408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2" name="TextBox 30"/>
          <p:cNvSpPr/>
          <p:nvPr/>
        </p:nvSpPr>
        <p:spPr>
          <a:xfrm>
            <a:off x="1757520" y="4871880"/>
            <a:ext cx="11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National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Sector or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City 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3" name="TextBox 31"/>
          <p:cNvSpPr/>
          <p:nvPr/>
        </p:nvSpPr>
        <p:spPr>
          <a:xfrm>
            <a:off x="7296120" y="2190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4" name="Left-Right Arrow 38"/>
          <p:cNvSpPr/>
          <p:nvPr/>
        </p:nvSpPr>
        <p:spPr>
          <a:xfrm>
            <a:off x="1722600" y="3430440"/>
            <a:ext cx="423720" cy="247680"/>
          </a:xfrm>
          <a:prstGeom prst="leftRight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5" name="TextBox 44"/>
          <p:cNvSpPr/>
          <p:nvPr/>
        </p:nvSpPr>
        <p:spPr>
          <a:xfrm>
            <a:off x="284400" y="31384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Trading 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6d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1333440" y="21495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7" name="Rounded Rectangle 39"/>
          <p:cNvSpPr/>
          <p:nvPr/>
        </p:nvSpPr>
        <p:spPr>
          <a:xfrm>
            <a:off x="6983280" y="4503600"/>
            <a:ext cx="1401840" cy="2175120"/>
          </a:xfrm>
          <a:custGeom>
            <a:avLst/>
            <a:gdLst>
              <a:gd name="textAreaLeft" fmla="*/ 68400 w 1401840"/>
              <a:gd name="textAreaRight" fmla="*/ 1333440 w 1401840"/>
              <a:gd name="textAreaTop" fmla="*/ 68400 h 2175120"/>
              <a:gd name="textAreaBottom" fmla="*/ 2106720 h 217512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9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7108200" y="468000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Sector 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09" name="Oval 47"/>
          <p:cNvSpPr/>
          <p:nvPr/>
        </p:nvSpPr>
        <p:spPr>
          <a:xfrm>
            <a:off x="7920000" y="5627520"/>
            <a:ext cx="291960" cy="26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0" name="Oval 48"/>
          <p:cNvSpPr/>
          <p:nvPr/>
        </p:nvSpPr>
        <p:spPr>
          <a:xfrm>
            <a:off x="7439040" y="6175440"/>
            <a:ext cx="29196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1" name="Oval 49"/>
          <p:cNvSpPr/>
          <p:nvPr/>
        </p:nvSpPr>
        <p:spPr>
          <a:xfrm>
            <a:off x="7226280" y="5530680"/>
            <a:ext cx="290520" cy="26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2" name="Left-Right Arrow 50"/>
          <p:cNvSpPr/>
          <p:nvPr/>
        </p:nvSpPr>
        <p:spPr>
          <a:xfrm>
            <a:off x="7399440" y="5873760"/>
            <a:ext cx="422280" cy="24912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3" name="Rounded Rectangle 51"/>
          <p:cNvSpPr/>
          <p:nvPr/>
        </p:nvSpPr>
        <p:spPr>
          <a:xfrm>
            <a:off x="3524400" y="3921120"/>
            <a:ext cx="1401480" cy="1298520"/>
          </a:xfrm>
          <a:prstGeom prst="roundRect">
            <a:avLst>
              <a:gd name="adj" fmla="val 16667"/>
            </a:avLst>
          </a:prstGeom>
          <a:solidFill>
            <a:srgbClr val="4aad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dff"/>
                </a:solidFill>
                <a:latin typeface="Lucida Sans"/>
              </a:rPr>
              <a:t>National/local offset standards (EPA, California)</a:t>
            </a:r>
            <a:endParaRPr b="0" lang="en-US" sz="1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4" name="Rounded Rectangle 52"/>
          <p:cNvSpPr/>
          <p:nvPr/>
        </p:nvSpPr>
        <p:spPr>
          <a:xfrm>
            <a:off x="5167440" y="4211640"/>
            <a:ext cx="1401480" cy="1297080"/>
          </a:xfrm>
          <a:prstGeom prst="roundRect">
            <a:avLst>
              <a:gd name="adj" fmla="val 16667"/>
            </a:avLst>
          </a:prstGeom>
          <a:solidFill>
            <a:srgbClr val="4aad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dff"/>
                </a:solidFill>
                <a:latin typeface="Lucida Sans"/>
              </a:rPr>
              <a:t>Bilateral systems or deals</a:t>
            </a:r>
            <a:endParaRPr b="0" lang="en-US" sz="1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5" name="Rounded Rectangle 53"/>
          <p:cNvSpPr/>
          <p:nvPr/>
        </p:nvSpPr>
        <p:spPr>
          <a:xfrm>
            <a:off x="4103640" y="5067360"/>
            <a:ext cx="1513080" cy="1297080"/>
          </a:xfrm>
          <a:prstGeom prst="roundRect">
            <a:avLst>
              <a:gd name="adj" fmla="val 16667"/>
            </a:avLst>
          </a:prstGeom>
          <a:solidFill>
            <a:srgbClr val="4aad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dff"/>
                </a:solidFill>
                <a:latin typeface="Lucida Sans"/>
              </a:rPr>
              <a:t>International offset standards</a:t>
            </a:r>
            <a:endParaRPr b="0" lang="en-US" sz="1400" spc="-1" strike="noStrike">
              <a:solidFill>
                <a:srgbClr val="00506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fdff"/>
                </a:solidFill>
                <a:latin typeface="Lucida Sans"/>
              </a:rPr>
              <a:t>(VCS, CCX, CCBA)</a:t>
            </a:r>
            <a:endParaRPr b="0" lang="en-US" sz="1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6" name="Oval 54"/>
          <p:cNvSpPr/>
          <p:nvPr/>
        </p:nvSpPr>
        <p:spPr>
          <a:xfrm>
            <a:off x="5189400" y="5991120"/>
            <a:ext cx="292320" cy="2635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7" name="Oval 55"/>
          <p:cNvSpPr/>
          <p:nvPr/>
        </p:nvSpPr>
        <p:spPr>
          <a:xfrm>
            <a:off x="3492360" y="4692600"/>
            <a:ext cx="292320" cy="2635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8" name="Oval 56"/>
          <p:cNvSpPr/>
          <p:nvPr/>
        </p:nvSpPr>
        <p:spPr>
          <a:xfrm>
            <a:off x="4665600" y="4595760"/>
            <a:ext cx="292320" cy="2635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19" name="Oval 57"/>
          <p:cNvSpPr/>
          <p:nvPr/>
        </p:nvSpPr>
        <p:spPr>
          <a:xfrm>
            <a:off x="5245200" y="5632560"/>
            <a:ext cx="291960" cy="263520"/>
          </a:xfrm>
          <a:prstGeom prst="ellipse">
            <a:avLst/>
          </a:prstGeom>
          <a:solidFill>
            <a:srgbClr val="34b3c3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0" name="Left Arrow 58"/>
          <p:cNvSpPr/>
          <p:nvPr/>
        </p:nvSpPr>
        <p:spPr>
          <a:xfrm rot="1044000">
            <a:off x="2707920" y="3551400"/>
            <a:ext cx="1066680" cy="261720"/>
          </a:xfrm>
          <a:prstGeom prst="leftArrow">
            <a:avLst>
              <a:gd name="adj1" fmla="val 50000"/>
              <a:gd name="adj2" fmla="val 50040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4356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1" name="Left Arrow 59"/>
          <p:cNvSpPr/>
          <p:nvPr/>
        </p:nvSpPr>
        <p:spPr>
          <a:xfrm rot="10800000">
            <a:off x="6130800" y="3965400"/>
            <a:ext cx="1067040" cy="262080"/>
          </a:xfrm>
          <a:prstGeom prst="lef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16200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2" name="Left Arrow 60"/>
          <p:cNvSpPr/>
          <p:nvPr/>
        </p:nvSpPr>
        <p:spPr>
          <a:xfrm rot="11611800">
            <a:off x="5606640" y="5940000"/>
            <a:ext cx="1066680" cy="262080"/>
          </a:xfrm>
          <a:prstGeom prst="leftArrow">
            <a:avLst>
              <a:gd name="adj1" fmla="val 50000"/>
              <a:gd name="adj2" fmla="val 49971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15390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3" name="Left Arrow 61"/>
          <p:cNvSpPr/>
          <p:nvPr/>
        </p:nvSpPr>
        <p:spPr>
          <a:xfrm rot="20508000">
            <a:off x="2390760" y="4241880"/>
            <a:ext cx="1066680" cy="261720"/>
          </a:xfrm>
          <a:prstGeom prst="leftArrow">
            <a:avLst>
              <a:gd name="adj1" fmla="val 50000"/>
              <a:gd name="adj2" fmla="val 50040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6492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4" name="Left Arrow 62"/>
          <p:cNvSpPr/>
          <p:nvPr/>
        </p:nvSpPr>
        <p:spPr>
          <a:xfrm rot="8844600">
            <a:off x="5468760" y="2418840"/>
            <a:ext cx="1067040" cy="262080"/>
          </a:xfrm>
          <a:prstGeom prst="lef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00aef9"/>
              </a:gs>
              <a:gs pos="100000">
                <a:srgbClr val="0081b9"/>
              </a:gs>
            </a:gsLst>
            <a:lin ang="18156000"/>
          </a:gra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5" name="Oval 63"/>
          <p:cNvSpPr/>
          <p:nvPr/>
        </p:nvSpPr>
        <p:spPr>
          <a:xfrm>
            <a:off x="7269120" y="3129120"/>
            <a:ext cx="290520" cy="26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6" name="Oval 64"/>
          <p:cNvSpPr/>
          <p:nvPr/>
        </p:nvSpPr>
        <p:spPr>
          <a:xfrm>
            <a:off x="7448400" y="3529080"/>
            <a:ext cx="290520" cy="26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7" name="TextBox 65"/>
          <p:cNvSpPr/>
          <p:nvPr/>
        </p:nvSpPr>
        <p:spPr>
          <a:xfrm>
            <a:off x="7503480" y="3203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dff"/>
                </a:solidFill>
                <a:latin typeface="Arial"/>
              </a:rPr>
              <a:t>Domestic 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dff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8" name="Rectangle à coins arrondis 1"/>
          <p:cNvSpPr/>
          <p:nvPr/>
        </p:nvSpPr>
        <p:spPr>
          <a:xfrm>
            <a:off x="3397320" y="2141640"/>
            <a:ext cx="3395520" cy="4268520"/>
          </a:xfrm>
          <a:custGeom>
            <a:avLst/>
            <a:gdLst>
              <a:gd name="textAreaLeft" fmla="*/ 165600 w 3395520"/>
              <a:gd name="textAreaRight" fmla="*/ 3229920 w 3395520"/>
              <a:gd name="textAreaTop" fmla="*/ 165600 h 4268520"/>
              <a:gd name="textAreaBottom" fmla="*/ 4102920 h 4268520"/>
            </a:gdLst>
            <a:ahLst/>
            <a:rect l="textAreaLeft" t="textAreaTop" r="textAreaRight" b="textAreaBottom"/>
            <a:pathLst>
              <a:path w="21600" h="27153">
                <a:moveTo>
                  <a:pt x="3600" y="0"/>
                </a:moveTo>
                <a:arcTo wR="3600" hR="3600" stAng="16200000" swAng="-5400000"/>
                <a:lnTo>
                  <a:pt x="0" y="23553"/>
                </a:lnTo>
                <a:arcTo wR="3600" hR="3600" stAng="10800000" swAng="-5400000"/>
                <a:lnTo>
                  <a:pt x="18000" y="27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dash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346040" y="3613320"/>
            <a:ext cx="292320" cy="263520"/>
          </a:xfrm>
          <a:prstGeom prst="ellipse">
            <a:avLst/>
          </a:prstGeom>
          <a:solidFill>
            <a:srgbClr val="63e6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2225520" y="3849840"/>
            <a:ext cx="292320" cy="263520"/>
          </a:xfrm>
          <a:prstGeom prst="ellipse">
            <a:avLst/>
          </a:prstGeom>
          <a:solidFill>
            <a:srgbClr val="63e600"/>
          </a:solidFill>
          <a:ln w="9360">
            <a:solidFill>
              <a:srgbClr val="00a0d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06d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00506d"/>
                </a:solidFill>
                <a:latin typeface="Lucida Sans"/>
              </a:rPr>
              <a:t>Offset Projects 2012: </a:t>
            </a:r>
            <a:br>
              <a:rPr sz="3600"/>
            </a:br>
            <a:r>
              <a:rPr b="1" lang="en-US" sz="3600" spc="-1" strike="noStrike">
                <a:solidFill>
                  <a:srgbClr val="00506d"/>
                </a:solidFill>
                <a:latin typeface="Lucida Sans"/>
              </a:rPr>
              <a:t>a Toxic Mixture of objections</a:t>
            </a:r>
            <a:endParaRPr b="0" lang="en-US" sz="36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33360" y="1508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Purchasing indulgences: corporates or individuals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« Anyway » tonnes: Can’t trust foreigners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« Anyway » tonnes: Can’t trust baselines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Contaminated currency (domestic and linking)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Allows putting-off domestic investment 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The ghosts of low-hanging fruit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International negotiations: 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« Supply only » days are over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EUETS over-supply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Objections in principle to some meths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Integrity of land-use meths?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Emerging trading schemes not taking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Lucida Sans"/>
              </a:rPr>
              <a:t>someone else’s rejects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Lucida Sans"/>
              </a:rPr>
              <a:t>« Everybody knows the CDM doesn’t work»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Lucida Sans"/>
              </a:rPr>
              <a:t>« The CDM is evil »</a:t>
            </a:r>
            <a:endParaRPr b="0" lang="en-US" sz="18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601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  <a:p>
            <a:pPr marL="308520" indent="-308520">
              <a:spcBef>
                <a:spcPts val="601"/>
              </a:spcBef>
              <a:buClr>
                <a:srgbClr val="0050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</p:txBody>
      </p:sp>
      <p:pic>
        <p:nvPicPr>
          <p:cNvPr id="233" name="Image 1" descr="images.jpg"/>
          <p:cNvPicPr/>
          <p:nvPr/>
        </p:nvPicPr>
        <p:blipFill>
          <a:blip r:embed="rId1"/>
          <a:stretch/>
        </p:blipFill>
        <p:spPr>
          <a:xfrm>
            <a:off x="5307120" y="2849400"/>
            <a:ext cx="3483000" cy="360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0"/>
                </a:solidFill>
                <a:latin typeface="Lucida Sans"/>
              </a:rPr>
              <a:t>Primary CDM picture looks very bad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52920" y="2912760"/>
            <a:ext cx="520704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400"/>
              </a:spcBef>
              <a:buClr>
                <a:srgbClr val="00506d"/>
              </a:buClr>
              <a:buFont typeface="Arial"/>
              <a:buChar char="•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06d"/>
                </a:solidFill>
                <a:latin typeface="Lucida Sans"/>
              </a:rPr>
              <a:t>CDM activity declined because: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lvl="1" marL="566640" indent="-218880">
              <a:spcBef>
                <a:spcPts val="400"/>
              </a:spcBef>
              <a:buClr>
                <a:srgbClr val="00506d"/>
              </a:buClr>
              <a:buFont typeface="Arial"/>
              <a:buChar char="–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06d"/>
                </a:solidFill>
                <a:latin typeface="Lucida Sans"/>
              </a:rPr>
              <a:t>reduced compliance needs due to slow economic recovery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lvl="1" marL="566640" indent="-218880">
              <a:spcBef>
                <a:spcPts val="400"/>
              </a:spcBef>
              <a:buClr>
                <a:srgbClr val="00506d"/>
              </a:buClr>
              <a:buFont typeface="Arial"/>
              <a:buChar char="–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06d"/>
                </a:solidFill>
                <a:latin typeface="Lucida Sans"/>
              </a:rPr>
              <a:t>uncertainty re: post-2012 rules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lvl="1" marL="566640" indent="-218880">
              <a:spcBef>
                <a:spcPts val="400"/>
              </a:spcBef>
              <a:buClr>
                <a:srgbClr val="00506d"/>
              </a:buClr>
              <a:buFont typeface="Arial"/>
              <a:buChar char="–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06d"/>
                </a:solidFill>
                <a:latin typeface="Lucida Sans"/>
              </a:rPr>
              <a:t>less origination activity as buyers seek predictable credits and fewer projects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lvl="1" marL="566640" indent="-218880">
              <a:spcBef>
                <a:spcPts val="400"/>
              </a:spcBef>
              <a:buClr>
                <a:srgbClr val="00506d"/>
              </a:buClr>
              <a:buFont typeface="Arial"/>
              <a:buChar char="–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06d"/>
                </a:solidFill>
                <a:latin typeface="Lucida Sans"/>
              </a:rPr>
              <a:t>competition with AAUs and secondary CERs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lvl="1" marL="566640" indent="-218880">
              <a:spcBef>
                <a:spcPts val="400"/>
              </a:spcBef>
              <a:buClr>
                <a:srgbClr val="00506d"/>
              </a:buClr>
              <a:buFont typeface="Arial"/>
              <a:buChar char="–"/>
              <a:tabLst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06d"/>
                </a:solidFill>
                <a:latin typeface="Lucida Sans"/>
              </a:rPr>
              <a:t>Lower demand from EUETS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marL="231840" indent="0" algn="ctr">
              <a:spcBef>
                <a:spcPts val="400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  <a:p>
            <a:pPr marL="231840" indent="0" algn="ctr">
              <a:spcBef>
                <a:spcPts val="400"/>
              </a:spcBef>
              <a:buNone/>
              <a:tabLst>
                <a:tab algn="l" pos="0"/>
                <a:tab algn="l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rban’s improvements not enough to change this</a:t>
            </a:r>
            <a:endParaRPr b="0" lang="en-US" sz="16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301400" y="1052640"/>
            <a:ext cx="13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DM valu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US$ billion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548440" y="2349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-12%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908800" y="40766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-59%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25296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-46%</a:t>
            </a:r>
            <a:endParaRPr b="0" lang="en-US" sz="1800" spc="-1" strike="noStrike">
              <a:solidFill>
                <a:srgbClr val="00506d"/>
              </a:solidFill>
              <a:latin typeface="Arial"/>
            </a:endParaRPr>
          </a:p>
        </p:txBody>
      </p:sp>
      <p:pic>
        <p:nvPicPr>
          <p:cNvPr id="240" name="Chart 11" descr=""/>
          <p:cNvPicPr/>
          <p:nvPr/>
        </p:nvPicPr>
        <p:blipFill>
          <a:blip r:embed="rId1"/>
          <a:stretch/>
        </p:blipFill>
        <p:spPr>
          <a:xfrm>
            <a:off x="225360" y="1719360"/>
            <a:ext cx="3389400" cy="471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" descr=""/>
          <p:cNvPicPr/>
          <p:nvPr/>
        </p:nvPicPr>
        <p:blipFill>
          <a:blip r:embed="rId2"/>
          <a:srcRect l="0" t="0" r="0" b="27352"/>
          <a:stretch/>
        </p:blipFill>
        <p:spPr>
          <a:xfrm>
            <a:off x="3871800" y="965160"/>
            <a:ext cx="2932200" cy="1768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" descr=""/>
          <p:cNvPicPr/>
          <p:nvPr/>
        </p:nvPicPr>
        <p:blipFill>
          <a:blip r:embed="rId3"/>
          <a:srcRect l="5197" t="81727" r="16142" b="0"/>
          <a:stretch/>
        </p:blipFill>
        <p:spPr>
          <a:xfrm>
            <a:off x="6594480" y="2200320"/>
            <a:ext cx="2306520" cy="598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e5d78"/>
                </a:solidFill>
                <a:latin typeface="Lucida Sans"/>
                <a:ea typeface="MS PGothic"/>
              </a:rPr>
              <a:t>Durban’s Improvements </a:t>
            </a:r>
            <a:br>
              <a:rPr sz="3200"/>
            </a:br>
            <a:r>
              <a:rPr b="1" lang="fr-FR" sz="3200" spc="-1" strike="noStrike">
                <a:solidFill>
                  <a:srgbClr val="3e5d78"/>
                </a:solidFill>
                <a:latin typeface="Lucida Sans"/>
                <a:ea typeface="MS PGothic"/>
              </a:rPr>
              <a:t>to the Mechanisms</a:t>
            </a:r>
            <a:endParaRPr b="0" lang="en-US" sz="32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83920" y="1565280"/>
            <a:ext cx="8226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Doubt about continuation of CDM (and JI?) removed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Materiality regime agreed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Pointers in the right direction on: significant deficiences, simplification, co-benefits, additionality, first of a kind, faster processing of methodologies, consequences of methodologies being put on hold, standardised baselines, suppressed demand, digitisation, reduced waiting times, support for underrepresented countries, loan scheme, new DOEs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Better understanding for the users’ experience, better norms of communication, and the rule of law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CCS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Appeals mechanism not agreed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Lucida Sans"/>
              </a:rPr>
              <a:t>But EU-ETS close-down (impacts on EU MS too) now beginning to be understood</a:t>
            </a:r>
            <a:endParaRPr b="0" lang="en-US" sz="2000" spc="-1" strike="noStrike">
              <a:solidFill>
                <a:srgbClr val="00506d"/>
              </a:solidFill>
              <a:latin typeface="Lucida Sans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506d"/>
                </a:solidFill>
                <a:latin typeface="Lucida Sans"/>
              </a:rPr>
              <a:t>Focus for this Workshop</a:t>
            </a:r>
            <a:endParaRPr b="0" lang="en-US" sz="4000" spc="-1" strike="noStrike">
              <a:solidFill>
                <a:srgbClr val="00506d"/>
              </a:solidFill>
              <a:latin typeface="Lucida San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87520" y="19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"/>
              </a:rPr>
              <a:t>Large number of issues on the table </a:t>
            </a: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"/>
              </a:rPr>
              <a:t>Golden thread: effective functioning of the market</a:t>
            </a: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"/>
              </a:rPr>
              <a:t>Kyoto Project Mechanisms under threat like never before</a:t>
            </a: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"/>
              </a:rPr>
              <a:t>Participants leaving while need is rising</a:t>
            </a: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"/>
              </a:rPr>
              <a:t>Going forward, little compelling reason for private sector to stay interested</a:t>
            </a: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"/>
              </a:rPr>
              <a:t>A system that works is the best defence</a:t>
            </a:r>
            <a:endParaRPr b="0" lang="en-US" sz="2400" spc="-1" strike="noStrike">
              <a:solidFill>
                <a:srgbClr val="00506d"/>
              </a:solidFill>
              <a:latin typeface="Lucida Sans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IETA_logo_RGB.jpg"/>
          <p:cNvPicPr/>
          <p:nvPr/>
        </p:nvPicPr>
        <p:blipFill>
          <a:blip r:embed="rId1"/>
          <a:srcRect l="0" t="0" r="0" b="6398"/>
          <a:stretch/>
        </p:blipFill>
        <p:spPr>
          <a:xfrm>
            <a:off x="2160720" y="2216160"/>
            <a:ext cx="4419360" cy="182088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4" descr=""/>
          <p:cNvPicPr/>
          <p:nvPr/>
        </p:nvPicPr>
        <p:blipFill>
          <a:blip r:embed="rId2"/>
          <a:stretch/>
        </p:blipFill>
        <p:spPr>
          <a:xfrm>
            <a:off x="5724360" y="6540480"/>
            <a:ext cx="3102120" cy="317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3254400" y="428148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06d"/>
                </a:solidFill>
                <a:latin typeface="Lucida Sans"/>
              </a:rPr>
              <a:t>www.ieta.org</a:t>
            </a:r>
            <a:endParaRPr b="0" lang="en-US" sz="2400" spc="-1" strike="noStrike">
              <a:solidFill>
                <a:srgbClr val="00506d"/>
              </a:solidFill>
              <a:latin typeface="Arial"/>
            </a:endParaRPr>
          </a:p>
        </p:txBody>
      </p:sp>
      <p:pic>
        <p:nvPicPr>
          <p:cNvPr id="250" name="Rectangle 5" descr=""/>
          <p:cNvPicPr/>
          <p:nvPr/>
        </p:nvPicPr>
        <p:blipFill>
          <a:blip r:embed="rId3"/>
          <a:stretch/>
        </p:blipFill>
        <p:spPr>
          <a:xfrm>
            <a:off x="5694480" y="6540480"/>
            <a:ext cx="3089160" cy="31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6:05:29Z</dcterms:created>
  <dc:creator>Michela Beltracchi</dc:creator>
  <dc:description/>
  <dc:language>en-US</dc:language>
  <cp:lastModifiedBy>Henry Derwent</cp:lastModifiedBy>
  <dcterms:modified xsi:type="dcterms:W3CDTF">2012-03-24T06:12:35Z</dcterms:modified>
  <cp:revision>722</cp:revision>
  <dc:subject/>
  <dc:title>Slide 1</dc:title>
</cp:coreProperties>
</file>