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28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28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824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068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824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068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28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28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28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840" y="1447920"/>
            <a:ext cx="910116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23760"/>
            <a:ext cx="0" cy="681516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232840" y="0"/>
            <a:ext cx="9111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90512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The World Bank’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Carbon Finance Busines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Joint Implementation Experie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Benoît Bosquet, World Bank Carbon Finance 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48006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CCC JI Workshop Moscow, May 26-27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tvia Liepaja Solid Waste Manag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very of landfill gas for electricity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8,000 t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(2004-20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2008 credits approved (1 t 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= 1 AA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study, pre-validation,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and Stargard Geotherm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MW geothermal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0,000 t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(2004-20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2008 credits approved (1 t 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= 1 AA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 under nego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omania Afforest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estation of 6,000 ha of degraded state-owned agricultural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55,000 t 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(2003-20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2008 credits approved (1 t 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= 1 AA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study, pre-validation, contract, initial verification, start of generation, first ER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ssons Learnt from JI (a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0574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tive market (more than CD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projects than anticipated (only 10% of PCF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ng constraints in some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project approval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be creative for remunerating pre-2008 reductions: hybrid between Art.6 and 17 (“AAU Greening”), but controversial with some gover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re be enough headroo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ssons Learnt from JI (b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Track 2: waste of mone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M process” is still heavy, especially methodology approval: too project-specific, not generic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additionality not needed: Host Country could sell ERs as ERUs or A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 accession countries: how will JI coexist with EU E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o Track 1 desi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eed for establishing additionality, b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tandards, depending on Host Cou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 (and CDM) window of opportunity is closing due to long lead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tential Future JI Project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BioCF, Netherlands JI, ICF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ech Republic: try Track 1 approach on portfolio of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ia: N</a:t>
            </a:r>
            <a:r>
              <a:rPr b="0" lang="en-US" sz="28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reduction, affore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and: Biomass, biodiesel, affore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: Fuel switch, coal bed methane capture, energy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raine: Coal bed methane capture, fores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U Green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-based Art.17”, “early credits” and/or “late credi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 of AAUs by Host, with reinvestment of revenues into climate-friendly projects (energy efficiency, carbon sink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 of AAUs to raise capital and service de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with several Gover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alatable to buyers than straight Art.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er rebuilds its AA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ext Steps for Russia to Sel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fication of the Kyoto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 or AAU Gre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al with the World Bank carbon fund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 Memorandum of Understanding: who represents Russ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 Host Country Agreement (if pre-2008 credits to be so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rsement/Approval of projects (many proposals receiv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19320" y="1905120"/>
            <a:ext cx="73152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600" spc="-1" strike="noStrike">
                <a:solidFill>
                  <a:srgbClr val="3333cc"/>
                </a:solidFill>
                <a:latin typeface="Arial"/>
                <a:ea typeface="Times New Roman"/>
              </a:rPr>
              <a:t>www.carbonfinance.org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Bank and Climat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Bank Carbon Financ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JI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s Learnt from 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Future JI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U G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 for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orld Bank and Climate Ch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Bank’s mission is poverty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B endorses IPCC predi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mate change, a “global public bad”, affects the poorest the 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-public initiatives needed to mitigate climate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dvantage of Kyoto flexible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core CDM/JI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“carbon finance” into smal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implementation of carbon s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capacity of Hos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ld Bank Carbon Finance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5257800"/>
            <a:ext cx="6046920" cy="457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alian Carbon Fund.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$35 million (open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alian Multi-shareholder. Multipurpo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2440" y="4967280"/>
            <a:ext cx="2122560" cy="665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343400"/>
            <a:ext cx="604692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herlands Clean Development Facility.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$125-180 milli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herlands Ministry of Environment. CDM energy projec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2440" y="4303800"/>
            <a:ext cx="2122560" cy="663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29000"/>
            <a:ext cx="604836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oCarbon Fund.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$12.5 million (open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-shareholder. JI and CDM LULUCF projec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2440" y="3639960"/>
            <a:ext cx="2122560" cy="663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362320"/>
            <a:ext cx="6118200" cy="685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unity Development Carbon Fund.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$39.5 million (open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-shareholder. Small-scale CDM energy projec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2440" y="2941560"/>
            <a:ext cx="2122560" cy="820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3680" y="1447920"/>
            <a:ext cx="5906880" cy="609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otype Carbon Fund.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$180 million (closed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-shareholder. Multi-purpo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2440" y="1981080"/>
            <a:ext cx="2122560" cy="838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2440" y="1981080"/>
            <a:ext cx="816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440" y="4303800"/>
            <a:ext cx="816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440" y="4967280"/>
            <a:ext cx="816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867280"/>
            <a:ext cx="817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2440" y="1447920"/>
            <a:ext cx="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75000" y="1447920"/>
            <a:ext cx="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21560" y="1447920"/>
            <a:ext cx="0" cy="494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bio-ppt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524240" cy="69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1062000" cy="10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09480" y="2286000"/>
          <a:ext cx="13716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286000"/>
                    <a:ext cx="1371600" cy="762120"/>
                  </a:xfrm>
                  <a:prstGeom prst="rect">
                    <a:avLst/>
                  </a:prstGeom>
                  <a:ln cap="sq"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09480" y="5181480"/>
          <a:ext cx="14115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181480"/>
                    <a:ext cx="1411560" cy="68580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78" name="Vrom3" descr=""/>
          <p:cNvPicPr/>
          <p:nvPr/>
        </p:nvPicPr>
        <p:blipFill>
          <a:blip r:embed="rId7"/>
          <a:stretch/>
        </p:blipFill>
        <p:spPr>
          <a:xfrm>
            <a:off x="609480" y="4038480"/>
            <a:ext cx="844560" cy="990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0560" y="762120"/>
            <a:ext cx="70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funds under management, April 2004: ~ US$410 m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8232840" y="0"/>
            <a:ext cx="911160" cy="83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5943600"/>
            <a:ext cx="16002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etherlands JI Fac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6019920"/>
            <a:ext cx="5621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herlands JI Facility.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$60 million with IFC (under negotiation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herlands Ministry of Economic Affairs. JI projec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914400"/>
            <a:ext cx="1524240" cy="144792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819520"/>
            <a:ext cx="1524240" cy="144756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4648320"/>
            <a:ext cx="1524240" cy="144756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5562720"/>
            <a:ext cx="1524240" cy="144756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urrent JI Projects (PCF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garia Sofia and Pernik District Hea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garia Svilosa Biom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ech Energy Efficiency and Renewabl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gary Pannonpow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via Liepaja Solid Wast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and Stargard Geothe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ia Afforestation of Degraded Agr.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lgaria Sofia and Pernik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trict Heat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efficiency improvements (pipes, pumps, subs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41,000 t 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(2005-20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2008 credits under discussion: AAU g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study, pre-va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submitted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 under nego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lgaria Svilosa Biomas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from heavy fuel oil to wood residue biomass in 13 MW boiler at wood pulp p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0,000 t 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(2004-20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2008 credits approved (1 t 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= 1 AA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study, pre-validation, contract, initial verification, start of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zech Energy Efficiency and Renewable Energ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brella agreement for several energy efficiency and renewable energy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s with intermediaries: CEA, S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istrict heating projects in Decin and Rozmital approved and validated: 212,000 t CO</a:t>
            </a:r>
            <a:r>
              <a:rPr b="0" lang="en-US" sz="28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(2004-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rojects under preparation, incl. Hyd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2008 credits approved (1 t CO</a:t>
            </a:r>
            <a:r>
              <a:rPr b="0" lang="en-US" sz="28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= 1 AA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7528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5105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ungary Pécs Heat and Pow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from coal to biomass (wood chips) for co-generation (65 MWth and 49 MW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nonpower will supply heat to the city of Pécs and electricity to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193,000 t CO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(2008-20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study, pre-validation,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3:31:07Z</dcterms:created>
  <dc:creator>Benoît Bosquet</dc:creator>
  <dc:description/>
  <cp:keywords>joint implementation</cp:keywords>
  <dc:language>en-US</dc:language>
  <cp:lastModifiedBy>Jens Wilhelm</cp:lastModifiedBy>
  <dcterms:modified xsi:type="dcterms:W3CDTF">2004-09-17T11:59:08Z</dcterms:modified>
  <cp:revision>242</cp:revision>
  <dc:subject/>
  <dc:title>The World Bank’s Carbon Finance Business: Joint Implementation Experience</dc:title>
</cp:coreProperties>
</file>