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7280" y="3886920"/>
            <a:ext cx="7962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" y="388692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88692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63800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2160" y="163800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7280" y="388692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88692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2160" y="3886920"/>
            <a:ext cx="256392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3885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1638000"/>
            <a:ext cx="3885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33720" y="456840"/>
            <a:ext cx="6302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1638000"/>
            <a:ext cx="3885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7280" y="388692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3885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88692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1638000"/>
            <a:ext cx="3885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280" y="3886920"/>
            <a:ext cx="7962840" cy="20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24480"/>
            <a:ext cx="571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b900"/>
                </a:solidFill>
                <a:latin typeface="Arial"/>
              </a:rPr>
              <a:t>European Commission: Environment Directorate General Slide: </a:t>
            </a:r>
            <a:fld id="{A7A68E57-E346-4626-BE99-C53A4E53A941}" type="slidenum">
              <a:rPr b="0" lang="en-US" sz="1000" spc="-1" strike="noStrike">
                <a:solidFill>
                  <a:srgbClr val="b3b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98600" y="1371600"/>
            <a:ext cx="8226360" cy="4876920"/>
            <a:chOff x="498600" y="1371600"/>
            <a:chExt cx="8226360" cy="4876920"/>
          </a:xfrm>
        </p:grpSpPr>
        <p:sp>
          <p:nvSpPr>
            <p:cNvPr id="4" name=""/>
            <p:cNvSpPr/>
            <p:nvPr/>
          </p:nvSpPr>
          <p:spPr>
            <a:xfrm>
              <a:off x="498600" y="1371600"/>
              <a:ext cx="82263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8600" y="6248520"/>
              <a:ext cx="82263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25320" y="274680"/>
            <a:ext cx="143856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uropa.eu.int/comm/environment/climat/home_en.htm" TargetMode="External"/><Relationship Id="rId2" Type="http://schemas.openxmlformats.org/officeDocument/2006/relationships/hyperlink" Target="http://europa.eu.int/comm/environment/climat/home_e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inking the EU Emissions Trading Scheme with JI and CDM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371592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JI Workshop, Moscow, 27 May 2004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Jürge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ala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Climate Change Unit, DG Environ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European Commis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nefits of linking JI/CDM to EU E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Times New Roman"/>
              </a:rPr>
              <a:t>Stimulate investments in JI/CDM projec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motion of the transfer of environmentally sound technologies to third countr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tribution to host countries’ Sustainable Develop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d liquidity of the EU emissions trading marke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re compliance options and lower costs for companies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projects will the link be with?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ll types of  JI and CDM credits allowed for use in EU ETS except for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clear facilities (excluded by Marrakech Accord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nks projects (difficult to integrate with EU ET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me JI and CDM project approval rules as in KP and Marrakech Accords 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Times New Roman"/>
              </a:rPr>
              <a:t>Special provisions for JI projects in (new) EU Member States until 2012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72630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im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nking Directive provides for both JI and CDM credits to be used in the EU scheme 2008-2012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I projects can generate credits beginning in 2008 for use in the first commitment period (2008-12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DM projects can generate credits from 2000 -- CDM credits can be used in EU ETS from 2005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ong incentive now for generation of credits in order to use them for compliance from 2008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72630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itative limit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EU Member States to decide national limits for use of JI/CDM credits in EU E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mits may be set on installation level  for operators in EU E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mission to review whether use of JI/CDM in Member States supplemental to domestic action   to ensure that emission reductions are achieved in EU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302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ful Contacts 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ürgen Salay - Environment D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urgen.salay@cec.eu.int     -       tel: 00322 299 6999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mien Meadows - Environment D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mien.meadows@cec.eu.int  -  tel: 00322 299 6319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ürgen Lefevere  - Environment D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uergen.lefevere@cec.eu.int    -  tel: 00322 296 6525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ful Websit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Commission Climate Change Homepage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93f00"/>
                </a:solidFill>
                <a:uFillTx/>
                <a:latin typeface="Times New Roman"/>
                <a:hlinkClick r:id="rId1"/>
              </a:rPr>
              <a:t>http://europa.eu.int/comm/environment/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93f00"/>
                </a:solidFill>
                <a:uFillTx/>
                <a:latin typeface="Times New Roman"/>
                <a:hlinkClick r:id="rId2"/>
              </a:rPr>
              <a:t>climat/home_en.htm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9628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U and JI/CDM: Some starting poi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EU Emissions Trading Scheme    (EU ETS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king with JI and CDM 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764640"/>
            <a:ext cx="7344000" cy="7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U and JI/CDM: Some starting points - 1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C and its Member States ratified Kyoto Protocol in May 2002, taking on differentiated legally-binding emission reduction targe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C and its Member States can all participate in Kyoto mechanisms as Parties, in order to achieve their reduction targets (like other Parties listed in Annex B to the Kyoto Protocol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65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U Member States may participate in JI/CDM on government level or through other legal entities, e.g. compan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75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anies may use JI/CDM credits for compliance with EU ETS or for other us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4000" y="764640"/>
            <a:ext cx="7344000" cy="7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U and JI/CDM: Some starting points - 2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tivity of Member States growing fast – most Member States funding or preparing funding for JI and CDM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eat variation as to what extent Member States plan to use JI/CDM for compliance with KP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fferent approaches: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programm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ional/multilateral funds (e.g., Baltic Sea Region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ld Bank (PCF)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vate banks or other intermediat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EU Emissions Trading Scheme  - 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w to establish the EU-wide emissions trading scheme entered into force October 2003 – Directive 2003/87/EC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ld's largest entity-based domestic cap and trade emission allowance programm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atible with international emissions trading under the KP - contributes towards achievement of KP targe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EU Emissions Trading Scheme  - 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96360" cy="43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st phase 2005-2007, 2nd phase 2008-201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age: Begin with five major downstream sectors - power generation, oil refineries, steel, cement and lime, pulp and paper - covering almost half of EU’s emissions of carbon dioxid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pected to reduce costs of EU meeting its Kyoto commitments by around one-third, by enabling emission reductions to be made where this is most effici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541920" cy="6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frastructure in the EU ET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anies monitor and report emissions following the monitoring and reporting guidelines, emission reports will be subject to independent verific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mber States and the Community establish and maintain electronic registries to track allowan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ffective sanctions: For every tonne of emissions that is not covered by an allowance, a company would  have to pay a penalty of €40 in 2005-2007 and €100 thereafter + surrender a compensating amount of allowances in the subsequent yea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3640" y="404280"/>
            <a:ext cx="6302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location in the EU ET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1523880"/>
            <a:ext cx="79628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llocation to installation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 free, but Member states may auction up to 5% for 2005 –2007 and up to 10% for 2008-201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er States observe common allocation criteria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ach Member State draws up an ex-ante national allocation plan, by 31 March 2004 for 2005-7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parency and comments by the public, scrutiny by the Commiss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975"/>
            </a:gs>
            <a:gs pos="100000">
              <a:srgbClr val="537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30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king JI/ CDM to the EU 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280" y="1638000"/>
            <a:ext cx="796284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ission made a proposal in July 2003 for allowing use of JI and CDM credits in the EU schem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Times New Roman"/>
              </a:rPr>
              <a:t>Proposal adopted by Europea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arliament</a:t>
            </a:r>
            <a:r>
              <a:rPr b="1" lang="sv-SE" sz="2400" spc="-1" strike="noStrike">
                <a:solidFill>
                  <a:srgbClr val="ffff00"/>
                </a:solidFill>
                <a:latin typeface="Times New Roman"/>
              </a:rPr>
              <a:t> in April 2004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ows companies in the EU ETS to convert JI/CDM credits into allowances to fulfil their obligations under the EU emissions trading scheme from 2005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ives an incentive for companies in the EU emissions trading scheme to carry out emission-curbing JI and CDM projects – will boost global demand for JI/CD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3:24:06Z</dcterms:created>
  <dc:creator>Juergen Salay</dc:creator>
  <dc:description/>
  <cp:keywords>clean development mechanism</cp:keywords>
  <dc:language>en-US</dc:language>
  <cp:lastModifiedBy>Jens Wilhelm</cp:lastModifiedBy>
  <cp:lastPrinted>2003-05-08T08:29:04Z</cp:lastPrinted>
  <dcterms:modified xsi:type="dcterms:W3CDTF">2004-09-17T11:32:45Z</dcterms:modified>
  <cp:revision>153</cp:revision>
  <dc:subject/>
  <dc:title> Linking the EU Emissions Trading Scheme with JI and CDM </dc:title>
</cp:coreProperties>
</file>