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28600" y="690120"/>
            <a:ext cx="46008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CBAD67-D0FC-4383-B527-63D0A487618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D80-6135-4D4C-9001-5D956958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034-C33B-457B-ABDF-0997104E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AA4-B43F-433C-B947-CFB1153F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6196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3848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44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6196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83848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E19-CDFA-4EE4-B90A-CE7B5FB2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E38F-ECBB-4DF5-8719-486BC42F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476C-8FDD-47B6-B658-1F9E467E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7801-088B-423D-BF61-FFAD4521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E94F-1557-4519-B11E-A1C9EB8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6A32-066B-4795-929E-CF6830D5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E80D-DE19-4C36-A701-77D689A1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DF81-6226-4E3D-A478-621ABA3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663-7723-4658-94DA-D0B2B110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8B1E-0337-4C2F-A2D3-85202FF0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EB77-4BC4-4738-990D-F8C10CA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D90D-AF2C-46E0-8AEA-72D01B8D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C165-08CF-4988-9230-4EEF58D4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6196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38480" y="29718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44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6196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38480" y="49222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0393-4162-4C87-8C89-21587AF7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142-EC60-4343-B26C-AD88ED75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C2E-E306-4F42-BAF7-4DB7E518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792-CE20-458F-AEAC-8E23E73E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BFE-9A2D-421A-8888-148E339F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9B1-6E20-4650-9FAA-90CD24C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90360" y="49222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8D0-562E-4AA7-84DA-CAF90233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0360" y="29718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49222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B53-99A8-430B-A025-DCDF1DC5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9718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2366-D8C5-4741-8AC0-8E59D9824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opleft" descr=""/>
          <p:cNvPicPr/>
          <p:nvPr/>
        </p:nvPicPr>
        <p:blipFill>
          <a:blip r:embed="rId2"/>
          <a:stretch/>
        </p:blipFill>
        <p:spPr>
          <a:xfrm>
            <a:off x="0" y="990720"/>
            <a:ext cx="2057400" cy="6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5710320" y="914400"/>
          <a:ext cx="345420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0320" y="914400"/>
                    <a:ext cx="3454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5119-A271-4EF2-B694-7210F6308F7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086600" y="1066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6699ff"/>
                </a:solidFill>
                <a:latin typeface="Tahoma"/>
              </a:rPr>
              <a:t>Canada’s CDM &amp; JI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banner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" name=""/>
          <p:cNvGraphicFramePr/>
          <p:nvPr/>
        </p:nvGraphicFramePr>
        <p:xfrm>
          <a:off x="0" y="6518160"/>
          <a:ext cx="2971800" cy="30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518160"/>
                    <a:ext cx="29718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" name=""/>
          <p:cNvGraphicFramePr/>
          <p:nvPr/>
        </p:nvGraphicFramePr>
        <p:xfrm>
          <a:off x="8229600" y="6512040"/>
          <a:ext cx="914400" cy="345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29600" y="6512040"/>
                    <a:ext cx="9144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5046-18FE-4293-BFA7-FE2AD3BF982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106668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6699ff"/>
                </a:solidFill>
                <a:latin typeface="Tahoma"/>
              </a:rPr>
              <a:t>Canada’s CDM &amp; JI Off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6518160"/>
          <a:ext cx="2971800" cy="30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18160"/>
                    <a:ext cx="29718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229600" y="6512040"/>
          <a:ext cx="914400" cy="34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6512040"/>
                    <a:ext cx="9144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362320" y="2693880"/>
            <a:ext cx="4322520" cy="2563560"/>
            <a:chOff x="2362320" y="2693880"/>
            <a:chExt cx="4322520" cy="2563560"/>
          </a:xfrm>
        </p:grpSpPr>
        <p:sp>
          <p:nvSpPr>
            <p:cNvPr id="69" name=""/>
            <p:cNvSpPr/>
            <p:nvPr/>
          </p:nvSpPr>
          <p:spPr>
            <a:xfrm>
              <a:off x="2362320" y="2693880"/>
              <a:ext cx="432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711160"/>
              <a:ext cx="428760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CA" sz="1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CA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splash" descr="Canada's Clean Development Mechanism &amp; Joint Implementation Office / Bureau canadien du mécanisme pour un développement propre et de l'application conjointe"/>
          <p:cNvPicPr/>
          <p:nvPr/>
        </p:nvPicPr>
        <p:blipFill>
          <a:blip r:embed="rId6"/>
          <a:stretch/>
        </p:blipFill>
        <p:spPr>
          <a:xfrm>
            <a:off x="0" y="0"/>
            <a:ext cx="9144000" cy="3778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4038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rst UNFCCC Workshop on the Implementation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f Article 6 Projects Under the Kyoto Protocol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y 26 - 27, 2004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scow, Russia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ane Desbarats, Program Officer,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nada’s CDM and JI Office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JI Projects for E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ydro project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rojects i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at feasibility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under consideration for Ukraine, Poland Romania and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For more information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ada’s CDM &amp; JI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 Change and Energy Division (E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Affairs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 Sussex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Hall, 2nd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awa, ON  K1N 1J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:  (613) 944-30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x:  (613) 944-00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 cdm.ji@dfait-maeci.gc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:  www.dfait-maeci.gc.ca/cdm-j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the Office and JI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Facilitation in E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-Russia Joint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anadian Climate Chang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JI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rojects in E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Canada’s CDM/JI Off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as national focal point for CDM and 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duct domestic &amp; international outrea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ilitate Canadian particip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technical guidance to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de bilateral agreements with ke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 Project Transaction Costs (Feasibility studies, Baseline/Monitoring Plans, PD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, Ver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Canadian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tical studies and input into 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Facilitation in E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arket studies for: Russia, the Czech Republic, Kazakhstan and Bulg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arket study for Poland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Feasibility/baseline studies for projects in Poland, Romania and Rus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DM/JI capacity-building in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utreach in Ukraine, Poland, Romania, Bulgaria, Russia, Hungary and the Czech R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anada-Russia Joint Working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d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itted to making ratification of the Kyoto Protocol mutually beneficial for both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dicated to overcoming barriers to the implementation of the Kyoto Protocol in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posed of officials from both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ada: Foreign Affairs Canada, Environment Canada, Natural Resources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ussia: MEDT, RosHydromet, M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ET and JI subgroup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ed Activities of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JI Sub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 approval procedures (Canadian and Russi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key regions, sectors an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links with IET/Greening Inves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ulti-project baseline for natural gas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work related to investment barriers: credit ownership, taxation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ther Canadian Climate Change Initiatives in E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ustry Canada: Sustainable Cities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RC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-Technology Promotion Offic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-Canadian International Initiative for Technolo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-Technology Early Action Measures (TEA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gh efficiency boilers in two pilot regions for Russia (Komi and Ty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pgrade of gas distribution networks for Rom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anadian JI Capacity Building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spian Basin GHG Emissions Reduction Training Program: Kazakhstan, Uzbekistan and Azerbai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pacity-building in Ukraine: concluded April 200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ment of Ukrainian JI approv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echnical assistance on Ukrainian GHG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I projects database (available onli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workshops in Poland, Hungary and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d to Russian climate change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anadian Private Se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JI Opportunities in Rus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habilitation of natural ga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ineering servi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il refinery sector, oil and gas exploration, aluminium smelters, and mining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tential markets for: energy efficient buildings, small hydro, fugitive methane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pres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ussian crude oil significant Canadian im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ent resurgence of Canadian investment in Russian LNG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2:23:07Z</dcterms:created>
  <dc:creator>Jane Desbarats</dc:creator>
  <dc:description/>
  <cp:keywords>clean development mechanism</cp:keywords>
  <dc:language>en-US</dc:language>
  <cp:lastModifiedBy>Jens Wilhelm</cp:lastModifiedBy>
  <cp:lastPrinted>2003-02-16T13:11:38Z</cp:lastPrinted>
  <dcterms:modified xsi:type="dcterms:W3CDTF">2004-09-17T11:57:09Z</dcterms:modified>
  <cp:revision>136</cp:revision>
  <dc:subject/>
  <dc:title>Facilitating arrangements</dc:title>
</cp:coreProperties>
</file>