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7E6-5778-42E3-A97B-EE719FF0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EFB-34C3-49EE-B2D1-B59712F4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540-6105-4FF4-8BDB-AD6B02AE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6196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83848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44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6196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83848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EED-F0F7-4437-9279-DE2D252F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D436-655B-44E3-9433-1DB2BDBE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BD55-66C2-4C77-89C5-2815B7A2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4E31-25E9-4A5B-BF23-144E8BB4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7D3B-BFE5-4FF8-A642-7181F121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BECA-4579-4AEA-8DDD-3CFDFE25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F74B-77AE-4113-9E2A-55852785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7740-7304-44B0-B24B-AA4C7059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74C-3519-483E-BAD0-60D1CFCA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5961-FDBE-4B69-95F9-15855947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D9A7-E545-466B-B8F7-DD645C54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9D41-4486-4AED-8A6E-820748E3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C720-2DAD-487D-BAE4-6B4E1AE4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6196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83848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44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6196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83848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80BE-6808-40A6-AC58-10E75DC9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23F-03E7-4F22-8FC3-58D11088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406-F2EA-459B-B7C0-1091643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335-9E83-4363-A7FF-9F2D45D5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2E1-544E-4DE7-A6C6-3228DE14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160-5623-417A-87FC-F712D604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A9A-5DC6-4178-A32A-C9FB146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37D-4B3E-4046-9F70-41D376F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FA1-60ED-48B8-AE83-11F482A24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opleft" descr=""/>
          <p:cNvPicPr/>
          <p:nvPr/>
        </p:nvPicPr>
        <p:blipFill>
          <a:blip r:embed="rId2"/>
          <a:stretch/>
        </p:blipFill>
        <p:spPr>
          <a:xfrm>
            <a:off x="0" y="990720"/>
            <a:ext cx="2057400" cy="6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5710320" y="914400"/>
          <a:ext cx="345420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0320" y="914400"/>
                    <a:ext cx="3454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838080" y="5334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2B7E-0993-460C-830C-C9CCBDF79FD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banner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8229600" y="6512040"/>
          <a:ext cx="914400" cy="34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29600" y="6512040"/>
                    <a:ext cx="9144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505E-1056-4BAE-A2FF-FC7CB323EFE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1066680"/>
            <a:ext cx="243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6699ff"/>
                </a:solidFill>
                <a:latin typeface="Tahoma"/>
              </a:rPr>
              <a:t>Canada’s CDM &amp; JI Off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6518160"/>
          <a:ext cx="2971800" cy="30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18160"/>
                    <a:ext cx="29718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8229600" y="6512040"/>
          <a:ext cx="914400" cy="34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6512040"/>
                    <a:ext cx="9144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362320" y="2693880"/>
            <a:ext cx="4322520" cy="2563560"/>
            <a:chOff x="2362320" y="2693880"/>
            <a:chExt cx="4322520" cy="2563560"/>
          </a:xfrm>
        </p:grpSpPr>
        <p:sp>
          <p:nvSpPr>
            <p:cNvPr id="66" name=""/>
            <p:cNvSpPr/>
            <p:nvPr/>
          </p:nvSpPr>
          <p:spPr>
            <a:xfrm>
              <a:off x="2362320" y="2693880"/>
              <a:ext cx="432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2320" y="2711160"/>
              <a:ext cx="4287600" cy="25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CA" sz="1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CA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splash" descr="Canada's Clean Development Mechanism &amp; Joint Implementation Office / Bureau canadien du mécanisme pour un développement propre et de l'application conjointe"/>
          <p:cNvPicPr/>
          <p:nvPr/>
        </p:nvPicPr>
        <p:blipFill>
          <a:blip r:embed="rId6"/>
          <a:stretch/>
        </p:blipFill>
        <p:spPr>
          <a:xfrm>
            <a:off x="0" y="0"/>
            <a:ext cx="9144000" cy="3778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4191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rst UNFCCC Workshop on the Implementation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f Article 6 Projects Under the Kyoto Protocol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y 26 - 27, 2004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scow, Russia</a:t>
            </a:r>
            <a:br>
              <a:rPr sz="2400"/>
            </a:br>
            <a:br>
              <a:rPr sz="24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Canadian Climate Change Institutions</a:t>
            </a:r>
            <a:br>
              <a:rPr sz="2500"/>
            </a:br>
            <a:br>
              <a:rPr sz="3600"/>
            </a:b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tatus of Canadian Mechanisms Eligibil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track for meeting national inventory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I approval procedures being elab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gistry options being exa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nadian companies active in the JI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For more information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nada’s CDM &amp; JI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 Change and Energy Division (E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Affairs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 Sussex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Hall, 2nd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awa, ON  K1N 1J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:  (613) 944-30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x:  (613) 944-00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 cdm.ji@dfait-maeci.gc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:  www.dfait-maeci.gc.ca/cdm-j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 eligibil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of the Canadian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of the Canadian nation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Perspectives on 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106668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Implementation (JI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76201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implemented by Annex I Parties with targets under Annex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 reductions and enhancement of sinks must be add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by Partie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can start in 2000 – earn credits as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akesh Accords established a two-track JI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and Parties can voluntarily opt for Track II 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gibility to participate in JI Track I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es involved in JI Track I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e a Party to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ave established an inventory of assigned amounts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ave national system in place to estimate GHG emissions and sinks, and provide an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ave a national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ubmit supplemental information on changes to total assigned amount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ubmit inventory and National Communication for Expert Team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 Track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es not meeting all requirements can still participate in JI under Track II but must st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Be a Party to the Kyoto Protoc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Have established initial assigned amou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Have a national regis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s can voluntarily opt for Track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subject to third party verification (A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JI Supervisory Committee (A6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ational Inventory: International Submissions to UNFCC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nual inventory submissions since entry into force of the UNFCCC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nada has generally met repor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Currently upgrading to meet UNFCCC and IPCC’s Good Practice Guidance standa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Moving to Tier 2 methods for key inventory catego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Preparing for reporting of Kyoto sink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anadian Inventory: Mandatory Greenhouse Gas Repor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ndatory facility level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ational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hase I reporting threshold at 100KT for CO2 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rst submissions due June 1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vironment Canada intends to publish the GHG emissions data by 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ope, parameters of system likely enhanced in  subsequent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complement but not replace top-down approach used for UNFCCC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tatus of Canadian Regist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urrently assessing technica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be in place by January 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ynergies with National Invento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sibility of using an “off-the-shelf”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gistry administrator to be desig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anadian Perspectives on 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nada’s CDM and JI Office acts as focal point; responsible for approving JI and CDM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ing guidelines with Interdepartmental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uideline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Provide steps and  proced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Ensure synergies with other domestic initiativ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Will evolve over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2:23:07Z</dcterms:created>
  <dc:creator>Canada's Clean Development Mechanism and Joint Implementation Office</dc:creator>
  <dc:description/>
  <cp:keywords>clean development mechanism</cp:keywords>
  <dc:language>en-US</dc:language>
  <cp:lastModifiedBy>Jens Wilhelm</cp:lastModifiedBy>
  <cp:lastPrinted>2003-02-16T13:11:38Z</cp:lastPrinted>
  <dcterms:modified xsi:type="dcterms:W3CDTF">2004-09-17T11:28:25Z</dcterms:modified>
  <cp:revision>139</cp:revision>
  <dc:subject/>
  <dc:title>The National insititutional set-up</dc:title>
</cp:coreProperties>
</file>