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C1C-0EC0-4CDC-BE7A-791C67C6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81F-8A34-4DCF-8B42-8300D14B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00F-1033-4EF9-9835-79032AB0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929-2475-4FE3-8972-1DB4B841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61AA-1AA1-4F58-80DA-342AB499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3A1C-D450-412E-8262-76FFC1E3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C2B2-D647-453D-A43E-96D7CA3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4213-4A60-418B-AA31-256459F9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35E4-4577-481C-919C-214430F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AD28-3CD9-45EA-9934-869DADF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FDCF-F07A-42BB-81E3-636BCED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E4C-D5DA-4250-8D34-AAD56D3E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AE85-2CFF-47FB-98F9-214150A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DB3-4E93-4BAB-ACAB-EA48B34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BC93-A0B0-4D38-BC6E-3BE92C65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B220-1563-4EAE-A7F7-01CE720E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CDA8-6CD3-4288-912D-1469962E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FFB-C938-42DD-9780-961F080B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0E5-A580-4257-B339-FE8970FA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920-0022-4CA4-932C-578B1C2C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F6D-5812-48A1-92E6-F2DC84D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AE1-D65B-4814-9483-1A5712C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381-7CDD-489F-A508-513EB00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765-D433-4BB7-9E38-B810E285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3B78-45A0-450F-9E11-49F2FC18A58F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A04-1CC1-4B86-9FC3-E71A83E58B95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24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Проекты по статье 6 Киотского протокола в контексте Марракешских соглашений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34286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истина Цумкеллер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КИК/Совместные механизмы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zumkell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@unfccc.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3526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еминар РКИК по осуществлению проектов по Статье 6 Киотского протокол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-2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Российская Федерация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76212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ы по Статье 6 Киотского протокола – «проекты совместного осуществления (ПСО)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элемент Марракешских соглаш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достижения бал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28600"/>
            <a:ext cx="8610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, позволяющее ратифицировать Киотский протоко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экологической целостност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еской привлек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 интересов принимающей стороны и инвестора, продавцов и покупателей единиц выбросов, Сторон включенных и не включенных в Прилож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45720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 для раннего удовлетворения условиям приемле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ая местными органами система с относительно низкими операционными расход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близкая к торговле квот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ый вариа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существляется международными орган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близкая к МЧ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по надзору за соблюдением Статьи 6, управляемый КС/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66996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О – по заказ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держки подготовительного процесса для выполнения ПС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ы могут быть получены начиная с 2008 г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ая и хорошо понятная возможность для рын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ввода в действие ПСО начнет динамично развиваться сразу после образования Комитета по надзору за соблюдением Статьи 6 решением КС/С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ы по установлению ПСО на национальном уров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через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йт по П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ы по ПСО для обмена опыт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9:36:53Z</dcterms:created>
  <dc:creator>Christine Zumkeller</dc:creator>
  <dc:description/>
  <cp:keywords>clean development mechanism</cp:keywords>
  <dc:language>en-US</dc:language>
  <cp:lastModifiedBy>Jens Wilhelm</cp:lastModifiedBy>
  <cp:lastPrinted>2001-09-10T16:02:44Z</cp:lastPrinted>
  <dcterms:modified xsi:type="dcterms:W3CDTF">2004-09-17T11:04:48Z</dcterms:modified>
  <cp:revision>42</cp:revision>
  <dc:subject/>
  <dc:title>Projects under Article 6 in the context of the Marrakesh Acc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4735421</vt:r8>
  </property>
  <property fmtid="{D5CDD505-2E9C-101B-9397-08002B2CF9AE}" pid="3" name="_AuthorEmail">
    <vt:lpwstr>tulinovs@mecom.ru</vt:lpwstr>
  </property>
  <property fmtid="{D5CDD505-2E9C-101B-9397-08002B2CF9AE}" pid="4" name="_AuthorEmailDisplayName">
    <vt:lpwstr>Sergey Tulinov</vt:lpwstr>
  </property>
  <property fmtid="{D5CDD505-2E9C-101B-9397-08002B2CF9AE}" pid="5" name="_EmailSubject">
    <vt:lpwstr>Translation</vt:lpwstr>
  </property>
</Properties>
</file>